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CD3-B805-4CE5-B7F4-4C1790DE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CA3-E899-49E8-93B3-6F151C0B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846-0C68-4B99-B4B1-9A3F962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C96-C602-4FEA-9ADA-08ED135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F16-6D2A-4E00-9485-701A814E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2BF-DFDE-400F-B294-739B2C38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4E8-C939-4175-941C-B5C1684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140-A447-42E9-9A43-7D62134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E24-1CC6-4FD1-937A-EEFB95F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C00-6782-4AB1-B337-59FDEC1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4D0-03DA-4715-9D46-20DE1EE5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FA6-0C38-40B2-9FE4-3580B043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ffffcd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SO%20Logo%20S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8876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6F98-9CD0-4B20-8A39-F949A773B032}" type="slidenum"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ffffcd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657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043080" indent="-214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Theme: </a:t>
            </a: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Efficiency of Statistical Off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43080" indent="-2143080" algn="ctr">
              <a:spcBef>
                <a:spcPts val="2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43080" indent="-214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Discussant: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Donal Garvey (Ireland)</a:t>
            </a:r>
            <a:br>
              <a:rPr sz="2800"/>
            </a:b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Geneva, 11 June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76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Times New Roman"/>
              </a:rPr>
              <a:t>Conference of European Statisticia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Seminar Session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453600" indent="-45360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Security risk: Israel suggests a higher security risk for administrative data … but Iceland says that managing confidentiality is easi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Who is right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Late availability, only when agency has completed its task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Israe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mment: Not necessarily so.  Even in Ireland we have online access to certain important administrative da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Do not substitute for everything a modern society needs - must </a:t>
            </a:r>
            <a:br>
              <a:rPr sz="2200"/>
            </a:b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co-exist with survey data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Israel)</a:t>
            </a: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; increasing need for survey data also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; but “over 95% of Statistics Finland’s basic data is derived from administration registers collected by other authorities”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Finla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s there any risk that a system built almost entirely on administrative data could become less than fully responsive to the changing information needs of society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Downside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Administrative data is of a “census type” so there is a general tendency to see them as “the truth” </a:t>
            </a: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(Israe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649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poor analysis by inexperienced researchers of micro-data from administrative sources can cause proble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649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different figures can unjustifiably reduce the trust in survey data and tarnish the reputation of NS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The Israeli paper gives an example of different estimates of the annual wage bill which allowed politicians to undermine politically challenging survey data.  I will use a simpler Irish examp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Reputational Challe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1996 Irish stu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0588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0574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LFS unemployment down 15% 1994-1996; Registered unemployment no change.  Huge debate on the “real” level of unemployment with reputation of CSO &amp; LFS at risk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Full administrative file requested by CSO and a 1% sample selected.  Addresses of these registrants included in the LFS (only 4 or 5 people in CSO knew - unknown to field staff) and analysed separatel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Over 11% of the respondents indicated they had full-time jobs and 4 out of 5 of these said the job started more than one month previously (many at least a year previously!).  About 3 out of 4 indicated the job was a permanent job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About 10% said they were working part-time and nearly 3 out of 4 of these were “Not underemployed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13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99"/>
                </a:solidFill>
                <a:latin typeface="Times New Roman"/>
              </a:rPr>
              <a:t>LFS Unemployment &amp; Registered Unemployment (Ireland, 1996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85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Conclusion: “many people who are not statistically classified as unemployed in the LFS are included in the Live Register … also there are unemployed persons (according to LFS definitions) who are not on the Live Register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Changed the debate in Ireland.  Put pressure on the Registration Authority to eliminate frau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Prime Minister asked us to repeat the survey - CSO said “No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Data Protection Commissioner agreed that the CSO acted within its rights and within data protection guide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Are there any quality issues around administrative registers in Finland, Iceland, Netherlands … ?  How do you guard against it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1996 Irish study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Extensive, continuous co-operation with other author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Nominated individuals link between statistics units and register chan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Continuous quality monitoring - example: LFS a quality check on the population regis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6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ff5050"/>
                </a:solidFill>
                <a:latin typeface="Times New Roman"/>
              </a:rPr>
              <a:t>Does the population register track emigrants well?  Any interesting insights from the LFS quality check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Some answers (Finlan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443880" indent="-44388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Improved record linkage methodology.  Administrative data complimentary to, combined with survey data </a:t>
            </a: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(Iceland, Israel)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EU-SILC </a:t>
            </a: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3880" indent="-4438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Ireland: increasingly ask for personal public service number (PPSN) in surveys to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reduc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the numbers of questions and to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rease quality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by pulling administrative data.  EU SILC an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3880" indent="-4438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Protocol” on our website explaining what we do; agreed with Data Protection Commissioner; maintain a public log of data linking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3880" indent="-443880">
              <a:spcBef>
                <a:spcPts val="6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A tricky issue for statistics. Strong statistics legislation needed.  What pitfalls should be avoided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Data matching/lin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5760" y="1676520"/>
            <a:ext cx="8383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463320" indent="-46332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Standardisation of corporate methods (also supports IT standardisation). 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Only</a:t>
            </a: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 validated statistical methods within corporate methodological framework may be used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Neglect of some distinct activities in the value chain has caused quality issues in the past.  Statistical audit of key processes, rolling 5-year basis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IT and methods reorganised to support practical implementation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Finla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How do methods people respond to “implementation” role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How do business owners respond to standardisation in Netherland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25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mment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n Ireland many different approaches to editing and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mputation - we are imposing a narrower corporate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framewo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Objective: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 better quality and efficiency through processes which are coherent, flexible, consistent, reproducible with fewer ICT application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15920" indent="-36288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uniform IT platform with software all from “same family” and central software deployment decision-making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15920" indent="-36288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software like “a bowl of spaghetti” with poor documentation and unauthorised automation.  Aim to re-use applications with lower development and maintenance cost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15920" indent="-36288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align technical development projects into mutually supporting entities; more uniform framework for developing and maintaining data system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Finland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Redesign of business proce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Business Architecture, 4 database design 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re-use of data and metadat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distinguish design from implement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design driven by output requirements within frameworks for methodology, data collection, finance, organis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no production without standardised metadat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Imposed on every development project through standardised document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f “migration will take several more years” will SN be supporting two entirely different approaches  for several years?  What problems are foreseen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Business processe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7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Four Invited Pap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70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Finland, Iceland, Israel, Nether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Two Contributed Pap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70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Hungary, Isra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Many common themes - I will deal with some of the “unique” themes first and then focus most of the discussion on some common thr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7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760" y="16765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“… 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Program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does not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 aim at building generic data processing solutions.  In our view that is one bridge too far”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Does anyone disagree that it is a bridge too fa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Substantial productivity gains to be made in new data editing method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Finland) 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- looking at editing/imputation software developed by Statistics Canad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Any useful information for the meeting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Electronic collection of data from enterprise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Finland, Iceland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326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mment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Finland raised the possibility of more international </a:t>
            </a:r>
            <a:br>
              <a:rPr sz="2200"/>
            </a:b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-operation (also with IT service providers) in the field of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ntegrated data colle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Business processe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096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99"/>
                </a:solidFill>
                <a:latin typeface="Times New Roman"/>
              </a:rPr>
              <a:t>Questions and Discussion</a:t>
            </a: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Understanding the resource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really</a:t>
            </a:r>
            <a:r>
              <a:rPr b="1" lang="en-GB" sz="23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needed to carry out public sector tasks was a challenge for the HC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Resources were dissipated across dispersed regional offic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HCSO reorganised from 19 county offices to six regional offices.  Other countries perhaps went even further.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3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3300"/>
                </a:solidFill>
                <a:latin typeface="Times New Roman"/>
              </a:rPr>
              <a:t>Is six still even too many for coherent staff mobility and development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2 years developing a framework of program elements (550 elements for 2007) to support resource-based prioritisatio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3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3300"/>
                </a:solidFill>
                <a:latin typeface="Times New Roman"/>
              </a:rPr>
              <a:t>Is the framework changing the way middle and senior managers are approaching their work and resource utilisation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99"/>
                </a:solidFill>
                <a:latin typeface="Times New Roman"/>
              </a:rPr>
              <a:t>Resource-based planning in Hungar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85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An overt “total quality” approach to inputs/systems/outputs to meet “stakeholders’” needs.  Inputs and outputs must be clearly defined and measu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Total productivity + 27% (2000-200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Can you incorporate in the calculations the investment by other authorities in their registers which contribute towards better quality statistical outpu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Tracking productivity - Fin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458280" indent="-4582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Hard to find” populations different characteristics than those who are “easy-to-find” but repeated attempts to make face-to-face contact ar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Limiting the number of attempts will help control costs but will result in lower response rates. </a:t>
            </a:r>
            <a:r>
              <a:rPr b="1" lang="en-GB" sz="24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[Ireland: four attempts for the first wave of the QNHS and two attempts for subsequent waves - unless the Interviewer is “passing the door”]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sraeli Finding:</a:t>
            </a:r>
            <a:r>
              <a:rPr b="1" lang="en-GB" sz="24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Survey estimates robust for main survey variables even when a cap on the number of attempts could reduce response rates from 88% to 77% and </a:t>
            </a:r>
            <a:r>
              <a:rPr b="0" i="1" lang="en-GB" sz="2400" spc="-1" strike="noStrike">
                <a:solidFill>
                  <a:srgbClr val="008ae8"/>
                </a:solidFill>
                <a:latin typeface="Times New Roman"/>
              </a:rPr>
              <a:t>no statistically significant bias is introduced</a:t>
            </a:r>
            <a:r>
              <a:rPr b="1" lang="en-GB" sz="2400" spc="-1" strike="noStrike">
                <a:solidFill>
                  <a:srgbClr val="008ae8"/>
                </a:solidFill>
                <a:latin typeface="Times New Roman"/>
              </a:rPr>
              <a:t>. 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This would save 14% of interviewers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Interviewing costs - Isra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65280" indent="-665280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Israeli findings based on a post-hoc analysis.  Could a cap affect interviewer behaviour even before that cap is reached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Will a cap encourage more “no change” answers accepted over the telephone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If interviewers are paid a bonus for success rates above a certain target level will capping the number of attempts influence their behaviour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Do any countries use a model to determine number of attempts to interview different subgroups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187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Managing/training Interviewer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439200" indent="-439200">
              <a:spcBef>
                <a:spcPts val="52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The paper from Iceland mentioned the synergies and efficiencies to be gained from functional centralisation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co-operation rather than misguided competi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less duplication of resourc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statistics the main rather than a secondary rol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gains in coverage, efficiency and qualit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improved methods, processes and practic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common web-based dissemination approach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raised competence of new and existing staff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9200" indent="-439200">
              <a:spcBef>
                <a:spcPts val="5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1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3300"/>
                </a:solidFill>
                <a:latin typeface="Times New Roman"/>
              </a:rPr>
              <a:t>Will this lower the analytical capability within other Ministries? and pose a risk to the status of statistics in the future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9200" indent="-439200">
              <a:spcBef>
                <a:spcPts val="52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In Ireland we have a very centralised statistical system and this lack of analytical capability within Ministries is a challeng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9200" indent="-439200">
              <a:spcBef>
                <a:spcPts val="52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Functional central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Strong focus to reduce administrative burden for 20 years or more; unique identification systems for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nterprises, Buildings, Persons (Finl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Large efficiency gains if the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ational cultur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accepts that the “normal way” is to maximise the value of administrative records and public information systems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- must be legislated for prope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Clause in 2004 Act requires use of all available administrative data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efor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surveying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Increasing use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dentity numbers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a rich and cheap source of administrative data … “a gold mine of data of a census type”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Israel)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- use can depend on culture/legislation in a 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99"/>
                </a:solidFill>
                <a:latin typeface="Times New Roman"/>
              </a:rPr>
              <a:t>Common themes - </a:t>
            </a:r>
            <a:r>
              <a:rPr b="1" i="1" lang="en-GB" sz="3500" spc="-1" strike="noStrike">
                <a:solidFill>
                  <a:srgbClr val="000099"/>
                </a:solidFill>
                <a:latin typeface="Times New Roman"/>
              </a:rPr>
              <a:t>administrative dat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876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0574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65280" indent="-665280">
              <a:spcBef>
                <a:spcPts val="4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May present a dangerous path for a Democrac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45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Why?  The use of administrative data for statistical purposes seems to create no extra dang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4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May be of little statistical valu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tend to be biased (owner agency’s prior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definitional changes without prior no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discontinuities make change evaluation diffic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NSI only a “residual user”: Agency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l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decision ma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Agency interested in the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resent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; NSI in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istory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al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45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How are these issues dealt with in Finland, Iceland …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15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Downsides of administrative data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Isra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1:11:28Z</dcterms:created>
  <dc:creator>dthomas</dc:creator>
  <dc:description/>
  <dc:language>en-US</dc:language>
  <cp:lastModifiedBy>Hartek</cp:lastModifiedBy>
  <cp:lastPrinted>2005-05-20T10:47:03Z</cp:lastPrinted>
  <dcterms:modified xsi:type="dcterms:W3CDTF">2007-06-05T15:12:03Z</dcterms:modified>
  <cp:revision>91</cp:revision>
  <dc:subject/>
  <dc:title>The Courts Service: Building a New Organisaiton – The Role of Partnership </dc:title>
</cp:coreProperties>
</file>