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544-8706-4056-9CE3-D76C1007BBC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285B-2C89-426E-B0E4-7E0F5B1C416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1241280"/>
            <a:ext cx="4960800" cy="3721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F424-ED8F-4911-9F70-65FA2293AD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DC18-6BC5-4AA7-B196-35AD2AC8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C8F6-273A-413C-8B9A-2E407E6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52C4-3397-4601-9423-D9C91C14D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7F38-A816-465B-A52A-61354B0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7D0A-1BD3-42BF-82B7-B5204CF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AB6B-468E-434A-9BEA-B31F930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E0C4-1AC5-4B15-A73C-C175D3D4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A50C-2461-4184-8884-63D9799E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2DD2-1777-4EDB-B046-56EFDCF7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A5C5-473A-4158-B7B4-0D7587FE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D001-F531-43B0-A0E1-569B4AD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9EE6-22AA-4B7E-AF21-6FCE9681DF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6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8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onference of European Statisticians</a:t>
            </a:r>
            <a:br>
              <a:rPr sz="2800"/>
            </a:b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11 Jun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00640"/>
            <a:ext cx="234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500" spc="-1" strike="noStrike">
                <a:solidFill>
                  <a:srgbClr val="003300"/>
                </a:solidFill>
                <a:latin typeface="Arial"/>
              </a:rPr>
              <a:t>Jan Plov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500" spc="-1" strike="noStrike">
                <a:solidFill>
                  <a:srgbClr val="003300"/>
                </a:solidFill>
                <a:latin typeface="Arial"/>
              </a:rPr>
              <a:t>National </a:t>
            </a:r>
            <a:r>
              <a:rPr b="0" lang="en-GB" sz="1500" spc="-1" strike="noStrike">
                <a:solidFill>
                  <a:srgbClr val="003300"/>
                </a:solidFill>
                <a:latin typeface="Arial"/>
              </a:rPr>
              <a:t>Statistici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3300"/>
                </a:solidFill>
                <a:latin typeface="Arial"/>
              </a:rPr>
              <a:t>Director Gen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0440" y="56610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8136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Effectiveness of Statistic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072C-8432-4BC0-BBAD-30DBDA436E01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826920" y="981000"/>
          <a:ext cx="775188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775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B578-FFDD-48A5-8219-B7893F1B3FD8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Third topic:</a:t>
            </a:r>
            <a:br>
              <a:rPr sz="28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Are we Meeting User Needs? How can we know?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01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IMF: ROSC missions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: European Statistics Code of Practice (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User surveys (GER, 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ustomer satisfaction surveys (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dicators of use (Mentioned in the introductory note from Latv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768E-5A0B-4BF0-96CB-3B3CA10C9B70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Researchers Using Statistics Denmark’s Research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03480" y="1557360"/>
            <a:ext cx="632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773360"/>
            <a:ext cx="4824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1986:       2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1997:     71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2:   151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4:   250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5:   300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6:   565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7:   615 researchers  (estim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0A39-530F-42DA-803D-98A51FFADBB0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External Data Extracts from StatBank Denmark 1986 -2007*</a:t>
            </a:r>
            <a:endParaRPr b="1" lang="en-US" sz="24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193080" cy="509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556A-31BA-45B6-B27D-5E7B6A83D522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Statistics Denmark’s Press Coverage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268280"/>
          <a:ext cx="820908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881E-42D1-4C2C-8426-371437C352CC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to Statistics Canada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tatistics Canada has a very advanced planning system. Could it be improved? If yes: In what dir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s the response burden on businesses not a very important political issue in Can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y is the efficiency tax on all program budgets fixed at (only) 1% a year? Is it because the planning process implies further (2%?) selective savin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16D1-BB0B-43F0-8615-EF31B26CF57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to DESTATI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content of the statistical program is in general defined by federal laws. Does this imply that new EU legislation (almost) automatically results in a new German statistical la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at percentage of the costs entailed by new EU legislation will in general have to be borne by DESTATIS present budg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product portfolio is a very advanced planning tool. Could you explain what concrete results you expect to achieve by developing the system fur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D374-22B2-4F9A-B89E-097F768C4DEB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to Eurostat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63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olitical bodies at national and European level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alling for simplification and priority setting (page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ill there be statistical areas where Eurostat’s program can lead to a reduction in concrete statistics in 2008 or 2009? Which stat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ublic support for the EU has declined (page 2). Does it really effect the purpose of Eurostat’s statistical programme? In wha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ich users are considered the most important for Eurost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6AEB-52D7-4617-A608-984B97AA8EA7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for General Discussion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e have good planning systems but weak measures of whether we really meet users needs. Am I r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ould you mention other examples of indicators of use, i.e. effectiveness of the statistical program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s it possible/meaningful to measure the outcome of statistical information in terms of political and economic a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re there any examples of such meas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1D49-884F-4802-84EE-0F938D7DDC12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Defining our Them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9640" y="2565000"/>
            <a:ext cx="79995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Effectiveness means the degree to which the statis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ograms achieve their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users are the ju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2C87-8063-40B4-A9D9-0F40CAD57F81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A Treasure of Informa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78" name="" descr="Filnavn: j0403981.wmf&#13;Filstørrelse: 9 KB"/>
          <p:cNvPicPr/>
          <p:nvPr/>
        </p:nvPicPr>
        <p:blipFill>
          <a:blip r:embed="rId1"/>
          <a:stretch/>
        </p:blipFill>
        <p:spPr>
          <a:xfrm>
            <a:off x="2374920" y="1981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44680" y="3429000"/>
            <a:ext cx="24699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5761080" cy="4971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CB6F-A9BB-497D-90C8-4C90AD694367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21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The Papers Deal with 3 Important Topic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8208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How may we identify user nee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How do we match increasing needs with limited resour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How can we measure the outcome? Are we meeting user nee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B9DA-B8DF-4635-8273-449D16034627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Effectiveness of Statistical Programs 1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341360"/>
            <a:ext cx="7200720" cy="86256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in question: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statistical pr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at statistics to produce?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lanning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2997360"/>
            <a:ext cx="3168720" cy="25923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2997360"/>
            <a:ext cx="3168720" cy="25923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7000" y="306540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dentifying us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0200" y="3716280"/>
            <a:ext cx="275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Qua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ternation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EU/E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dvisory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rket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3789360"/>
            <a:ext cx="3168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04240" y="306540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naging th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789360"/>
            <a:ext cx="3168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6000" y="3786120"/>
            <a:ext cx="233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spon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stitut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56000" y="2204640"/>
            <a:ext cx="0" cy="792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88000" y="2204640"/>
            <a:ext cx="0" cy="792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F3F3-ACB6-4FFE-9B6F-F1234186EBCE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9640" y="333360"/>
            <a:ext cx="74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Effectiveness of Statistical Program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1916280"/>
            <a:ext cx="3457440" cy="295272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19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ffectiveness of the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eeting 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708280"/>
            <a:ext cx="345744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0320" y="2852640"/>
            <a:ext cx="35046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How can we k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valuation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User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ustomer satisfaction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dicators of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89000"/>
            <a:ext cx="2160360" cy="144000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1989000"/>
            <a:ext cx="1439640" cy="144000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5600" y="2205000"/>
            <a:ext cx="138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84000" y="4149720"/>
            <a:ext cx="41036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4000" y="2708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2708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720" y="4221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47800" y="2205000"/>
            <a:ext cx="19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BBF7-5124-43DE-9E6C-D7581D9F16F2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The Statistical Program Planning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4800" y="1295280"/>
            <a:ext cx="727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ny/most statistics are enshrined in legislation and other statutory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75 pct.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ore than 100 federal laws i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ropean regulations cover in general 60 – 80 pct. of the programs in memb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 member countries may in addition also have national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onclusion: Planning is a process of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6ECB-EBAD-483B-93A8-C8D55274F6B9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921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First Topic:</a:t>
            </a:r>
            <a:br>
              <a:rPr sz="28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Mechanisms for Identifying User Need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64800" y="1295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 quality framework. Planning is about improvements in relevance accuracy, timeliness etc. A method to identify the usefulness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International users: SDDS of IMF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/ECB. One example: The 19 Principle European Economic Indicators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dvisory committees (CAN, GER,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onsultations with Government, Provinces etc.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arket mechanisms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4B5B-53AC-4F50-8B45-331B2ABB2E0E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11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Second topic:</a:t>
            </a:r>
            <a:br>
              <a:rPr sz="28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Managing the Cost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964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The product portfolio (classification). A matrix with 12 + 1 cells defined by the size of the costs and the size of the benefits such as high data quality, reduced burden on respondents, higher efficiency, improved image etc.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 cost benefit analysis of all statistical fields in the EU statistical program 2008 – 2012 (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ost estimates for all changes in the program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allocation: 1 pct. efficiency tax from all programs (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sponse burden: A major political issue in Europe (EUR,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easured by the net/standard cos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stitute capacity (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7009-CFAC-468F-85E2-069FCEB4E211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3:18:38Z</dcterms:created>
  <dc:creator>Netværk</dc:creator>
  <dc:description/>
  <dc:language>en-US</dc:language>
  <cp:lastModifiedBy>Luige</cp:lastModifiedBy>
  <dcterms:modified xsi:type="dcterms:W3CDTF">2007-06-01T11:52:56Z</dcterms:modified>
  <cp:revision>166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81316488</vt:r8>
  </property>
  <property fmtid="{D5CDD505-2E9C-101B-9397-08002B2CF9AE}" pid="3" name="_AuthorEmail">
    <vt:lpwstr>BIJ@dst.dk</vt:lpwstr>
  </property>
  <property fmtid="{D5CDD505-2E9C-101B-9397-08002B2CF9AE}" pid="4" name="_AuthorEmailDisplayName">
    <vt:lpwstr>Bitten Jørgensen</vt:lpwstr>
  </property>
  <property fmtid="{D5CDD505-2E9C-101B-9397-08002B2CF9AE}" pid="5" name="_EmailSubject">
    <vt:lpwstr>Præsentation til CES 2007</vt:lpwstr>
  </property>
  <property fmtid="{D5CDD505-2E9C-101B-9397-08002B2CF9AE}" pid="6" name="_PreviousAdHocReviewCycleID">
    <vt:r8>1852877131</vt:r8>
  </property>
</Properties>
</file>