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8BC5-5643-44A3-9068-93D2A27ACC6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AD76-A725-4968-8509-64721FEF9C8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1241280"/>
            <a:ext cx="4960800" cy="3721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F78D-15DD-484C-8B11-BCAB6B1BC5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0985-C682-4C20-84B0-101FD7B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81F7-1F8B-4399-B9DE-59CC5944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D29D-882D-495B-B84D-5884AE9A26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7BF9-1C53-4D6C-AAAA-BF603BB1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6602-C679-4189-8603-1A7DF566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0C8B-247A-47F9-9BF8-5423E1CA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1989-C563-44F0-BC4D-5440EB81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6D2C-4D56-4169-B81A-F080A0AF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42CF-47EA-4413-9732-2AB4FD3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7C84-F9EA-4F90-8567-831FDE7C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D97C-A596-41C1-AF17-5A33A77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4DC3-0D98-4F4A-961A-5907BD54A2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6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8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onference of European Statisticians</a:t>
            </a:r>
            <a:br>
              <a:rPr sz="2800"/>
            </a:b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11 Jun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00640"/>
            <a:ext cx="234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500" spc="-1" strike="noStrike">
                <a:solidFill>
                  <a:srgbClr val="003300"/>
                </a:solidFill>
                <a:latin typeface="Arial"/>
              </a:rPr>
              <a:t>Jan Plov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500" spc="-1" strike="noStrike">
                <a:solidFill>
                  <a:srgbClr val="003300"/>
                </a:solidFill>
                <a:latin typeface="Arial"/>
              </a:rPr>
              <a:t>National </a:t>
            </a:r>
            <a:r>
              <a:rPr b="0" lang="en-GB" sz="1500" spc="-1" strike="noStrike">
                <a:solidFill>
                  <a:srgbClr val="003300"/>
                </a:solidFill>
                <a:latin typeface="Arial"/>
              </a:rPr>
              <a:t>Statistici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3300"/>
                </a:solidFill>
                <a:latin typeface="Arial"/>
              </a:rPr>
              <a:t>Director Gen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0440" y="56610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8136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Effectiveness of Statistic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C23B-B317-4B4D-AF7C-FE600EFF77A7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826920" y="981000"/>
          <a:ext cx="775188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81000"/>
                    <a:ext cx="77518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F007-B70E-4F37-9450-E722538495F0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Third topic:</a:t>
            </a:r>
            <a:br>
              <a:rPr sz="28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Are we Meeting User Needs? How can we know?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01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Eval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IMF: ROSC missions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: European Statistics Code of Practice (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User surveys (GER, 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ustomer satisfaction surveys (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dicators of use (Mentioned in the introductory note from Latv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4E11-3244-4545-9A03-47A7A1EF5484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Researchers Using Statistics Denmark’s Research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03480" y="1557360"/>
            <a:ext cx="632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1773360"/>
            <a:ext cx="4824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1986:       2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1997:     71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2:   151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4:   250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5:   300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6:   565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2007:   615 researchers  (estim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0D9F-C679-4DC9-A411-F033A3AFD3B8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External Data Extracts from StatBank Denmark 1986 -2007*</a:t>
            </a:r>
            <a:endParaRPr b="1" lang="en-US" sz="24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193080" cy="509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4B00-5F4A-47EB-ABCA-555B7CB54A5E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Statistics Denmark’s Press Coverage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268280"/>
          <a:ext cx="820908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A920-B434-413F-8511-70B9225737F8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to Statistics Canada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7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tatistics Canada has a very advanced planning system. Could it be improved? If yes: In what dir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s the response burden on businesses not a very important political issue in Can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y is the efficiency tax on all program budgets fixed at (only) 1% a year? Is it because the planning process implies further (2%?) selective savin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5381-D201-497C-B2F7-5807F79B5DCA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to DESTATI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content of the statistical program is in general defined by federal laws. Does this imply that new EU legislation (almost) automatically results in a new German statistical la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at percentage of the costs entailed by new EU legislation will in general have to be borne by DESTATIS present budg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product portfolio is a very advanced planning tool. Could you explain what concrete results you expect to achieve by developing the system fur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EEBA-E815-4D0A-912A-1047F9DEB081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to Eurostat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63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olitical bodies at national and European level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alling for simplification and priority setting (page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ill there be statistical areas where Eurostat’s program can lead to a reduction in concrete statistics in 2008 or 2009? Which stat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ublic support for the EU has declined (page 2). Does it really effect the purpose of Eurostat’s statistical programme? In what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ich users are considered the most important for Eurost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2A1A-B957-4757-A8BA-06FC784E29CF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Questions for General Discussion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e have good planning systems but weak measures of whether we really meet users needs. Am I r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ould you mention other examples of indicators of use, i.e. effectiveness of the statistical program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s it possible/meaningful to measure the outcome of statistical information in terms of political and economic a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re there any examples of such meas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48A9-08CC-4ABD-89C7-511AB6CABC74}" type="slidenum">
              <a:t>18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Defining our Them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9640" y="2565000"/>
            <a:ext cx="79995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Effectiveness means the degree to which the statist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ograms achieve their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users are the ju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862D-C615-453D-8509-1610254BCA13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A Treasure of Informa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78" name="" descr="Filnavn: j0403981.wmf&#13;Filstørrelse: 9 KB"/>
          <p:cNvPicPr/>
          <p:nvPr/>
        </p:nvPicPr>
        <p:blipFill>
          <a:blip r:embed="rId1"/>
          <a:stretch/>
        </p:blipFill>
        <p:spPr>
          <a:xfrm>
            <a:off x="2374920" y="1981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44680" y="3429000"/>
            <a:ext cx="24699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5761080" cy="4971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3265-BCE3-496B-A9CD-AA80276D7133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21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The Papers Deal with 3 Important Topic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820872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How may we identify user nee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How do we match increasing needs with limited resour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How can we measure the outcome? Are we meeting user nee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5E9B-57BB-4BC6-8735-C57D43C25D79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Effectiveness of Statistical Programs 1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1341360"/>
            <a:ext cx="7200720" cy="86256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in question: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statistical pro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hat statistics to produce?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lanning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2997360"/>
            <a:ext cx="3168720" cy="259236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2997360"/>
            <a:ext cx="3168720" cy="259236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7000" y="306540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dentifying us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0200" y="3716280"/>
            <a:ext cx="275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Qua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ternation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EU/E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dvisory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rket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3789360"/>
            <a:ext cx="3168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04240" y="306540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naging th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789360"/>
            <a:ext cx="3168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6000" y="3786120"/>
            <a:ext cx="233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spon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stitut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556000" y="2204640"/>
            <a:ext cx="0" cy="792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88000" y="2204640"/>
            <a:ext cx="0" cy="792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1C4F-D1AA-420E-9594-4F5A11FC8BAB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9640" y="333360"/>
            <a:ext cx="74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Effectiveness of Statistical Program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1916280"/>
            <a:ext cx="3457440" cy="295272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19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ffectiveness of the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eeting us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708280"/>
            <a:ext cx="345744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0320" y="2852640"/>
            <a:ext cx="35046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How can we k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valuation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User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ustomer satisfaction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dicators of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1989000"/>
            <a:ext cx="2160360" cy="144000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1989000"/>
            <a:ext cx="1439640" cy="144000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5600" y="2205000"/>
            <a:ext cx="138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tatis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84000" y="4149720"/>
            <a:ext cx="41036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24000" y="270828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16360" y="270828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720" y="4221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47800" y="2205000"/>
            <a:ext cx="19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6423-6E5E-43E9-ACDA-963FDCA2DA20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The Statistical Program Planning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4800" y="1295280"/>
            <a:ext cx="727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Many/most statistics are enshrined in legislation and other statutory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75 pct.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ore than 100 federal laws i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ropean regulations cover in general 60 – 80 pct. of the programs in memb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 member countries may in addition also have national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Conclusion: Planning is a process of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EF7B-295C-475D-9741-1592A172C9E5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921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First Topic:</a:t>
            </a:r>
            <a:br>
              <a:rPr sz="28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Mechanisms for Identifying User Need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64800" y="1295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 quality framework. Planning is about improvements in relevance accuracy, timeliness etc. A method to identify the usefulness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International users: SDDS of IMF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EU/ECB. One example: The 19 Principle European Economic Indicators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dvisory committees (CAN, GER,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onsultations with Government, Provinces etc.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arket mechanisms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2116-D0D7-405A-95F4-CBA23AF03ABD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11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Second topic:</a:t>
            </a:r>
            <a:br>
              <a:rPr sz="2800"/>
            </a:br>
            <a:r>
              <a:rPr b="1" lang="en-GB" sz="2800" spc="-1" strike="noStrike">
                <a:solidFill>
                  <a:srgbClr val="003d3c"/>
                </a:solidFill>
                <a:latin typeface="Arial"/>
              </a:rPr>
              <a:t>Managing the Costs</a:t>
            </a:r>
            <a:endParaRPr b="1" lang="en-US" sz="28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964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The product portfolio (classification). A matrix with 12 + 1 cells defined by the size of the costs and the size of the benefits such as high data quality, reduced burden on respondents, higher efficiency, improved image etc. (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 cost benefit analysis of all statistical fields in the EU statistical program 2008 – 2012 (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ost estimates for all changes in the program (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allocation: 1 pct. efficiency tax from all programs (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Response burden: A major political issue in Europe (EUR,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easured by the net/standard cos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stitute capacity (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2632-50CB-4091-ABC8-C5B29895A808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3:18:38Z</dcterms:created>
  <dc:creator>Netværk</dc:creator>
  <dc:description/>
  <dc:language>en-US</dc:language>
  <cp:lastModifiedBy>Luige</cp:lastModifiedBy>
  <dcterms:modified xsi:type="dcterms:W3CDTF">2007-06-01T11:52:56Z</dcterms:modified>
  <cp:revision>166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81316488</vt:r8>
  </property>
  <property fmtid="{D5CDD505-2E9C-101B-9397-08002B2CF9AE}" pid="3" name="_AuthorEmail">
    <vt:lpwstr>BIJ@dst.dk</vt:lpwstr>
  </property>
  <property fmtid="{D5CDD505-2E9C-101B-9397-08002B2CF9AE}" pid="4" name="_AuthorEmailDisplayName">
    <vt:lpwstr>Bitten Jørgensen</vt:lpwstr>
  </property>
  <property fmtid="{D5CDD505-2E9C-101B-9397-08002B2CF9AE}" pid="5" name="_EmailSubject">
    <vt:lpwstr>Præsentation til CES 2007</vt:lpwstr>
  </property>
  <property fmtid="{D5CDD505-2E9C-101B-9397-08002B2CF9AE}" pid="6" name="_PreviousAdHocReviewCycleID">
    <vt:r8>1852877131</vt:r8>
  </property>
</Properties>
</file>