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4EB-B277-47E1-8442-11D04348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890-F1E5-4A49-A6AB-44DF6DD8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C5F-1588-410F-8E46-34F0CEE7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7EF-1562-42A2-9C81-9FBEE05B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7AFD-2D0A-452A-835E-211C37FE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6EB-2719-4136-88E3-9EEC4A09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D37E-8756-4D51-98DF-80497D88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59DE-C4FD-48E9-9FD6-CE218BF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A157-A285-4DDB-A1F6-1AD71770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F50E-1B55-48CF-A3BD-4B8EC0A8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AD69-DC86-4B56-BC7A-4F76F04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40C-3574-462C-AE2A-73217033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21C8-B71D-494D-B89F-AF7213E5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88E4-E993-4450-9144-C95B82FC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6431-B923-456A-B172-87A7E833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65D8-FB0E-40E4-8EE8-522DE206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7AE4-8BCB-4D6D-B660-C3181E25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551-5AB0-4954-92A0-A14CD80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932-BDE1-40DC-B0E3-F1DF56B6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CC3-694B-4059-B3F5-35D968D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38B-5AC5-4D6A-9899-3676F1E7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909-2563-4D09-AE1F-D39A081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56A-268C-474A-A38D-E9C6A936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320-BAF4-40B0-B3EB-A69B0D8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A41C-2A49-4360-9D6D-C44208CA6B23}" type="slidenum">
              <a:rPr b="0" lang="en-US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302-0259-4FB8-A2C3-4C886FE07978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lly synthetic   Partially synthet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units sample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Zero identity disclosure risk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ull reliance on imputation model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leased data SR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ay need large synthetic sample sizes or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llected units use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atches to observed data possible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ial reliance on imputation model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riginal design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mall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m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an be adequate for replacements.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suring data qu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should attempt to evaluate: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ferential validity (not only point est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eatures other than first 2 mom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alysis with complex sampling desig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ntire model-building proces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05:46Z</dcterms:created>
  <dc:creator/>
  <dc:description/>
  <dc:language>en-US</dc:language>
  <cp:lastModifiedBy>jerry</cp:lastModifiedBy>
  <dcterms:modified xsi:type="dcterms:W3CDTF">2007-11-14T17:45:49Z</dcterms:modified>
  <cp:revision>509</cp:revision>
  <dc:subject/>
  <dc:title>PSTAT 5A: Statistics</dc:title>
</cp:coreProperties>
</file>