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6EE2-A067-4760-AA31-1BC930542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2467-1B2E-4A0C-937D-D5B86B6B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23A4-D490-4CD8-8445-7DA07CD02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CB95-8509-4731-92C2-97A7CA810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7CC3-B490-4E01-AF95-45F00490E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3887-2A11-427E-95CB-4D43973B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EBFC-2B31-4B80-ACD3-F78FF2B7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4A48F-F19A-4D64-9D80-DD4A60E5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81E0-8CC0-45D1-A7C2-4B33D534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BD956-B5D1-4F78-AB35-47842A02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9053-ECC0-4336-9AF2-E871F8F9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812B-2395-413D-9CCB-4DBDFD04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C414-0933-4812-9D99-8DF548A5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0D41-164A-4187-8411-5DCC7B81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D1C40-A5C9-4A8D-A3B4-2DBF7CF5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C02E-3AEE-44F6-87EC-8007BF78C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7457B-D47D-44A6-8EA3-51D8629C5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88F1-F215-4D91-8FBF-1E13D7E66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C8C1-2698-4B70-BA2B-03845895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8776-1DFF-4A9C-AD45-3922DE5E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0BBE-1E01-4F9D-9975-ABA85C0F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B9C7-8C55-4CE7-A4F0-46D221B5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24F1-1A79-4137-B483-6612D4D1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B4D2-AFDB-4CDB-94AE-88975E81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0000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66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17F58-71DA-4EA8-AD20-A75337A78B23}" type="slidenum">
              <a:rPr b="0" lang="en-US" sz="1400" spc="-1" strike="noStrike">
                <a:solidFill>
                  <a:srgbClr val="ffcc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66cc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E008-8453-4F4F-B7E5-7DD4A8080DE6}" type="slidenum">
              <a:rPr b="0" lang="en-US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ully synthetic   Partially synthetic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New units sampled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Zero identity disclosure risk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Full reliance on imputation models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Released data SRS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May need large synthetic sample sizes or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m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ollected units used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Matches to observed data possible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artial reliance on imputation models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Original design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mall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m 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an be adequate for replacements. 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asuring data qu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e should attempt to evaluate: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ferential validity (not only point est.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Features other than first 2 momen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nalysis with complex sampling desig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Entire model-building proces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7T01:05:46Z</dcterms:created>
  <dc:creator/>
  <dc:description/>
  <dc:language>en-US</dc:language>
  <cp:lastModifiedBy>jerry</cp:lastModifiedBy>
  <dcterms:modified xsi:type="dcterms:W3CDTF">2007-11-14T17:45:49Z</dcterms:modified>
  <cp:revision>509</cp:revision>
  <dc:subject/>
  <dc:title>PSTAT 5A: Statistics</dc:title>
</cp:coreProperties>
</file>