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E86-910D-4E58-9C0A-C8DC376E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992-2812-40E3-9A81-5216777A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84E-39DB-4407-A3B8-2746A18E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CEB-EB76-4A0F-971A-B238FC51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C4C-3990-4089-93AF-297A976F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F83-663D-402D-89DD-D55C1609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DD9-EA6B-4E29-B412-148C2EA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FBA-F545-4342-B44C-60CD33F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4B2-2E77-41A4-BA77-3D9F5D8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157-9D65-4058-9671-8257A08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632-4F9C-47C8-9B6F-CEBEBC9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65B-15E3-4BBD-95D1-1D27D2E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6D47-91A5-4334-B1A9-32F386C9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 numerical micro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t consists of a set of N records with K categorical non-confidential variables, L non-confidential numerical variables, M confidential numeri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ariat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variat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 (Product moment, Rank order, O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rence (Parametric, Rank based, Ot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4720" y="762120"/>
            <a:ext cx="404028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4720" y="1066680"/>
            <a:ext cx="4040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Base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v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tiv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’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eserving Statistical Obfus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ois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ariate micro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ariate micro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based approaches such as Model based and GADP are not considered since they are subsets of IP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Placeholder 2"/>
          <p:cNvSpPr/>
          <p:nvPr/>
        </p:nvSpPr>
        <p:spPr>
          <a:xfrm>
            <a:off x="533520" y="228600"/>
            <a:ext cx="8001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sking Numerical Microdata – Krish Muralidh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2000160" cy="434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44956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55627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60958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7"/>
          <a:stretch/>
        </p:blipFill>
        <p:spPr>
          <a:xfrm>
            <a:off x="914400" y="5334120"/>
            <a:ext cx="7391520" cy="86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8"/>
          <a:stretch/>
        </p:blipFill>
        <p:spPr>
          <a:xfrm>
            <a:off x="71629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9"/>
          <a:stretch/>
        </p:blipFill>
        <p:spPr>
          <a:xfrm>
            <a:off x="7696080" y="990720"/>
            <a:ext cx="557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alidhar</cp:lastModifiedBy>
  <dcterms:modified xsi:type="dcterms:W3CDTF">2007-12-03T18:19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