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D82-3ACF-4684-B3E2-EDAF9763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AAF-0151-4822-8987-9A0875BF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883-B4DB-430C-BB6B-607F0608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178-171A-449F-8313-EB2AA751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630-9E29-4F85-B710-AD0347F9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4E6-E445-445A-8960-3B7FCB83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09B-3A61-4655-A82F-13E1C2DC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F33-75E8-43C4-A778-4C0D610D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9E9-1BF2-4A49-895A-61FC7A8C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8D8-B16F-4E3A-A285-5166898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DB0-6D68-429B-A813-6C2628FB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400-59C8-422D-B864-0F62BFE3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66A8-4133-42D6-A45B-AE4A0459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03848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66680"/>
            <a:ext cx="4038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 numerical micro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t consists of a set of N records with K categorical non-confidential variables, L non-confidential numerical variables, M confidential numeri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losur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ariate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variate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variance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 (Product moment, Rank order, O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rence (Parametric, Rank based, Ot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4720" y="762120"/>
            <a:ext cx="4040280" cy="33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4720" y="1066680"/>
            <a:ext cx="4040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 Base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v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cativ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’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eserving Statistical Obfus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noise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ariate micro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ariate micro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ff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e based approaches such as Model based and GADP are not considered since they are subsets of IP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Placeholder 2"/>
          <p:cNvSpPr/>
          <p:nvPr/>
        </p:nvSpPr>
        <p:spPr>
          <a:xfrm>
            <a:off x="533520" y="228600"/>
            <a:ext cx="8001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sking Numerical Microdata – Krish Muralidh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2000160" cy="434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2895480" y="990720"/>
            <a:ext cx="1103400" cy="434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556920" cy="434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4495680" y="990720"/>
            <a:ext cx="1103400" cy="43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5562720" y="990720"/>
            <a:ext cx="556920" cy="434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6"/>
          <a:stretch/>
        </p:blipFill>
        <p:spPr>
          <a:xfrm>
            <a:off x="6095880" y="990720"/>
            <a:ext cx="1103400" cy="434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7"/>
          <a:stretch/>
        </p:blipFill>
        <p:spPr>
          <a:xfrm>
            <a:off x="914400" y="5334120"/>
            <a:ext cx="7391520" cy="86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8"/>
          <a:stretch/>
        </p:blipFill>
        <p:spPr>
          <a:xfrm>
            <a:off x="7162920" y="990720"/>
            <a:ext cx="556920" cy="434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9"/>
          <a:stretch/>
        </p:blipFill>
        <p:spPr>
          <a:xfrm>
            <a:off x="7696080" y="990720"/>
            <a:ext cx="5572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ralidhar</cp:lastModifiedBy>
  <dcterms:modified xsi:type="dcterms:W3CDTF">2007-12-03T18:19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