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907588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ACF69-569E-4A24-BC3F-D01D3089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1DB92-8B9A-442A-AE24-DA36E245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9DBF6-5251-4B40-B493-EEE87A91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992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680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268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992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680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89DA4-965A-4770-BC66-1B2AA61F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2680" y="83772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5F34B-599C-43E3-BC74-E7E4E721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8992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3680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268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8992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3680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59C1A-7F49-4183-9DBC-E46FFF92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8B943-5CC2-43C3-ADB8-9E058014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E67DB-FFC7-40C5-9C62-CED3269F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83772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C442B-2C87-438A-9FF8-1FFA3101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55929-CA67-4F50-9098-01A0ED3F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2058D-FEDB-4177-BD1E-820A75B3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4AD81-0E12-4AF6-B851-CEE6BCB4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1857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0200" indent="-1983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9360" indent="-1983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530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201240" y="6552720"/>
            <a:ext cx="5522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015A-D168-47AE-BE4A-24C4E2BC6971}" type="slidenum">
              <a:rPr b="0" lang="fi-FI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5409720" y="6552720"/>
            <a:ext cx="2210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yhyt%20viiva" descr=""/>
          <p:cNvPicPr/>
          <p:nvPr/>
        </p:nvPicPr>
        <p:blipFill>
          <a:blip r:embed="rId2"/>
          <a:stretch/>
        </p:blipFill>
        <p:spPr>
          <a:xfrm>
            <a:off x="5459400" y="6516720"/>
            <a:ext cx="4446720" cy="36360"/>
          </a:xfrm>
          <a:prstGeom prst="rect">
            <a:avLst/>
          </a:prstGeom>
          <a:ln w="0">
            <a:noFill/>
          </a:ln>
        </p:spPr>
      </p:pic>
      <p:pic>
        <p:nvPicPr>
          <p:cNvPr id="6" name="englanti2" descr=""/>
          <p:cNvPicPr/>
          <p:nvPr/>
        </p:nvPicPr>
        <p:blipFill>
          <a:blip r:embed="rId3"/>
          <a:stretch/>
        </p:blipFill>
        <p:spPr>
          <a:xfrm>
            <a:off x="282600" y="304920"/>
            <a:ext cx="3070080" cy="54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englanti2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4267080" cy="760680"/>
          </a:xfrm>
          <a:prstGeom prst="rect">
            <a:avLst/>
          </a:prstGeom>
          <a:ln w="0">
            <a:noFill/>
          </a:ln>
        </p:spPr>
      </p:pic>
      <p:pic>
        <p:nvPicPr>
          <p:cNvPr id="45" name="pitkapaksuviiva3" descr=""/>
          <p:cNvPicPr/>
          <p:nvPr/>
        </p:nvPicPr>
        <p:blipFill>
          <a:blip r:embed="rId3"/>
          <a:stretch/>
        </p:blipFill>
        <p:spPr>
          <a:xfrm>
            <a:off x="0" y="6361200"/>
            <a:ext cx="9926640" cy="573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5564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184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2100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210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210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8284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The use of protected microdata in tabulation: case of SDC-methods microaggregation and PRA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09680" y="4419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searcher Janika Kon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nchester, United Kingdo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17-19 December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: Data protected by PRAM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bandwid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ndwidth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SASGraph2"/>
          <p:cNvGraphicFramePr/>
          <p:nvPr/>
        </p:nvGraphicFramePr>
        <p:xfrm>
          <a:off x="743040" y="2133720"/>
          <a:ext cx="41338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SASGraph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2133720"/>
                    <a:ext cx="41338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SASGraph1"/>
          <p:cNvGraphicFramePr/>
          <p:nvPr/>
        </p:nvGraphicFramePr>
        <p:xfrm>
          <a:off x="5029200" y="2133720"/>
          <a:ext cx="4133880" cy="39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SASGrap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133720"/>
                    <a:ext cx="41338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anika Konn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6053D-C919-43A4-B9F0-B1870FC5CA1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uesday 18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lusion: Microaggr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aggregation perform well with numerical data, but its application for categorical data needs more re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protected by microaggregation includes almost the same information as the original dat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we sure that microaggregation is able to protect categorical data proper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anika Kon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4FC99-70BC-4C23-A285-6703FB42CFD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uesday 18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lusion: P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AM seems to perform quite well when it comes to protecting data, but there are some issues to over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AM can protect data with small changing probabilities, because it is based on uncertainty of iden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is case our concern is with information loss. Is the protected data useful without using probability matri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anika Kon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C70A2-36E9-4761-8AA9-38009441E80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uesday 18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thcoming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 more metho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nk sw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d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 disclosure risk meas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 more precise measurement for information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anika Kon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1047B-FD68-472A-9B9C-226A1AFD239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uesday 18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p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0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mingo-Ferrer, J., Torra, V. 2001.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 Quantitative Comparison of Disclosure Control Methods for Microdata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n Confidentiality, Disclosure, and Data Access: Theory and Practical Applications for Statistical Agencies. Amsterdam: North-Holl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0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ouweleeuw, J., Kooiman, P., Willenborg, L., and de Wolf, P. 1998.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ost Randomisation for Statistical Disclosure Control: Theory and Implementa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Journal of Official Statistics. Vol. 14, No.4, s. 463--47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00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oup Crises. 2004.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esearch Reports: Microaggregation for Privacy Protection in Statistical Databas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In July 2005. &lt;http://vneumann.etse.urv.es/publications/reports/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anika Kon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D635A-B0EF-439A-AA33-44A9E1A1244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uesday 18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DC-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thcoming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anika Kon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F24ED-AF60-4D6A-96E7-D67ED6521FB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uesday 18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used in th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of teachers was originally collected for administrative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igh school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chers (N=7798) were included in our stu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included information ab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chers: age, gender, position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chools those teachers taught in: the location of the school, number of studen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anika Kon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2FF0D-2408-4037-A87E-741F7379C8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uesday 18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DC Methods: Microaggr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33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data is divided into groups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servations and the group averages are released instead of original values of var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AV-algorithm was used in grouping: algorithm finds the average observation with respect to the values and forms groups by using the distance from this average observ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28840" y="2133720"/>
            <a:ext cx="4133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ing the data is the crucial point for this method: when the most similar observations are contained in the group, information loss will be minimi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ur study microaggregation was used for categorical data although it is intended for numerical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anika Konn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9CBE1-DD34-40B1-A89E-FE81F9F5F30B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uesday 18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DC Methods: The Post RAndomiza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33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 changes values of a variable according to probability matrix (Markov matri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0" algn="ctr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28840" y="2133720"/>
            <a:ext cx="4133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PRAM is applied, data user must take the probability matrix into account in order to obtain correc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ur study we were testing usefulness of PRAM when probability matrix is not used in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219320" y="3886200"/>
                <a:ext cx="304776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anika Konn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0DA1A-B682-4758-BDE2-B14065FF2C47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uesday 18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irical work: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Argus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7640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ftware includes disclosure risk measurement and following methods: global recoding, local suppression, top and bottom coding, PRAM, numerical microaggregation, numerical rank swapping and Sullivan mas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ftware produces protected data if suppressions are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ur case, only SDC-methods PRAM and numerical microaggregation were studied. No suppressions were made, because we needed information on the difference between original and protected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anika Kon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FDA89-DB71-431C-A39A-D44A7DDD4F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uesday 18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: Data protected by Microaggregation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 sizes used in protection are 2, 5, 8, 10 and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SASGraph1"/>
          <p:cNvGraphicFramePr/>
          <p:nvPr/>
        </p:nvGraphicFramePr>
        <p:xfrm>
          <a:off x="743040" y="2133720"/>
          <a:ext cx="41338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SASGrap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2133720"/>
                    <a:ext cx="41338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8840" y="2133720"/>
            <a:ext cx="4133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roaggregation does not have an effect on frequen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fortunately this implies that hardly any change occur in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lusion: microaggregation does not give strong enough protection when it comes to categorical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anika Kon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60349-1764-47A7-9F1E-5E765B7B8C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uesday 18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: Data protected by PRAM (no bandwidth)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ing probabilities: 0.05, 0.10, 0.20, 0.30 and 0.4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8840" y="2133720"/>
            <a:ext cx="4133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AM changes values of variables and that way data will be prote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fortunately PRAM leads to problems when categories have big differences in the frequencies. The larger frequency keeps getting smaller and the other way ar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SASGraph1"/>
          <p:cNvGraphicFramePr/>
          <p:nvPr/>
        </p:nvGraphicFramePr>
        <p:xfrm>
          <a:off x="743040" y="2133720"/>
          <a:ext cx="41338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SASGrap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2133720"/>
                    <a:ext cx="41338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anika Kon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C0D89-8BEA-40E0-81BD-4CA21849B67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uesday 18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: Data protected by PRAM (bandwidth is 2)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ing probabilities: 0.05, 0.10, 0.20, 0.30 and 0.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8840" y="2133720"/>
            <a:ext cx="4133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tricting the change of values can not solve problem with difference in frequen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r study shows that frequencies in categories next to the one with largest frequency still grow too f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SASGraph1"/>
          <p:cNvGraphicFramePr/>
          <p:nvPr/>
        </p:nvGraphicFramePr>
        <p:xfrm>
          <a:off x="743040" y="2133720"/>
          <a:ext cx="41338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SASGrap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2133720"/>
                    <a:ext cx="41338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anika Kon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6384A-46BA-4830-9369-5BE16120E5B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uesday 18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12:04:58Z</dcterms:created>
  <dc:creator>Janika Konnu</dc:creator>
  <dc:description/>
  <dc:language>en-US</dc:language>
  <cp:lastModifiedBy>Janika Konnu</cp:lastModifiedBy>
  <cp:lastPrinted>2007-12-12T13:18:29Z</cp:lastPrinted>
  <dcterms:modified xsi:type="dcterms:W3CDTF">2007-12-12T14:55:23Z</dcterms:modified>
  <cp:revision>53</cp:revision>
  <dc:subject/>
  <dc:title>The effect statistical disclosure control methods have on data: A study on micro data</dc:title>
</cp:coreProperties>
</file>