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907588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F96B8-5A38-429F-B326-7685BF9D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8A7B2-5682-4429-8669-E6A249FF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C99D1-8E02-4CF6-8859-CD581497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992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680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268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992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680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A9F5A-9ED9-4295-A777-F1B51AFC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2680" y="83772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DCE14-9680-487B-A913-570050E9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8992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3680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268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8992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3680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971E0-568E-4E2B-9483-8CC24C2E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90AF5-E135-46B6-AF19-D7CEAECC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23B22-BA65-4934-87A4-6173CF1C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83772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FE10E-B07E-4975-A728-563A03FE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82D7E-ACCC-4326-A555-5578A513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12FD4-96A5-43FD-933F-99B57975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ABBAA-6283-4E58-99F4-659D74B0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1857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0200" indent="-1983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9360" indent="-1983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530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201240" y="6552720"/>
            <a:ext cx="5522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9511-5975-40B5-B040-A94AFD828F59}" type="slidenum">
              <a:rPr b="0" lang="fi-FI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5409720" y="6552720"/>
            <a:ext cx="2210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yhyt%20viiva" descr=""/>
          <p:cNvPicPr/>
          <p:nvPr/>
        </p:nvPicPr>
        <p:blipFill>
          <a:blip r:embed="rId2"/>
          <a:stretch/>
        </p:blipFill>
        <p:spPr>
          <a:xfrm>
            <a:off x="5459400" y="6516720"/>
            <a:ext cx="4446720" cy="36360"/>
          </a:xfrm>
          <a:prstGeom prst="rect">
            <a:avLst/>
          </a:prstGeom>
          <a:ln w="0">
            <a:noFill/>
          </a:ln>
        </p:spPr>
      </p:pic>
      <p:pic>
        <p:nvPicPr>
          <p:cNvPr id="6" name="englanti2" descr=""/>
          <p:cNvPicPr/>
          <p:nvPr/>
        </p:nvPicPr>
        <p:blipFill>
          <a:blip r:embed="rId3"/>
          <a:stretch/>
        </p:blipFill>
        <p:spPr>
          <a:xfrm>
            <a:off x="282600" y="304920"/>
            <a:ext cx="3070080" cy="54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englanti2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4267080" cy="760680"/>
          </a:xfrm>
          <a:prstGeom prst="rect">
            <a:avLst/>
          </a:prstGeom>
          <a:ln w="0">
            <a:noFill/>
          </a:ln>
        </p:spPr>
      </p:pic>
      <p:pic>
        <p:nvPicPr>
          <p:cNvPr id="45" name="pitkapaksuviiva3" descr=""/>
          <p:cNvPicPr/>
          <p:nvPr/>
        </p:nvPicPr>
        <p:blipFill>
          <a:blip r:embed="rId3"/>
          <a:stretch/>
        </p:blipFill>
        <p:spPr>
          <a:xfrm>
            <a:off x="0" y="6361200"/>
            <a:ext cx="9926640" cy="573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5564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184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2100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210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210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8284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The use of protected microdata in tabulation: case of SDC-methods microaggregation and PRA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09680" y="4419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searcher Janika Kon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nchester, United Kingdo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17-19 December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: Data protected by PRAM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bandwid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ndwidth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SASGraph2"/>
          <p:cNvGraphicFramePr/>
          <p:nvPr/>
        </p:nvGraphicFramePr>
        <p:xfrm>
          <a:off x="743040" y="2133720"/>
          <a:ext cx="41338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SASGraph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2133720"/>
                    <a:ext cx="41338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SASGraph1"/>
          <p:cNvGraphicFramePr/>
          <p:nvPr/>
        </p:nvGraphicFramePr>
        <p:xfrm>
          <a:off x="5029200" y="2133720"/>
          <a:ext cx="4133880" cy="39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SASGrap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133720"/>
                    <a:ext cx="41338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anika Konn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5B985-5F1A-4661-A554-617FB89AB9E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uesday 18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lusion: Microaggr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aggregation perform well with numerical data, but its application for categorical data needs more re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protected by microaggregation includes almost the same information as the original dat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we sure that microaggregation is able to protect categorical data proper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anika Kon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9A066-1583-4A1C-B40B-68C81598AC2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uesday 18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lusion: P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AM seems to perform quite well when it comes to protecting data, but there are some issues to over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AM can protect data with small changing probabilities, because it is based on uncertainty of iden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is case our concern is with information loss. Is the protected data useful without using probability matri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anika Kon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4C0D4-CBDA-4635-8307-C8AA06DF85D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uesday 18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thcoming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 more metho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nk sw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d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 disclosure risk meas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 more precise measurement for information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anika Kon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89BB7-00AD-40CD-86A8-9D7F7B9EDB5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uesday 18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p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0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mingo-Ferrer, J., Torra, V. 2001.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 Quantitative Comparison of Disclosure Control Methods for Microdata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n Confidentiality, Disclosure, and Data Access: Theory and Practical Applications for Statistical Agencies. Amsterdam: North-Holl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0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ouweleeuw, J., Kooiman, P., Willenborg, L., and de Wolf, P. 1998.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ost Randomisation for Statistical Disclosure Control: Theory and Implementa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Journal of Official Statistics. Vol. 14, No.4, s. 463--47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0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oup Crises. 2004.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esearch Reports: Microaggregation for Privacy Protection in Statistical Databas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In July 2005. &lt;http://vneumann.etse.urv.es/publications/reports/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anika Kon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FD79A-7411-4A0B-8B6F-7172341617C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uesday 18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DC-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thcoming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anika Kon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23B6A-21FB-4733-88B1-FCFCEFB44C8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uesday 18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used in th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of teachers was originally collected for administrative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igh school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chers (N=7798) were included in our stu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included information ab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chers: age, gender, position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chools those teachers taught in: the location of the school, number of studen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anika Kon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96616-93C7-4F4B-9675-605D4C388A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uesday 18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DC Methods: Microaggr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33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data is divided into groups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servations and the group averages are released instead of original values of var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AV-algorithm was used in grouping: algorithm finds the average observation with respect to the values and forms groups by using the distance from this average observ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28840" y="2133720"/>
            <a:ext cx="4133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ing the data is the crucial point for this method: when the most similar observations are contained in the group, information loss will be minimi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ur study microaggregation was used for categorical data although it is intended for numerical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anika Konn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C5452-51FD-4AF4-8748-1E6DCF82AC52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uesday 18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DC Methods: The Post RAndomiza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33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 changes values of a variable according to probability matrix (Markov matri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0" algn="ctr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28840" y="2133720"/>
            <a:ext cx="4133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PRAM is applied, data user must take the probability matrix into account in order to obtain correc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ur study we were testing usefulness of PRAM when probability matrix is not used in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219320" y="3886200"/>
                <a:ext cx="304776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anika Konn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A154E-4D06-4124-862C-6F961E63C217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uesday 18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irical work: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Argus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7640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ftware includes disclosure risk measurement and following methods: global recoding, local suppression, top and bottom coding, PRAM, numerical microaggregation, numerical rank swapping and Sullivan mas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ftware produces protected data if suppressions are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ur case, only SDC-methods PRAM and numerical microaggregation were studied. No suppressions were made, because we needed information on the difference between original and protected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anika Kon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8DDED-8A9B-499C-8C00-E89E0F6034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uesday 18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: Data protected by Microaggregation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 sizes used in protection are 2, 5, 8, 10 and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SASGraph1"/>
          <p:cNvGraphicFramePr/>
          <p:nvPr/>
        </p:nvGraphicFramePr>
        <p:xfrm>
          <a:off x="743040" y="2133720"/>
          <a:ext cx="41338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SASGrap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2133720"/>
                    <a:ext cx="41338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8840" y="2133720"/>
            <a:ext cx="4133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roaggregation does not have an effect on frequen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fortunately this implies that hardly any change occur in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lusion: microaggregation does not give strong enough protection when it comes to categorical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anika Kon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1B18F-F0E7-4642-9B1F-3F49B31565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uesday 18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: Data protected by PRAM (no bandwidth)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ing probabilities: 0.05, 0.10, 0.20, 0.30 and 0.4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8840" y="2133720"/>
            <a:ext cx="4133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AM changes values of variables and that way data will be prote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fortunately PRAM leads to problems when categories have big differences in the frequencies. The larger frequency keeps getting smaller and the other way ar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SASGraph1"/>
          <p:cNvGraphicFramePr/>
          <p:nvPr/>
        </p:nvGraphicFramePr>
        <p:xfrm>
          <a:off x="743040" y="2133720"/>
          <a:ext cx="41338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SASGrap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2133720"/>
                    <a:ext cx="41338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anika Kon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B6211-05F4-45DF-9AFC-8B43F8B067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uesday 18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: Data protected by PRAM (bandwidth is 2)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ing probabilities: 0.05, 0.10, 0.20, 0.30 and 0.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8840" y="2133720"/>
            <a:ext cx="4133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tricting the change of values can not solve problem with difference in frequen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r study shows that frequencies in categories next to the one with largest frequency still grow too f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SASGraph1"/>
          <p:cNvGraphicFramePr/>
          <p:nvPr/>
        </p:nvGraphicFramePr>
        <p:xfrm>
          <a:off x="743040" y="2133720"/>
          <a:ext cx="41338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SASGrap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2133720"/>
                    <a:ext cx="41338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anika Kon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B692F-A191-400B-B2C1-E8ABA207186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uesday 18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12:04:58Z</dcterms:created>
  <dc:creator>Janika Konnu</dc:creator>
  <dc:description/>
  <dc:language>en-US</dc:language>
  <cp:lastModifiedBy>Janika Konnu</cp:lastModifiedBy>
  <cp:lastPrinted>2007-12-12T13:18:29Z</cp:lastPrinted>
  <dcterms:modified xsi:type="dcterms:W3CDTF">2007-12-12T14:55:23Z</dcterms:modified>
  <cp:revision>53</cp:revision>
  <dc:subject/>
  <dc:title>The effect statistical disclosure control methods have on data: A study on micro data</dc:title>
</cp:coreProperties>
</file>