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907588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69480" y="5506920"/>
            <a:ext cx="648972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-360" y="680760"/>
            <a:ext cx="6622920" cy="4825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70320" y="0"/>
            <a:ext cx="19443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EB81D2-2DEB-4752-8BBC-A0C2B90B04D0}" type="slidenum">
              <a:rPr b="0" lang="en-US" sz="900" spc="-1" strike="noStrike">
                <a:solidFill>
                  <a:srgbClr val="ff993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78200" y="0"/>
            <a:ext cx="19447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900" spc="-1" strike="noStrike">
                <a:solidFill>
                  <a:srgbClr val="ff9933"/>
                </a:solidFill>
                <a:latin typeface="Arial"/>
              </a:rPr>
              <a:t>21/12/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69840" y="5506920"/>
            <a:ext cx="6489720" cy="4492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-360" y="680760"/>
            <a:ext cx="6622920" cy="4825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identification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69840" y="5506920"/>
            <a:ext cx="6489720" cy="4492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-360" y="680760"/>
            <a:ext cx="6622920" cy="4825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visar trans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69840" y="5506920"/>
            <a:ext cx="6489720" cy="4492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-360" y="680760"/>
            <a:ext cx="6622920" cy="4825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identification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69840" y="5506920"/>
            <a:ext cx="6489720" cy="4492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-360" y="680760"/>
            <a:ext cx="6622920" cy="4825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identification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69840" y="5506920"/>
            <a:ext cx="6489720" cy="4492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-360" y="680760"/>
            <a:ext cx="6622920" cy="4825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identification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574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360" y="685800"/>
            <a:ext cx="9906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740880" y="380880"/>
            <a:ext cx="1652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245520" y="6622920"/>
            <a:ext cx="412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F754-2270-4909-B1DA-E88860125BC5}" type="slidenum">
              <a:rPr b="0" lang="es-ES_tradnl" sz="10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360" y="6648480"/>
            <a:ext cx="99061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42680" y="1676160"/>
            <a:ext cx="84214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-1936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28584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28600">
              <a:spcBef>
                <a:spcPts val="601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00160" y="6213600"/>
            <a:ext cx="64908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74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4920" algn="ctr">
              <a:spcBef>
                <a:spcPts val="451"/>
              </a:spcBef>
              <a:buClr>
                <a:srgbClr val="ff66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66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60160" y="2276640"/>
            <a:ext cx="8713800" cy="14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method-specific record linkage for risk assessment</a:t>
            </a:r>
            <a:endParaRPr b="0" lang="en-US" sz="2800" spc="-1" strike="noStrike">
              <a:solidFill>
                <a:srgbClr val="5e574e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9040" y="5562720"/>
            <a:ext cx="212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79acb"/>
                </a:solidFill>
                <a:latin typeface="Impact"/>
              </a:rPr>
              <a:t>Jordi 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79acb"/>
                </a:solidFill>
                <a:latin typeface="Impact"/>
              </a:rPr>
              <a:t>Javier Herran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79acb"/>
                </a:solidFill>
                <a:latin typeface="Impact"/>
              </a:rPr>
              <a:t>Vicenç To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590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Preliminaries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505320" y="3048120"/>
            <a:ext cx="6248160" cy="3400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286000" y="76104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Rank swapping - p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1707120"/>
            <a:ext cx="1600200" cy="39888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 = 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409840"/>
            <a:ext cx="685800" cy="367128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2386080"/>
            <a:ext cx="685800" cy="367128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6280" y="2311560"/>
            <a:ext cx="2743200" cy="4051080"/>
            <a:chOff x="476280" y="2311560"/>
            <a:chExt cx="2743200" cy="4051080"/>
          </a:xfrm>
        </p:grpSpPr>
        <p:sp>
          <p:nvSpPr>
            <p:cNvPr id="165" name=""/>
            <p:cNvSpPr/>
            <p:nvPr/>
          </p:nvSpPr>
          <p:spPr>
            <a:xfrm>
              <a:off x="476280" y="2311560"/>
              <a:ext cx="1219320" cy="43164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00160" y="5295960"/>
              <a:ext cx="1219320" cy="10666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371760" y="3581280"/>
            <a:ext cx="6478560" cy="3049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Preliminaries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76104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Microaggregation -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90720" y="1752480"/>
          <a:ext cx="2952720" cy="2202120"/>
        </p:xfrm>
        <a:graphic>
          <a:graphicData uri="http://schemas.openxmlformats.org/drawingml/2006/table">
            <a:tbl>
              <a:tblPr/>
              <a:tblGrid>
                <a:gridCol w="738000"/>
                <a:gridCol w="738360"/>
                <a:gridCol w="738000"/>
                <a:gridCol w="73836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965160" y="1180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1960" y="1776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1746360"/>
            <a:ext cx="0" cy="53964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27000" y="1562040"/>
            <a:ext cx="79236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14680" y="1192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74640"/>
            <a:ext cx="7920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51240" y="1180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13080" y="1562040"/>
            <a:ext cx="7920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1192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62240" y="1574640"/>
            <a:ext cx="79236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2361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1040" y="2330280"/>
            <a:ext cx="0" cy="5400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288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1040" y="2851200"/>
            <a:ext cx="0" cy="53964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7520" y="3466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63640" y="3435480"/>
            <a:ext cx="0" cy="53964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5177520"/>
            <a:ext cx="358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= 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&gt; 1, NP-Hard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eur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3962520" cy="452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90720" y="1930320"/>
            <a:ext cx="297180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2133720"/>
            <a:ext cx="297180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2463840"/>
            <a:ext cx="297180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666880"/>
            <a:ext cx="297180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2997360"/>
            <a:ext cx="297180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3200400"/>
            <a:ext cx="297180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81280"/>
            <a:ext cx="297180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3784680"/>
            <a:ext cx="297180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295960" y="1600200"/>
            <a:ext cx="3238560" cy="2438280"/>
            <a:chOff x="5295960" y="1600200"/>
            <a:chExt cx="3238560" cy="2438280"/>
          </a:xfrm>
        </p:grpSpPr>
        <p:sp>
          <p:nvSpPr>
            <p:cNvPr id="198" name=""/>
            <p:cNvSpPr/>
            <p:nvPr/>
          </p:nvSpPr>
          <p:spPr>
            <a:xfrm flipV="1">
              <a:off x="5295960" y="2238480"/>
              <a:ext cx="0" cy="180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95960" y="4029120"/>
              <a:ext cx="323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00880" y="2492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53160" y="28735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58080" y="2492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86680" y="3406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15280" y="3635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43880" y="31780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81960" y="24922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58280" y="27972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86880" y="24163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91440" y="31021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00800" y="1600200"/>
              <a:ext cx="914400" cy="45720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k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88400" y="2797200"/>
              <a:ext cx="75960" cy="7632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27880" y="3381480"/>
              <a:ext cx="75960" cy="7596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29480" y="2657520"/>
              <a:ext cx="75960" cy="7632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53360" y="2187720"/>
              <a:ext cx="1143000" cy="1143000"/>
            </a:xfrm>
            <a:prstGeom prst="ellipse">
              <a:avLst/>
            </a:prstGeom>
            <a:noFill/>
            <a:ln w="633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84800" y="2987640"/>
              <a:ext cx="838440" cy="914400"/>
            </a:xfrm>
            <a:prstGeom prst="ellipse">
              <a:avLst/>
            </a:prstGeom>
            <a:noFill/>
            <a:ln w="633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48240" y="2263680"/>
              <a:ext cx="838440" cy="812880"/>
            </a:xfrm>
            <a:prstGeom prst="ellipse">
              <a:avLst/>
            </a:prstGeom>
            <a:noFill/>
            <a:ln w="633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Preliminaries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837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Optimal univariate Micro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52136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Times New Roman"/>
              </a:rPr>
              <a:t>Result 1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When the elements are sorted according to an attribute, for any optimal partition, the elements in each cluster are contiguous (non overlapping clusters ex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Times New Roman"/>
              </a:rPr>
              <a:t>Result 2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All clusters of any optimal partition have between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2k-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547720" y="4224240"/>
            <a:ext cx="2100960" cy="1752840"/>
            <a:chOff x="2547720" y="4224240"/>
            <a:chExt cx="2100960" cy="1752840"/>
          </a:xfrm>
        </p:grpSpPr>
        <p:cxnSp>
          <p:nvCxnSpPr>
            <p:cNvPr id="221" name=""/>
            <p:cNvCxnSpPr>
              <a:stCxn id="222" idx="2"/>
              <a:endCxn id="223" idx="7"/>
            </p:cNvCxnSpPr>
            <p:nvPr/>
          </p:nvCxnSpPr>
          <p:spPr>
            <a:xfrm flipH="1">
              <a:off x="2731320" y="4224240"/>
              <a:ext cx="926280" cy="424800"/>
            </a:xfrm>
            <a:prstGeom prst="straightConnector1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22" idx="3"/>
              <a:endCxn id="225" idx="0"/>
            </p:cNvCxnSpPr>
            <p:nvPr/>
          </p:nvCxnSpPr>
          <p:spPr>
            <a:xfrm flipH="1">
              <a:off x="3233160" y="4408200"/>
              <a:ext cx="500760" cy="1307160"/>
            </a:xfrm>
            <a:prstGeom prst="straightConnector1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23" idx="4"/>
              <a:endCxn id="225" idx="1"/>
            </p:cNvCxnSpPr>
            <p:nvPr/>
          </p:nvCxnSpPr>
          <p:spPr>
            <a:xfrm>
              <a:off x="2547720" y="5094360"/>
              <a:ext cx="500760" cy="697680"/>
            </a:xfrm>
            <a:prstGeom prst="straightConnector1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25" idx="6"/>
              <a:endCxn id="228" idx="3"/>
            </p:cNvCxnSpPr>
            <p:nvPr/>
          </p:nvCxnSpPr>
          <p:spPr>
            <a:xfrm flipV="1">
              <a:off x="3494160" y="5551200"/>
              <a:ext cx="1154880" cy="426240"/>
            </a:xfrm>
            <a:prstGeom prst="straightConnector1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23" idx="6"/>
              <a:endCxn id="228" idx="1"/>
            </p:cNvCxnSpPr>
            <p:nvPr/>
          </p:nvCxnSpPr>
          <p:spPr>
            <a:xfrm>
              <a:off x="2808000" y="4833720"/>
              <a:ext cx="1840680" cy="347760"/>
            </a:xfrm>
            <a:prstGeom prst="straightConnector1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</p:cxnSp>
      </p:grpSp>
      <p:grpSp>
        <p:nvGrpSpPr>
          <p:cNvPr id="230" name=""/>
          <p:cNvGrpSpPr/>
          <p:nvPr/>
        </p:nvGrpSpPr>
        <p:grpSpPr>
          <a:xfrm>
            <a:off x="457200" y="3962520"/>
            <a:ext cx="4637160" cy="2274840"/>
            <a:chOff x="457200" y="3962520"/>
            <a:chExt cx="4637160" cy="2274840"/>
          </a:xfrm>
        </p:grpSpPr>
        <p:sp>
          <p:nvSpPr>
            <p:cNvPr id="222" name=""/>
            <p:cNvSpPr/>
            <p:nvPr/>
          </p:nvSpPr>
          <p:spPr>
            <a:xfrm>
              <a:off x="3657600" y="3962520"/>
              <a:ext cx="522360" cy="522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6000" y="4572000"/>
              <a:ext cx="522360" cy="522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71800" y="5715000"/>
              <a:ext cx="522360" cy="522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0" y="5105520"/>
              <a:ext cx="522360" cy="522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200" y="47995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k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562720" y="4130280"/>
            <a:ext cx="3581280" cy="9169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usters are built using the nodes of the shortest path algorithm</a:t>
            </a:r>
            <a:r>
              <a:rPr b="1" lang="en-GB" sz="1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Preliminaries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837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MDAV Micro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85800" y="216180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3952800"/>
            <a:ext cx="3238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24163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797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24163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33307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35593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31021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2416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27208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23400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3025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90640" y="1523880"/>
            <a:ext cx="914400" cy="45720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k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2666880"/>
            <a:ext cx="7596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0840" y="2844720"/>
            <a:ext cx="457200" cy="457200"/>
          </a:xfrm>
          <a:prstGeom prst="ellipse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2590920"/>
            <a:ext cx="1295280" cy="761760"/>
          </a:xfrm>
          <a:prstGeom prst="ellipse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0280" y="2197080"/>
            <a:ext cx="457200" cy="457200"/>
          </a:xfrm>
          <a:prstGeom prst="ellipse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76240" y="2209680"/>
            <a:ext cx="457200" cy="838440"/>
          </a:xfrm>
          <a:prstGeom prst="ellipse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981760" y="2133720"/>
            <a:ext cx="0" cy="180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81760" y="3924360"/>
            <a:ext cx="3238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03680" y="403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45080" y="4037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25146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686800" y="289548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705720" y="2286000"/>
            <a:ext cx="1675800" cy="1143000"/>
            <a:chOff x="6705720" y="2286000"/>
            <a:chExt cx="1675800" cy="1143000"/>
          </a:xfrm>
        </p:grpSpPr>
        <p:sp>
          <p:nvSpPr>
            <p:cNvPr id="260" name=""/>
            <p:cNvSpPr/>
            <p:nvPr/>
          </p:nvSpPr>
          <p:spPr>
            <a:xfrm>
              <a:off x="8305560" y="2286000"/>
              <a:ext cx="75960" cy="7632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720" y="2819520"/>
              <a:ext cx="75960" cy="7596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91160" y="3352680"/>
              <a:ext cx="75960" cy="7632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828800" y="5288400"/>
            <a:ext cx="7010280" cy="39888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DAV is multivariate heuristic microagge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Preliminaries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837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core: Protection method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90920" y="1554480"/>
            <a:ext cx="4038480" cy="39888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core = 0.5 IL + 0.5 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7080" y="2309400"/>
            <a:ext cx="5207040" cy="4057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L = 100(0.2 IL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0.2 IL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0.2 IL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0.2 IL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0.2 IL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7080" y="2998440"/>
            <a:ext cx="4064040" cy="4057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mean of absolute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7080" y="3604680"/>
            <a:ext cx="4064040" cy="4057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mean variation of 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7080" y="4217400"/>
            <a:ext cx="4064040" cy="4057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mean variation of var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7080" y="4824000"/>
            <a:ext cx="4064040" cy="4057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mean variation of covarian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7080" y="5433480"/>
            <a:ext cx="4064040" cy="4057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mean variation of 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62720" y="2316960"/>
            <a:ext cx="3733560" cy="36828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R = 0.25 DLD+0.25 PLD+0.5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3017160"/>
            <a:ext cx="4064040" cy="36828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LD = number of links using DB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62720" y="3623400"/>
            <a:ext cx="4064040" cy="36828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LD = number of links using P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4236120"/>
            <a:ext cx="4064040" cy="36828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 = protected values near orgi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403280" y="1066680"/>
            <a:ext cx="726444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losure Risk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lim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 Record L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 and 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73160" y="990720"/>
            <a:ext cx="751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7800" y="126720"/>
            <a:ext cx="8997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38400" y="3214800"/>
            <a:ext cx="7594560" cy="493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Location Problem Desciption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837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L-RL: Location Record L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1643400"/>
            <a:ext cx="8001000" cy="4597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ndard record linkage compares all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2671560"/>
            <a:ext cx="7238880" cy="119124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nk swapping, univariate microaggregation and other methods only use some original records to create the protected data 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28600" y="3152880"/>
            <a:ext cx="8305920" cy="2743200"/>
            <a:chOff x="228600" y="3152880"/>
            <a:chExt cx="8305920" cy="2743200"/>
          </a:xfrm>
        </p:grpSpPr>
        <p:sp>
          <p:nvSpPr>
            <p:cNvPr id="286" name=""/>
            <p:cNvSpPr/>
            <p:nvPr/>
          </p:nvSpPr>
          <p:spPr>
            <a:xfrm flipH="1">
              <a:off x="228600" y="3152880"/>
              <a:ext cx="914400" cy="2743200"/>
            </a:xfrm>
            <a:custGeom>
              <a:avLst/>
              <a:gdLst>
                <a:gd name="textAreaLeft" fmla="*/ 122400 w 914400"/>
                <a:gd name="textAreaRight" fmla="*/ 792000 w 914400"/>
                <a:gd name="textAreaTop" fmla="*/ 526680 h 2743200"/>
                <a:gd name="textAreaBottom" fmla="*/ 194220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297" stAng="-5400000" swAng="5400000"/>
                  <a:lnTo>
                    <a:pt x="21600" y="11144"/>
                  </a:lnTo>
                  <a:arcTo wR="21600" hR="8297" stAng="0" swAng="2734039"/>
                  <a:lnTo>
                    <a:pt x="7612" y="21068"/>
                  </a:lnTo>
                  <a:lnTo>
                    <a:pt x="0" y="18017"/>
                  </a:lnTo>
                  <a:lnTo>
                    <a:pt x="7612" y="13901"/>
                  </a:lnTo>
                  <a:lnTo>
                    <a:pt x="7612" y="16061"/>
                  </a:lnTo>
                  <a:arcTo wR="21600" hR="8297" stAng="2734039" swAng="-2504413"/>
                  <a:lnTo>
                    <a:pt x="21280" y="9720"/>
                  </a:lnTo>
                  <a:arcTo wR="21600" hR="8297" stAng="-229625" swAng="-5170375"/>
                  <a:close/>
                </a:path>
                <a:path fill="darkenLess" w="21600" h="21600">
                  <a:moveTo>
                    <a:pt x="0" y="0"/>
                  </a:moveTo>
                  <a:arcTo wR="21600" hR="8297" stAng="-5400000" swAng="5400000"/>
                  <a:lnTo>
                    <a:pt x="21600" y="11144"/>
                  </a:lnTo>
                  <a:arcTo wR="21600" hR="8297" stAng="0" swAng="-229625"/>
                  <a:lnTo>
                    <a:pt x="21280" y="9720"/>
                  </a:lnTo>
                  <a:arcTo wR="21600" hR="8297" stAng="-229625" swAng="-517037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71600" y="5270760"/>
              <a:ext cx="7162920" cy="459720"/>
            </a:xfrm>
            <a:prstGeom prst="rect">
              <a:avLst/>
            </a:prstGeom>
            <a:noFill/>
            <a:ln w="633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t is unnecessary to compare all the reco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837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Method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05120"/>
            <a:ext cx="2133720" cy="28954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98680" y="485064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24480" y="1905120"/>
            <a:ext cx="2133720" cy="28954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86600" y="487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438280" y="1905120"/>
            <a:ext cx="4267440" cy="2895480"/>
            <a:chOff x="2438280" y="1905120"/>
            <a:chExt cx="4267440" cy="2895480"/>
          </a:xfrm>
        </p:grpSpPr>
        <p:sp>
          <p:nvSpPr>
            <p:cNvPr id="295" name=""/>
            <p:cNvSpPr/>
            <p:nvPr/>
          </p:nvSpPr>
          <p:spPr>
            <a:xfrm>
              <a:off x="2438280" y="1905120"/>
              <a:ext cx="381240" cy="2895480"/>
            </a:xfrm>
            <a:prstGeom prst="rect">
              <a:avLst/>
            </a:prstGeom>
            <a:noFill/>
            <a:ln w="633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24480" y="1905120"/>
              <a:ext cx="381240" cy="2895480"/>
            </a:xfrm>
            <a:prstGeom prst="rect">
              <a:avLst/>
            </a:prstGeom>
            <a:noFill/>
            <a:ln w="633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2438280" y="3111480"/>
            <a:ext cx="381240" cy="304920"/>
          </a:xfrm>
          <a:prstGeom prst="rect">
            <a:avLst/>
          </a:prstGeom>
          <a:noFill/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2971800"/>
            <a:ext cx="381240" cy="971640"/>
          </a:xfrm>
          <a:prstGeom prst="rect">
            <a:avLst/>
          </a:prstGeom>
          <a:noFill/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7400" y="3111480"/>
            <a:ext cx="380880" cy="304920"/>
          </a:xfrm>
          <a:prstGeom prst="rect">
            <a:avLst/>
          </a:prstGeom>
          <a:noFill/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057400" y="1905120"/>
            <a:ext cx="5029200" cy="2895480"/>
            <a:chOff x="2057400" y="1905120"/>
            <a:chExt cx="5029200" cy="2895480"/>
          </a:xfrm>
        </p:grpSpPr>
        <p:sp>
          <p:nvSpPr>
            <p:cNvPr id="301" name=""/>
            <p:cNvSpPr/>
            <p:nvPr/>
          </p:nvSpPr>
          <p:spPr>
            <a:xfrm>
              <a:off x="2057400" y="1905120"/>
              <a:ext cx="380880" cy="2895480"/>
            </a:xfrm>
            <a:prstGeom prst="rect">
              <a:avLst/>
            </a:prstGeom>
            <a:noFill/>
            <a:ln w="633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1905120"/>
              <a:ext cx="380880" cy="2895480"/>
            </a:xfrm>
            <a:prstGeom prst="rect">
              <a:avLst/>
            </a:prstGeom>
            <a:noFill/>
            <a:ln w="633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705720" y="2362320"/>
            <a:ext cx="380880" cy="971280"/>
          </a:xfrm>
          <a:prstGeom prst="rect">
            <a:avLst/>
          </a:prstGeom>
          <a:noFill/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743200" y="2971800"/>
            <a:ext cx="5715000" cy="2832120"/>
            <a:chOff x="2743200" y="2971800"/>
            <a:chExt cx="5715000" cy="2832120"/>
          </a:xfrm>
        </p:grpSpPr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2743200" y="5257800"/>
              <a:ext cx="368316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6324480" y="2971800"/>
              <a:ext cx="2133720" cy="380880"/>
            </a:xfrm>
            <a:prstGeom prst="rect">
              <a:avLst/>
            </a:prstGeom>
            <a:solidFill>
              <a:srgbClr val="c0c0c0"/>
            </a:solidFill>
            <a:ln w="63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00200" y="76104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xample: Rank sw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04920" y="2089080"/>
            <a:ext cx="7924680" cy="43117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04920" y="3181320"/>
            <a:ext cx="3962160" cy="3049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495680" y="3156120"/>
            <a:ext cx="1473120" cy="3212640"/>
            <a:chOff x="4495680" y="3156120"/>
            <a:chExt cx="1473120" cy="3212640"/>
          </a:xfrm>
        </p:grpSpPr>
        <p:sp>
          <p:nvSpPr>
            <p:cNvPr id="312" name=""/>
            <p:cNvSpPr/>
            <p:nvPr/>
          </p:nvSpPr>
          <p:spPr>
            <a:xfrm>
              <a:off x="4495680" y="3156120"/>
              <a:ext cx="457200" cy="3808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46440" y="4578120"/>
              <a:ext cx="457200" cy="3808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46440" y="4209840"/>
              <a:ext cx="457200" cy="3808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08280" y="3524040"/>
              <a:ext cx="457200" cy="3808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11600" y="5276880"/>
              <a:ext cx="457200" cy="38052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86040" y="3156120"/>
              <a:ext cx="457200" cy="3808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11600" y="4895640"/>
              <a:ext cx="457200" cy="3808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11600" y="5987880"/>
              <a:ext cx="457200" cy="3808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304920" y="1490760"/>
            <a:ext cx="1523880" cy="4597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=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8390520" y="2361600"/>
            <a:ext cx="1131840" cy="3974040"/>
            <a:chOff x="8390520" y="2361600"/>
            <a:chExt cx="1131840" cy="3974040"/>
          </a:xfrm>
        </p:grpSpPr>
        <p:sp>
          <p:nvSpPr>
            <p:cNvPr id="322" name=""/>
            <p:cNvSpPr/>
            <p:nvPr/>
          </p:nvSpPr>
          <p:spPr>
            <a:xfrm>
              <a:off x="8616600" y="2828880"/>
              <a:ext cx="685440" cy="3506760"/>
            </a:xfrm>
            <a:prstGeom prst="rect">
              <a:avLst/>
            </a:prstGeom>
            <a:noFill/>
            <a:ln w="633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22610"/>
                  </a:solidFill>
                  <a:latin typeface="Arial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390520" y="236160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st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98964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Rank Swapping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1603080"/>
            <a:ext cx="87631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se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nsus (1080 records &amp; 13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IA (4092 records &amp; 10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nk swapping configu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 = 2 …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ore modif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 = 0.166 LLD+ 0.166 DLD+ 0.166 PLD+ 0.5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9601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-193680">
              <a:lnSpc>
                <a:spcPct val="14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isclosure Risk Scenario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an intruder re-identifies an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4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Preliminaries</a:t>
            </a:r>
            <a:r>
              <a:rPr b="1" lang="en-GB" sz="2400" spc="-1" strike="noStrike">
                <a:solidFill>
                  <a:srgbClr val="fc7b0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tection methods and Record Lin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4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Location record link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new way to compute the discl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4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Conclusions and future work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77800" y="11592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</a:t>
            </a:r>
            <a:br>
              <a:rPr sz="2000"/>
            </a:b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Contents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066680" y="1812960"/>
            <a:ext cx="7607520" cy="45878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98964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-RL: Rank Swapping Linkag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57400" y="2209680"/>
            <a:ext cx="1219320" cy="41911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4120" y="2209680"/>
            <a:ext cx="1218960" cy="41911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6248520" cy="472464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00200" y="98964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L-RL: Rank Swapping Scor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98964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Univariate Microaggregation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1603080"/>
            <a:ext cx="87631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se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nsus (1080 records &amp; 13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IA (4092 records &amp; 10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ariate microaggregation configu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 = 10 …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ore modif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 = 0.166 LLD+ 0.166 DLD+ 0.166 PLD+ 0.5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04920" y="2073240"/>
            <a:ext cx="9156600" cy="34131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98964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L-RL: Univariate Microaggregation Linkag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3000" y="2514600"/>
            <a:ext cx="1371600" cy="297180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4120" y="2565360"/>
            <a:ext cx="1371600" cy="289548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98964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L-RL: Univariate Microaggregation Scor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829332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00200" y="98964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MDAV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1603080"/>
            <a:ext cx="87631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se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nsus (1080 records &amp; 13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IA (4092 records &amp; 10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ariate microaggregation configu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 = 10 …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ore modif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 = 0.166 LLD+ 0.166 DLD+ 0.166 PLD+ 0.5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839440" cy="46609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90720" y="98964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-RL: MDAV Linkag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81080" y="2133720"/>
            <a:ext cx="1219320" cy="419076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00880" y="2120760"/>
            <a:ext cx="1218960" cy="41911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143000" y="98964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-RL: MDAV Scor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314360" y="1589040"/>
            <a:ext cx="7601040" cy="49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403280" y="1066680"/>
            <a:ext cx="726444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closure Risk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lim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cation Problem Description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cation Record L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clusions and 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73160" y="990720"/>
            <a:ext cx="751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7800" y="126720"/>
            <a:ext cx="8997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38400" y="4700520"/>
            <a:ext cx="7594560" cy="493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Conclusions and future work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1284840"/>
            <a:ext cx="8991360" cy="26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We have presented a new type of record linkage designed to exploit the limitations of some protection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-RL method obtains a more accurate DR evaluation for rank swapping and univariate micro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DAV is immune to the location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43000" y="837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495144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We plan to study the DR of MDAV and other protection methods using other ad-hoc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43000" y="4342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03280" y="1066680"/>
            <a:ext cx="726444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losure Risk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lim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 Record L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 and 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73160" y="990720"/>
            <a:ext cx="751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7800" y="126720"/>
            <a:ext cx="8997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8400" y="1390680"/>
            <a:ext cx="7594560" cy="493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560160" y="2276640"/>
            <a:ext cx="8713800" cy="14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n method-specific record linkage for risk assessment</a:t>
            </a:r>
            <a:endParaRPr b="0" lang="en-US" sz="2800" spc="-1" strike="noStrike">
              <a:solidFill>
                <a:srgbClr val="5e574e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929040" y="5562720"/>
            <a:ext cx="212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79acb"/>
                </a:solidFill>
                <a:latin typeface="Impact"/>
              </a:rPr>
              <a:t>Jordi 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79acb"/>
                </a:solidFill>
                <a:latin typeface="Impact"/>
              </a:rPr>
              <a:t>Javier Herran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79acb"/>
                </a:solidFill>
                <a:latin typeface="Impact"/>
              </a:rPr>
              <a:t>Vicenç To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2590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Disclosure Risk Scenario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4037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480" y="3047040"/>
            <a:ext cx="3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980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913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ttribute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8120" y="2610000"/>
            <a:ext cx="1440" cy="13716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4120" y="2381400"/>
            <a:ext cx="3081240" cy="144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23994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ers: Passport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304704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si-Identifiers: Age, postal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3808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fidential: 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04880" y="2610000"/>
          <a:ext cx="2952360" cy="1339560"/>
        </p:xfrm>
        <a:graphic>
          <a:graphicData uri="http://schemas.openxmlformats.org/drawingml/2006/table">
            <a:tbl>
              <a:tblPr/>
              <a:tblGrid>
                <a:gridCol w="542160"/>
                <a:gridCol w="723240"/>
                <a:gridCol w="883440"/>
                <a:gridCol w="8035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tal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Disclosure Risk Scenario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913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Re-identification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3657600"/>
            <a:ext cx="9016920" cy="2486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14400" y="165024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 = id || 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nc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|| 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676680" y="1650240"/>
            <a:ext cx="4857840" cy="510120"/>
            <a:chOff x="3676680" y="1650240"/>
            <a:chExt cx="4857840" cy="510120"/>
          </a:xfrm>
        </p:grpSpPr>
        <p:sp>
          <p:nvSpPr>
            <p:cNvPr id="111" name=""/>
            <p:cNvSpPr/>
            <p:nvPr/>
          </p:nvSpPr>
          <p:spPr>
            <a:xfrm>
              <a:off x="5867280" y="1650240"/>
              <a:ext cx="2667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X’ = X’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nc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|| X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76680" y="1886040"/>
              <a:ext cx="2286000" cy="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371600" y="236124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ivacy is ensured, quasi-identifiers are anonym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8789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quality is preserved, confidential attributes are pre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Disclosure Risk Scenario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7960" y="2400480"/>
            <a:ext cx="515880" cy="441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860640"/>
            <a:ext cx="515880" cy="441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6800" y="3141720"/>
            <a:ext cx="5158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55920" y="1681200"/>
            <a:ext cx="22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ta se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7040" y="16812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ta se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324160"/>
            <a:ext cx="2085840" cy="520560"/>
          </a:xfrm>
          <a:prstGeom prst="rect">
            <a:avLst/>
          </a:prstGeom>
          <a:noFill/>
          <a:ln w="38160">
            <a:solidFill>
              <a:srgbClr val="ffa62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138400"/>
            <a:ext cx="2396880" cy="244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238608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X</a:t>
            </a:r>
            <a:r>
              <a:rPr b="1" lang="es-ES" sz="16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  X</a:t>
            </a:r>
            <a:r>
              <a:rPr b="1" lang="es-ES" sz="16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  X</a:t>
            </a:r>
            <a:r>
              <a:rPr b="1" lang="es-ES" sz="16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  X</a:t>
            </a:r>
            <a:r>
              <a:rPr b="1" lang="es-ES" sz="1600" spc="-1" strike="noStrike">
                <a:solidFill>
                  <a:srgbClr val="ff6600"/>
                </a:solidFill>
                <a:latin typeface="Arial"/>
              </a:rPr>
              <a:t>4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059280"/>
            <a:ext cx="2087640" cy="520560"/>
          </a:xfrm>
          <a:prstGeom prst="rect">
            <a:avLst/>
          </a:prstGeom>
          <a:noFill/>
          <a:ln w="381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314640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X</a:t>
            </a:r>
            <a:r>
              <a:rPr b="1" lang="es-ES" sz="1600" spc="-1" strike="noStrike">
                <a:solidFill>
                  <a:srgbClr val="00ccff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  X</a:t>
            </a:r>
            <a:r>
              <a:rPr b="1" lang="es-ES" sz="1600" spc="-1" strike="noStrike">
                <a:solidFill>
                  <a:srgbClr val="00ccff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  X</a:t>
            </a:r>
            <a:r>
              <a:rPr b="1" lang="es-ES" sz="1600" spc="-1" strike="noStrike">
                <a:solidFill>
                  <a:srgbClr val="00ccff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  X</a:t>
            </a:r>
            <a:r>
              <a:rPr b="1" lang="es-ES" sz="1600" spc="-1" strike="noStrike">
                <a:solidFill>
                  <a:srgbClr val="00ccff"/>
                </a:solidFill>
                <a:latin typeface="Arial"/>
              </a:rPr>
              <a:t>4</a:t>
            </a:r>
            <a:r>
              <a:rPr b="1" lang="es-ES" sz="1600" spc="-1" strike="noStrike">
                <a:solidFill>
                  <a:srgbClr val="ff66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3780000"/>
            <a:ext cx="2087640" cy="520560"/>
          </a:xfrm>
          <a:prstGeom prst="rect">
            <a:avLst/>
          </a:prstGeom>
          <a:noFill/>
          <a:ln w="38160">
            <a:solidFill>
              <a:srgbClr val="f2261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390996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22610"/>
                </a:solidFill>
                <a:latin typeface="Arial"/>
              </a:rPr>
              <a:t>X</a:t>
            </a:r>
            <a:r>
              <a:rPr b="1" lang="es-ES" sz="1600" spc="-1" strike="noStrike">
                <a:solidFill>
                  <a:srgbClr val="f2261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f22610"/>
                </a:solidFill>
                <a:latin typeface="Arial"/>
              </a:rPr>
              <a:t>  X</a:t>
            </a:r>
            <a:r>
              <a:rPr b="1" lang="es-ES" sz="1600" spc="-1" strike="noStrike">
                <a:solidFill>
                  <a:srgbClr val="f2261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22610"/>
                </a:solidFill>
                <a:latin typeface="Arial"/>
              </a:rPr>
              <a:t>  X</a:t>
            </a:r>
            <a:r>
              <a:rPr b="1" lang="es-ES" sz="1600" spc="-1" strike="noStrike">
                <a:solidFill>
                  <a:srgbClr val="f2261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f22610"/>
                </a:solidFill>
                <a:latin typeface="Arial"/>
              </a:rPr>
              <a:t>  X</a:t>
            </a:r>
            <a:r>
              <a:rPr b="1" lang="es-ES" sz="1600" spc="-1" strike="noStrike">
                <a:solidFill>
                  <a:srgbClr val="f22610"/>
                </a:solidFill>
                <a:latin typeface="Arial"/>
              </a:rPr>
              <a:t>4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45320" y="2309760"/>
            <a:ext cx="2087640" cy="520920"/>
          </a:xfrm>
          <a:prstGeom prst="rect">
            <a:avLst/>
          </a:prstGeom>
          <a:noFill/>
          <a:ln w="381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81880" y="2124000"/>
            <a:ext cx="2396880" cy="244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67640" y="2386080"/>
            <a:ext cx="19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X’</a:t>
            </a:r>
            <a:r>
              <a:rPr b="1" lang="es-ES" sz="1600" spc="-1" strike="noStrike">
                <a:solidFill>
                  <a:srgbClr val="00ccff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  X’</a:t>
            </a:r>
            <a:r>
              <a:rPr b="1" lang="es-ES" sz="1600" spc="-1" strike="noStrike">
                <a:solidFill>
                  <a:srgbClr val="00ccff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  X’</a:t>
            </a:r>
            <a:r>
              <a:rPr b="1" lang="es-ES" sz="1600" spc="-1" strike="noStrike">
                <a:solidFill>
                  <a:srgbClr val="00ccff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  X’</a:t>
            </a:r>
            <a:r>
              <a:rPr b="1" lang="es-ES" sz="1600" spc="-1" strike="noStrike">
                <a:solidFill>
                  <a:srgbClr val="00cc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24800" y="3044880"/>
            <a:ext cx="2087280" cy="520560"/>
          </a:xfrm>
          <a:prstGeom prst="rect">
            <a:avLst/>
          </a:prstGeom>
          <a:noFill/>
          <a:ln w="38160">
            <a:solidFill>
              <a:srgbClr val="f2261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8600" y="31478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22610"/>
                </a:solidFill>
                <a:latin typeface="Arial"/>
              </a:rPr>
              <a:t>X’</a:t>
            </a:r>
            <a:r>
              <a:rPr b="1" lang="es-ES" sz="1600" spc="-1" strike="noStrike">
                <a:solidFill>
                  <a:srgbClr val="f2261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f22610"/>
                </a:solidFill>
                <a:latin typeface="Arial"/>
              </a:rPr>
              <a:t>  X’</a:t>
            </a:r>
            <a:r>
              <a:rPr b="1" lang="es-ES" sz="1600" spc="-1" strike="noStrike">
                <a:solidFill>
                  <a:srgbClr val="f2261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22610"/>
                </a:solidFill>
                <a:latin typeface="Arial"/>
              </a:rPr>
              <a:t>  X’</a:t>
            </a:r>
            <a:r>
              <a:rPr b="1" lang="es-ES" sz="1600" spc="-1" strike="noStrike">
                <a:solidFill>
                  <a:srgbClr val="f2261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f22610"/>
                </a:solidFill>
                <a:latin typeface="Arial"/>
              </a:rPr>
              <a:t>  X’</a:t>
            </a:r>
            <a:r>
              <a:rPr b="1" lang="es-ES" sz="1600" spc="-1" strike="noStrike">
                <a:solidFill>
                  <a:srgbClr val="f22610"/>
                </a:solidFill>
                <a:latin typeface="Arial"/>
              </a:rPr>
              <a:t>4</a:t>
            </a:r>
            <a:r>
              <a:rPr b="1" lang="es-ES" sz="1600" spc="-1" strike="noStrike">
                <a:solidFill>
                  <a:srgbClr val="ff66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24800" y="3765600"/>
            <a:ext cx="2087280" cy="520560"/>
          </a:xfrm>
          <a:prstGeom prst="rect">
            <a:avLst/>
          </a:prstGeom>
          <a:noFill/>
          <a:ln w="38160">
            <a:solidFill>
              <a:srgbClr val="ffa62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46760" y="3833640"/>
            <a:ext cx="194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a623"/>
                </a:solidFill>
                <a:latin typeface="Arial"/>
              </a:rPr>
              <a:t>X’1  X’</a:t>
            </a:r>
            <a:r>
              <a:rPr b="1" lang="es-ES" sz="1600" spc="-1" strike="noStrike">
                <a:solidFill>
                  <a:srgbClr val="ffa62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fa623"/>
                </a:solidFill>
                <a:latin typeface="Arial"/>
              </a:rPr>
              <a:t>  X’</a:t>
            </a:r>
            <a:r>
              <a:rPr b="1" lang="es-ES" sz="1600" spc="-1" strike="noStrike">
                <a:solidFill>
                  <a:srgbClr val="ffa623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ffa623"/>
                </a:solidFill>
                <a:latin typeface="Arial"/>
              </a:rPr>
              <a:t>  X’</a:t>
            </a:r>
            <a:r>
              <a:rPr b="1" lang="es-ES" sz="1600" spc="-1" strike="noStrike">
                <a:solidFill>
                  <a:srgbClr val="ffa623"/>
                </a:solidFill>
                <a:latin typeface="Arial"/>
              </a:rPr>
              <a:t>4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76920" y="2411280"/>
            <a:ext cx="5158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61080" y="3871800"/>
            <a:ext cx="515880" cy="441360"/>
          </a:xfrm>
          <a:prstGeom prst="smileyFace">
            <a:avLst>
              <a:gd name="adj" fmla="val 9282"/>
            </a:avLst>
          </a:prstGeom>
          <a:solidFill>
            <a:srgbClr val="ffa6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65760" y="3152880"/>
            <a:ext cx="515880" cy="441360"/>
          </a:xfrm>
          <a:prstGeom prst="smileyFace">
            <a:avLst>
              <a:gd name="adj" fmla="val 9282"/>
            </a:avLst>
          </a:prstGeom>
          <a:solidFill>
            <a:srgbClr val="f226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995400" y="2556000"/>
            <a:ext cx="7920000" cy="3619440"/>
            <a:chOff x="995400" y="2556000"/>
            <a:chExt cx="7920000" cy="3619440"/>
          </a:xfrm>
        </p:grpSpPr>
        <p:sp>
          <p:nvSpPr>
            <p:cNvPr id="139" name=""/>
            <p:cNvSpPr/>
            <p:nvPr/>
          </p:nvSpPr>
          <p:spPr>
            <a:xfrm>
              <a:off x="995400" y="5349960"/>
              <a:ext cx="792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blem: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nd a correct mapping between data file 1 and data file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89520" y="2556000"/>
              <a:ext cx="1655640" cy="1584000"/>
            </a:xfrm>
            <a:prstGeom prst="line">
              <a:avLst/>
            </a:prstGeom>
            <a:ln w="127080">
              <a:solidFill>
                <a:srgbClr val="ffa6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989520" y="3347640"/>
              <a:ext cx="1655640" cy="647640"/>
            </a:xfrm>
            <a:prstGeom prst="line">
              <a:avLst/>
            </a:prstGeom>
            <a:ln w="127080">
              <a:solidFill>
                <a:srgbClr val="f2261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989520" y="2700000"/>
              <a:ext cx="1655640" cy="718920"/>
            </a:xfrm>
            <a:prstGeom prst="line">
              <a:avLst/>
            </a:prstGeom>
            <a:ln w="12708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4708080" y="4500000"/>
              <a:ext cx="505080" cy="792360"/>
            </a:xfrm>
            <a:prstGeom prst="upArrow">
              <a:avLst>
                <a:gd name="adj1" fmla="val 50000"/>
                <a:gd name="adj2" fmla="val 3922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133720" y="10134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Record L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Disclosure Risk Scenario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114156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istance based Record l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11574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robabilistic Record l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58640"/>
            <a:ext cx="4267440" cy="311040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nearest pairs of record are considered as linked p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t is very easy to tu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sults very dependent of the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oderated time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2437200"/>
            <a:ext cx="4267080" cy="277524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inked pairs are computed using conditional prob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uning is diffic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ew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igh time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03280" y="1066680"/>
            <a:ext cx="726444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losure Risk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lim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 Record L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 and 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3160" y="990720"/>
            <a:ext cx="751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7800" y="126720"/>
            <a:ext cx="8997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38400" y="2325600"/>
            <a:ext cx="7594560" cy="493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Preliminaries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913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Rank swapping -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648800"/>
            <a:ext cx="6782040" cy="33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ll attr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j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tr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s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l values 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ij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e swapped with 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i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here i &lt; l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l+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rting Attr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 rever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4485960"/>
            <a:ext cx="4495680" cy="15721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Preserve µ and </a:t>
            </a:r>
            <a:r>
              <a:rPr b="1" lang="en-GB" sz="2400" spc="-1" strike="noStrike">
                <a:solidFill>
                  <a:srgbClr val="ff66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All combinations dis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0:25:47Z</dcterms:created>
  <dc:creator>iSOCOLab</dc:creator>
  <dc:description>Plantilla para presentaciones power point de isoco</dc:description>
  <dc:language>en-US</dc:language>
  <cp:lastModifiedBy>Jordi Nin</cp:lastModifiedBy>
  <cp:lastPrinted>1999-04-01T15:26:11Z</cp:lastPrinted>
  <dcterms:modified xsi:type="dcterms:W3CDTF">2007-11-30T11:37:29Z</dcterms:modified>
  <cp:revision>1328</cp:revision>
  <dc:subject/>
  <dc:title>PowerPoint Presentation</dc:title>
</cp:coreProperties>
</file>