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BF94-BE1F-436B-A3AA-ABE4C6ED1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332B-CBD2-4E79-81AD-AECFCE7B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33E3-014E-4CAF-800E-65D4C4727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E55F-11BF-443C-850D-82816EF21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27CA-7559-4133-B9F2-6C0E4F72E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20C6-8440-4292-9589-9FFC12F3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798F-6564-4865-AC8F-DC51219B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CF2A-FCBD-408F-AE15-08BC1AB7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9DF4-B8DB-4417-990E-AC26343A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97E2-DF85-4FD6-87CB-D9E074B2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1341-1C96-4FC4-A6BC-3C4C36D1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22FC-6D12-41F3-A095-06DB9450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65B3-6741-4AC4-A3F0-38E25C42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F385-5DF9-4359-B674-09BA9C6F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CE3A-C2AB-4B88-8DD8-C8339F5D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A666-AC87-4135-B6D3-5A415CFC9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2A36-1BA8-45EC-B3A8-7581E8AF3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078D-DAD3-46CA-8452-1FB2762B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8773-3B2C-429A-A219-42111972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E8F9-F494-48A4-B276-FBC3621A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8788-1014-4316-9856-CFA5C8C0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72A6-3E9A-4561-BE9E-AC6EC46E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E4A4-6611-435F-8311-7DF59FE7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E415-8A0E-4F86-AE3D-F784BB96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0000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66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E6B5-0963-40E2-B21A-15EF72043A59}" type="slidenum">
              <a:rPr b="0" lang="en-US" sz="1400" spc="-1" strike="noStrike">
                <a:solidFill>
                  <a:srgbClr val="ffcc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66cc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F006-C12A-433F-BC57-9F2C26DA176A}" type="slidenum">
              <a:rPr b="0" lang="en-US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9051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nfidentiality risks of releasing measures of data quali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Jerry Reiter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epartment of Statistical Science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uke University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jerry@stat.duke.edu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truder attack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Find out which records were swapped: 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ry different records in M for some query involving a subset of the data.  If FM = 1, assume records were not swapped.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Find out values of swapped X: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Find at least one not swapped record for each level of univariate X.   Add target record with swapped X.  Let Q be frequencies of each cell for the selected records.  Correct value is the one not equal to swapped value for which FM &lt; 1.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nother examp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o previous scenario, employ top-coding to protect upper 1% tail of a continuous Y1.  And, add noise to all values of some Y2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Users desire regressions, means, confidence intervals for quantiles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truder attack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Order the records by values of Y1: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Form a data set with one top-coded record and many not top-coded records.  Let Q be sample mean and obtain FM.  Repeat for all top-coded records.  Order records by FM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Estimate values of Y1 in upper 1%: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Repeat above strategy.  Try values of true Y1 that result in recreation of FM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truder attack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Estimate values of Y1 in upper 1%: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Form group of not top-coded records for which Y1 is transformed so that it equals zero (or any one number).  Add one top-coded record. Get FM for mean of Y1 for these values. Try values of true Y1 that result in recreation of FM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ame strategy applies for learning values of Y2 with added noise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ducing risks of these attack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Limit what is released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Report something other than exact FM.  Coarsen or add noise to measures before release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Do not release FM for some Q.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Limit what is answerabl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Do not allow any copying or transposing data.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Do not allow arbitrary transformations of data.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imiting quer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Minimum sample sizes for queries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Automatic feedback for set of common transformations, and make all others go through disclosure review. 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(Counter attacks based on unusual transformations that are unlikely to be legit analysis)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arsening FM measur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Report FM rounded, for example to nearest .05 for CI overlap.  Hard to know what values are safe and useful for generic Q.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Add noise to FM measure.  Same difficulty! 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One approach is to create “acceptable” bounds for each true value, and choose rounding/noise to ensure those bounds are feasible under an attack strategy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andomness in FM measur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FM based on Q(M) and Q(O-), where  O-  built by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randomly delete k records from data used in Q(O).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resample deleted records with replacement  (random seed defined by Q).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FM not true except by random chance.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dds large noise to Q with small sample sizes and small noise to Q with large sample sizes.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ere to go from he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Evaluate how much noise infusion/aggregation/resampling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o the FM to defeat the attacks against topcoding or noise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Begin to develop system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eneral sett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Original microdata, O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andidate release, M (1:1 link with O)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rovide some measure of quality of M for specific analyses, labeled FM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Released dynamically for analyses submitted to a “verification server.”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ossible measure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(think regression coefficients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Overlap in confidence intervals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ompute 95% CI for Q with O;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ompute 95% CI for Q with M;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measure overlap in intervals.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Distance between Q(M) and Q(O).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Absolute (relative) error.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ercentage change in variance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ossible measure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(think regression coefficients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Posterior predictive p-value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omputed for (pre-specified?) statistics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Goodness of fit measure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RESS or other predictive stats for D.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Value of likelihood or AIC/BIC in D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Others…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eneral confidentiality risk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Backsolving risk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If FM is exact, analyst might determine elements of O from FM and Q(M)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Prediction risk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If utility measure indicates small difference, analyst might closely estimate elements of O from FM and Q(M)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nfidentiality attack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 different SD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Tahoma"/>
              </a:rPr>
              <a:t>Data swapping: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Try all possible swaps until utility measure reports exact for some Q that depends on all (swapped) variables.</a:t>
            </a:r>
            <a:endParaRPr b="0" lang="en-US" sz="20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Tahoma"/>
              </a:rPr>
              <a:t>Adding noise: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If constant variance noise and large dataset, recover noise variance by division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Increase individual records’ values in some Q until utility measure reveals a close fit.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Tahoma"/>
              </a:rPr>
              <a:t>Re-coding / Suppression: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Get utility measures for tabular-like Q to figure out individual values.</a:t>
            </a:r>
            <a:endParaRPr b="0" lang="en-US" sz="2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nfidentiality attack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 different SD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General attack strategie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urn microdata into tabular data. 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-- Create indicator variables out of continuous variables for tail area events, where limits change slightly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ample of attacks: Sett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uppose agency uses 3% data swap of five categorical quasi-identifiers, X.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When record selected for swapping, all of its X is swapped with the X for another record. 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Other values, Y, are not swapped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ample continue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User asks for quality of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- coefficients in linear regression of Y on X.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- sample mean of Y.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- mean of Y for small subpopulation defined  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 by X.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- contingency table analysis with X.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Fidelity measure is confidence interval overlap (not coarsened).  Perfect overlap defined as 1.  No overlap defined as 0.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7T01:05:46Z</dcterms:created>
  <dc:creator/>
  <dc:description/>
  <dc:language>en-US</dc:language>
  <cp:lastModifiedBy>jerry</cp:lastModifiedBy>
  <dcterms:modified xsi:type="dcterms:W3CDTF">2007-12-05T20:45:05Z</dcterms:modified>
  <cp:revision>528</cp:revision>
  <dc:subject/>
  <dc:title>PSTAT 5A: Statistics</dc:title>
</cp:coreProperties>
</file>