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F8B-E317-461A-932C-015198D4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2A6-89C0-4289-A6B9-6D13EC0D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219-8EBC-4484-86CA-0F31DFF9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6CE-D71D-44EB-942E-C8F27461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6F5F-7CFA-4EC2-B272-87F97660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D317-18C6-48C6-AB8A-EF668EFE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EF8F-1C52-41B1-8F85-9846996E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E66B-5E22-4970-8A6F-35B1D43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7462-8F49-4D7B-9598-6015947E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DFC8-6511-4B5A-9A01-FD0541B3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A59A-9433-4EA0-A2F2-607EC6E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579-B087-4A0D-AD13-04FA4C35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45D2-ECF5-4620-BB9C-5674F53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E6E0-90BD-4F8A-8E36-D9DFCF10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3DF5-5646-460E-965D-3F9818A6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4ACA-E662-4E02-A017-9BA23194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7995-95BA-4934-9A32-89205672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B9B-6683-4963-B58F-B74ABA4A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1F2-AE6D-4BDC-9321-3AFBDD45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5CC-89D9-479A-9E51-8BAC7FA9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A6B-B471-4496-8C5D-8BAE257C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C7F-FDF7-4FF2-8073-8B5285BF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871-581A-4E61-8D8D-4E53012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DDC-EEC1-49C9-B179-DDBF5A47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4E00-5F61-48AD-BAB5-632DAE9C808F}" type="slidenum">
              <a:rPr b="0" lang="en-US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DBE6-64B6-4002-8441-14B62F0CED4C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fidentiality risks of releasing measures of data 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Jerry Reiter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epartment of Statistical Scienc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uke University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jerry@stat.duke.edu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uder attac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nd out which records were swapped: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ry different records in M for some query involving a subset of the data.  If FM = 1, assume records were not swapped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nd out values of swapped X: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nd at least one not swapped record for each level of univariate X.   Add target record with swapped X.  Let Q be frequencies of each cell for the selected records.  Correct value is the one not equal to swapped value for which FM &lt; 1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other exam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o previous scenario, employ top-coding to protect upper 1% tail of a continuous Y1.  And, add noise to all values of some Y2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s desire regressions, means, confidence intervals for quantil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uder attac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rder the records by values of Y1: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rm a data set with one top-coded record and many not top-coded records.  Let Q be sample mean and obtain FM.  Repeat for all top-coded records.  Order records by F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stimate values of Y1 in upper 1%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peat above strategy.  Try values of true Y1 that result in recreation of F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uder attac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stimate values of Y1 in upper 1%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rm group of not top-coded records for which Y1 is transformed so that it equals zero (or any one number).  Add one top-coded record. Get FM for mean of Y1 for these values. Try values of true Y1 that result in recreation of F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ame strategy applies for learning values of Y2 with added noise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ducing risks of these attac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Limit what is rele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eport something other than exact FM.  Coarsen or add noise to measures before relea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o not release FM for some Q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Limit what is answer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o not allow any copying or transposing data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o not allow arbitrary transformations of data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miting quer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inimum sample sizes for queri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utomatic feedback for set of common transformations, and make all others go through disclosure review.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(Counter attacks based on unusual transformations that are unlikely to be legit analysis)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arsening FM meas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port FM rounded, for example to nearest .05 for CI overlap.  Hard to know what values are safe and useful for generic Q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dd noise to FM measure.  Same difficulty! 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ne approach is to create “acceptable” bounds for each true value, and choose rounding/noise to ensure those bounds are feasible under an attack strategy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domness in FM meas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M based on Q(M) and Q(O-), where  O-  built b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ndomly delete k records from data used in Q(O)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esample deleted records with replacement  (random seed defined by Q)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M not true except by random chance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dds large noise to Q with small sample sizes and small noise to Q with large sample sizes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o go from he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valuate how much noise infusion/aggregation/resampling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o the FM to defeat the attacks against topcoding or noise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egin to develop syste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set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riginal microdata, O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andidate release, M (1:1 link with O)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vide some measure of quality of M for specific analyses, labeled F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leased dynamically for analyses submitted to a “verification server.”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ssible measur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think regression coeffici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Overlap in confidence interval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pute 95% CI for Q with O;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pute 95% CI for Q with M;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asure overlap in intervals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Distance between Q(M) and Q(O)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bsolute (relative) error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ercentage change in variance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ssible measur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think regression coeffici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Posterior predictive p-value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puted for (pre-specified?) statistic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Goodness of fit measure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ESS or other predictive stats for D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Value of likelihood or AIC/BIC in D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thers…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confidentiality risk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acksolving risk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f FM is exact, analyst might determine elements of O from FM and Q(M)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Prediction risk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f utility measure indicates small difference, analyst might closely estimate elements of O from FM and Q(M)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fidentiality attack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different S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Data swapping: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y all possible swaps until utility measure reports exact for some Q that depends on all (swapped) variables.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Adding noise: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If constant variance noise and large dataset, recover noise variance by divis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Increase individual records’ values in some Q until utility measure reveals a close fit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Re-coding / Suppression: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Get utility measures for tabular-like Q to figure out individual values.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fidentiality attack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different S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eneral attack strateg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urn microdata into tabular data.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-- Create indicator variables out of continuous variables for tail area events, where limits change slightly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 of attacks: Set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ppose agency uses 3% data swap of five categorical quasi-identifiers, X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en record selected for swapping, all of its X is swapped with the X for another record. 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ther values, Y, are not swapped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 continu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ser asks for quality of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coefficients in linear regression of Y on X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sample mean of Y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mean of Y for small subpopulation defined 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by X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contingency table analysis with X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delity measure is confidence interval overlap (not coarsened).  Perfect overlap defined as 1.  No overlap defined as 0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05:46Z</dcterms:created>
  <dc:creator/>
  <dc:description/>
  <dc:language>en-US</dc:language>
  <cp:lastModifiedBy>jerry</cp:lastModifiedBy>
  <dcterms:modified xsi:type="dcterms:W3CDTF">2007-12-05T20:45:05Z</dcterms:modified>
  <cp:revision>528</cp:revision>
  <dc:subject/>
  <dc:title>PSTAT 5A: Statistics</dc:title>
</cp:coreProperties>
</file>