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378-9D66-4651-9B45-F39A829F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7B5-2F2A-4307-9548-5E4FDD02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679-7713-46DF-B1D5-6C4F5FEB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61B-BC3A-41B7-9708-AC34E723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585-EC15-40CA-BD7D-4AF206F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FAA-F6F1-4975-AAD8-755C9632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8ED-0440-4915-BD92-167428A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D19-0FD7-4E92-BCF3-1ED59F0F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FFB-FF60-44D2-A947-53F4F7B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0DB-1DEC-41E9-B90C-B201399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592-1B2C-4629-9F15-FF1A3D8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F57-FDD2-499B-A1CB-9383AAF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B882-DA44-470B-9470-2EB35D256B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DC43-4AE1-4D3E-8794-9842F1BD7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krishm@uky.edu" TargetMode="External"/><Relationship Id="rId2" Type="http://schemas.openxmlformats.org/officeDocument/2006/relationships/hyperlink" Target="mailto:rathin.sarathy@okstate.edu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B98-8967-4F40-AE07-794E8C0D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erical Data Masking Techniques for Maintain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-Domain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h Muralid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indra Sar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6C11-2CD5-4CA6-BB4A-45E69522F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e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bservations = 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tegorical, non-confidential 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(Male or Fe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tal Status (Married or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Group (1 to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f 24 sub-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umerical, confidenti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alue (Positive, non-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gage balance (Positive, non-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value of assets (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CAE4-E70E-4C6C-BAD1-FFF989F7E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uff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ufficiency based perturb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ditionally independe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 = 0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oderately rela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 = 0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losely rela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 = 0.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 are the values of the diagonal elements of the diagonal matrix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EFAC-51B3-4B71-9B23-5FC4F43AC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performance of techniques in sub-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(assessed using the procedure by Fuller (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(assessed by comparing proportion of variance explained in confidential variables, before &amp; after mas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(or univariate)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 betwee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inear relationship betwee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866E-FC4D-4A85-B0B7-5AEE5474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of Identity Dis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3865" r="0" b="0"/>
          <a:stretch/>
        </p:blipFill>
        <p:spPr>
          <a:xfrm>
            <a:off x="457200" y="1371600"/>
            <a:ext cx="8229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94EE-A850-45C1-BC22-490DA0CE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of Value Dis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rbed data with d = 0.50, 0.90 results in increased predictive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s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BE07-81D4-4D41-99A8-C478BB88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(or Univariate) Distribution (Mortgage Balance) (Entire Data S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BFD4-11B6-496A-83DA-D2E66B45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-group Marginal Distribution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me Value) (Gender = 0, Marital = 0, Age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1616-3D2D-4F4A-867A-953035397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oment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0B0E-A1F0-41D2-817A-5B17037C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Linea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9D77-572E-4FB9-8DCF-6A260871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k Order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FD49-6881-4D91-B8CB-98C16D5A6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 Data Utility for Masking Numer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ly, resul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 analy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the masked data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at using the original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to achieve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C2FC-4839-49F8-8DB4-EC0E93C75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the Metho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ata Shuff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losure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ty disclosure risk is 1/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ing access to masked data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does not improve predictive 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[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|S,Y) = 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|S)]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an, covariance and in fact the entire univariate distributions of masked data are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same as the original data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for every sub-group and the entire data set</a:t>
            </a:r>
            <a:br>
              <a:rPr sz="2200"/>
            </a:b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s (asymptotical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variance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moment correlation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order correlation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for every sub-domain and the overall data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the Metho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ciency Base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losure risk is minimized for the perturbed data set when d = 0, but not in the other cas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variate distribution of the masked data is very different from the original data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s (exact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 V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variance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moment cor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very sub-domain and the entire data se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maintain rank order cor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10EF-1CD2-4B82-9516-DE354AA62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2C31-619B-4035-A6EA-541B8515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known that the data will be used exclusively for traditional, parametric analysis, sufficiency based methods offer the best perform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l other cases, Data shuffling offers the be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E811-0FE1-4203-92C9-5FBF2B2A1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explore this topic fur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initial result suggests that both techniques may even be capable of maintain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 types of relations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 non-confidential variables and the masked variables. Is this true for all case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arbitrary sub-domains are created by using numerical vari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287D-BB84-4DBE-9DC8-4692699E7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ore details on our work, please visit: </a:t>
            </a:r>
            <a:br>
              <a:rPr sz="24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ton.uky.edu/faculty/muralidhar/maskingpaper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CD’s with copies of our paper, presentation, and the data se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e happy to share it with you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rishm@uky.e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athin.sarathy@okstate.e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DD52-E139-412E-9D06-C235CC375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welcome your questions or comments or suggestions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br>
              <a:rPr sz="6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E2DC-CF9F-4117-97BE-FEDE7457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l Data 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ses using the masked data should be very similar to that using the original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of the masking technique should be predictable (theory-based methods are preferable o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C3A9-6CB7-475E-9F53-A772D2CA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al Assessment of Data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ariate (Marginal)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ome sufficient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ufficient statistics are maintained in the masked data, results for analyses based on these statistics using the masked data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arant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exactly the same as that using the origi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on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CFB0-1E71-4268-8EFA-CE63B3772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-domain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component of data utility for Government agencies and users is the need to maintain characteristics of the original data within sub-domains, in the masked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few exceptions, this aspect of data utility has NOT been directly addressed when evaluating techniques for masking nume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1A2B-1821-438A-9D6A-DC5E749F2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red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study, we investigate the performance of two techniques in maintaining sub-domain characteristics when masking numerical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cy Based perturbation approach (Burridge 2003; Muralidhar and Sarathy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uffling (Muralidhar and Sarath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ese two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techniqu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maintain certain characteristics for sub-domains exa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ominate the performance of other techniques for masking numer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6EE0-FD97-494D-BB9A-50F40ED7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fficiency Based Linear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4038480"/>
            <a:ext cx="861048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 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the confidential, non-confidential, and masked data, respectively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resent the noise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s the covariance matrix between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pecification of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ictates the extent of relationship between original and mask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4C31-C987-4801-8AF9-65605B6B8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huffl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US Patent # 720075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52C-96D1-4F9D-9E32-4C7ED7A33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presentation, we will focus on the simulated data. The manuscript has a complete discussion of the results for the Censu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ralidhar</cp:lastModifiedBy>
  <dcterms:modified xsi:type="dcterms:W3CDTF">2007-12-03T18:45:4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