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105-950D-4E76-80DB-D91A80CF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D6A-1C6C-4218-BE42-A7F0C3C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92A-61ED-49D6-AF7F-BA143E8F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7DB-70BB-4C33-B8B0-C417B7C4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F47-70E3-4F0C-ACF3-022DC8E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57E-13FF-4DB8-832A-4475A4D1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D09-C1B2-4049-8B79-C80283B4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B14-77BF-4168-91E7-57FB9AAA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98B-712E-4139-9B41-AAC9753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86C-60BE-4D15-AB4A-102F0DE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A49-FDE9-49A5-BDFF-C5D1894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E5E-1D47-49BA-9C51-AA98519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4F3-9854-46B8-B85B-5A270ACF5A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5EB1-A6A2-4DAC-85EC-7EF163F1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krishm@uky.edu" TargetMode="External"/><Relationship Id="rId2" Type="http://schemas.openxmlformats.org/officeDocument/2006/relationships/hyperlink" Target="mailto:rathin.sarathy@okstate.edu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7555-1E0C-4865-A1EE-9D372108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al Data Masking Techniques for Maintain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Domain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h Muralid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indra Sar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CED-BCDD-453F-9B67-6BCFD3A8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e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bservations = 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tegorical, non-confidential 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(Male or Fe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Status (Married or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Group (1 to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24 sub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umerical, confidenti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alue (Positive, non-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gage balance (Positive, non-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value of assets (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49B-B495-46DB-A190-C0B46886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uff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ufficiency based perturb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ditionally independ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 = 0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oderately rel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 = 0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losely rel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 = 0.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 are the values of the diagonal elements of the diagonal matrix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F5B-ED96-4A14-A335-3184B6E6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performance of techniques in sub-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(assessed using the procedure by Fuller (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(assessed by comparing proportion of variance explained in confidential variables, before &amp; after m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(or univariate)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 betwee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inear relationship betwee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AEC2-4E41-4396-83B2-869A97442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of Identity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3865" r="0" b="0"/>
          <a:stretch/>
        </p:blipFill>
        <p:spPr>
          <a:xfrm>
            <a:off x="457200" y="137160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655C-0122-44D6-A768-2091C0CB9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of Value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rbed data with d = 0.50, 0.90 results in increased predictive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s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A4C4-B37F-4CDB-AAB2-D3C97564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(or Univariate) Distribution (Mortgage Balance) (Entire Data S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FC2A-F178-49A4-ABD6-AA2C3D2CD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group Marginal Distribution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me Value) (Gender = 0, Marital = 0, Age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2F7B-4070-4B83-95FB-153138D5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oment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53C2-8182-4AC8-982D-CE45FA2E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Line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BB4-72BB-47D6-97C0-880130799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k Order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AB8-0AE5-479F-9E85-0511F354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Data Utility for Masking Numer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ly, resul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 analy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the masked data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at using the original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achieve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C9B-6617-4EC0-811D-220249604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the Metho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ata Shuff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losure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ty disclosure risk is 1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ing access to masked data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does not improve predictive 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[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|S,Y) = 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|S)]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n, covariance and in fact the entire univariate distributions of masked data are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same as the original data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for every sub-group and the entire data set</a:t>
            </a:r>
            <a:br>
              <a:rPr sz="2200"/>
            </a:b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s (asymptotical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moment correlation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order correlation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for every sub-domain and the overall data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the Metho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fficiency Base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losure risk is minimized for the perturbed data set when d = 0, but not in the other cas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variate distribution of the masked data is very different from the original data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s (exact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V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moment cor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very sub-domain and the entire data se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maintain rank order cor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5A8-3ACF-4F3D-9F1E-D2D64E175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8F15-FFD7-4CAC-B71D-D3EF2449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known that the data will be used exclusively for traditional, parametric analysis, sufficiency based methods offer the best perform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other cases, Data shuffling offers the be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E1B-D1B9-4BED-9A96-8460E1A9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explore this topic fur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initial result suggests that both techniques may even be capable of maintain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 types of relations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non-confidential variables and the masked variables. Is this true for all case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arbitrary sub-domains are created by using numerical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C43B-5D49-4672-8B9B-0BA9C336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ore details on our work, please visit: </a:t>
            </a:r>
            <a:br>
              <a:rPr sz="24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ton.uky.edu/faculty/muralidhar/maskingpaper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CD’s with copies of our paper, presentation, and the data se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happy to share it with you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ishm@uky.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thin.sarathy@okstate.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0FB-98EB-4647-B19C-C8EF1EA4F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welcome your questions or comments or suggestions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br>
              <a:rPr sz="6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B65D-A8E3-4A16-960E-07969ED8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Data 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es using the masked data should be very similar to that using the original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f the masking technique should be predictable (theory-based methods are preferable 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90A-D486-4AAA-B62C-B27F236A1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al Assessment of Data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ariate (Marginal)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ome sufficient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ufficient statistics are maintained in the masked data, results for analyses based on these statistics using the masked data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arant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exactly the same as that using the origi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on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C083-C0F2-4C32-88ED-74E320D1C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-domain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component of data utility for Government agencies and users is the need to maintain characteristics of the original data within sub-domains, in the masked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few exceptions, this aspect of data utility has NOT been directly addressed when evaluating techniques for masking nume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43A3-28EF-4B0F-9798-309BB575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red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tudy, we investigate the performance of two techniques in maintaining sub-domain characteristics when masking numeric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cy Based perturbation approach (Burridge 2003; Muralidhar and Sarathy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uffling (Muralidhar and Sarath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ese two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techniqu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maintain certain characteristics for sub-domains exa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ominate the performance of other techniques for masking numer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D6C-F679-4086-A88B-92ED0DF38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fficiency Based Linear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861048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 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the confidential, non-confidential, and masked data, respectively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resent the noise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s the covariance matrix between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cification of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ictates the extent of relationship between original and mask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F853-58FA-477A-8C21-16EC5B51F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huff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US Patent # 72007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B6EB-5B84-4EAE-A761-ED362381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presentation, we will focus on the simulated data. The manuscript has a complete discussion of the results for the Censu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ralidhar</cp:lastModifiedBy>
  <dcterms:modified xsi:type="dcterms:W3CDTF">2007-12-03T18:45:4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