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36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4448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03824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6848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flipH="1">
            <a:off x="1739520" y="3619440"/>
            <a:ext cx="74041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93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428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6848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icrodata Access - Discussion Ses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10920" y="5013360"/>
            <a:ext cx="75531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ir: Jane Longhurst (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23520" y="1915920"/>
            <a:ext cx="852012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lnSpc>
                <a:spcPct val="21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ul Jackson (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21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uisa Franconi (ISTA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21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co Hundepool (Statistics Netherla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o are our users and what are their different microdata nee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an different access options meet the needs of user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barri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king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cen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te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should future research be concentra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0T11:57:21Z</dcterms:created>
  <dc:creator>Kitty Maccoll</dc:creator>
  <dc:description/>
  <dc:language>en-US</dc:language>
  <cp:lastModifiedBy>longhjr</cp:lastModifiedBy>
  <dcterms:modified xsi:type="dcterms:W3CDTF">2007-12-12T21:10:05Z</dcterms:modified>
  <cp:revision>81</cp:revision>
  <dc:subject/>
  <dc:title>Looking for a way</dc:title>
</cp:coreProperties>
</file>