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7453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Disclosure detection &amp; control in research environment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9800" y="4519080"/>
            <a:ext cx="64008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ix Ritch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erfindahl ind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9240" y="2362320"/>
            <a:ext cx="852012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as long as at least 3 firms in the indust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ratic term exacerbates domi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econd-largest share is much smaller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re of largest fi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dominance rule of largest unit&lt;45% share doesn’t prevent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tests for safety not very satisfa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51080" y="1652760"/>
                <a:ext cx="36957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349200" y="1073160"/>
            <a:ext cx="8520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e index of industrial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ix Ritch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data Analysis and Us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for National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ix.ritchie@ons.gov.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44 1633 45 58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re research environments specia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ttle disclosure control on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w limits on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predictable, complex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infinity of “special cas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ual review for disclosiveness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s of reviewing research out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application of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en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do this with few resour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the research zo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utputs inherently “saf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herently “unsaf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e on the un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urage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fe versus unsa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6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released unless certain conditions a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afe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’t be released unless demonstrated to be 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= conditions for release app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58920" y="3603600"/>
          <a:ext cx="6886440" cy="2503080"/>
        </p:xfrm>
        <a:graphic>
          <a:graphicData uri="http://schemas.openxmlformats.org/drawingml/2006/table">
            <a:tbl>
              <a:tblPr/>
              <a:tblGrid>
                <a:gridCol w="2295360"/>
                <a:gridCol w="2295360"/>
                <a:gridCol w="229572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nsa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a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Indetermin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ear regressio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findahl index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ata estim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egated ta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ss-product matr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ed covariances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ing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is to understand whether the underlying functional form is safe or un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utput type assessed for risk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discl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losure by differen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aggregates of data are unsa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240" y="1211400"/>
            <a:ext cx="8520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herent disclosiven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348000" y="1930320"/>
                <a:ext cx="1785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598840" y="3233880"/>
                <a:ext cx="334944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30120" y="3638520"/>
            <a:ext cx="85201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04880" indent="-274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ing is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760" y="4668840"/>
            <a:ext cx="85201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04880" indent="-274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data point needs to be ass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reshold/dominance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&gt; resource problem for large data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6360" y="2651040"/>
            <a:ext cx="8520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by differenc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regression coefficients are sa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9240" y="1211400"/>
            <a:ext cx="85201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00280" y="1233360"/>
                <a:ext cx="327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08120" y="3184560"/>
                <a:ext cx="3895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52880" y="2013120"/>
                <a:ext cx="208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03280" y="2506680"/>
            <a:ext cx="8520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’t identify single dat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840" y="1897200"/>
            <a:ext cx="85201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440" y="3665520"/>
            <a:ext cx="85201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isk of differen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right hand variables public and an excellent fit (easily tested, can generate automatic limits on predi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bservations on a single person/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a valid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600" y="-6480"/>
            <a:ext cx="8834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duct/variance-covariance matr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5904000"/>
            <a:ext cx="852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’t create a table for X unless Z=X and W=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ed covariance matrix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23920" y="3324240"/>
                <a:ext cx="4587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51000" y="5143680"/>
                <a:ext cx="3917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WX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W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51000" y="1173240"/>
            <a:ext cx="852012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product matrix M = (X’X)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ies/totals identified by interaction with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for any other categorical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variance-covariance matri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7760" y="3940200"/>
            <a:ext cx="8520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sa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an be inverted to produce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n the more general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2:49:44Z</dcterms:created>
  <dc:creator>Felix Ritchie</dc:creator>
  <dc:description/>
  <dc:language>en-US</dc:language>
  <cp:lastModifiedBy>Felix Ritchie</cp:lastModifiedBy>
  <dcterms:modified xsi:type="dcterms:W3CDTF">2007-12-03T14:42:20Z</dcterms:modified>
  <cp:revision>7</cp:revision>
  <dc:subject/>
  <dc:title>No Slide Title</dc:title>
</cp:coreProperties>
</file>