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94840" y="0"/>
            <a:ext cx="74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</a:t>
            </a:r>
            <a:fld id="{978A6F2F-9BFD-42FD-B18A-4DFF43F9EFF0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67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0026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0" y="662940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99"/>
                </a:solidFill>
                <a:latin typeface="Arial"/>
              </a:rPr>
              <a:t>Version 1.1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67f"/>
                </a:solidFill>
                <a:latin typeface="Arial"/>
              </a:rPr>
              <a:t>Improving our knowledge of metaheuristic approaches for cell suppression problem</a:t>
            </a:r>
            <a:endParaRPr b="1" lang="en-US" sz="34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909440" y="5238720"/>
            <a:ext cx="662292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ndrea Toniolo Staggemei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listair R. Clar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ames Smit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nathan Thomps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Content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8160" indent="-21816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usiness Problem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parison of Existing Methods in Tau-Argu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posed Solu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18160" indent="-21816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riments Design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rameter Optimis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perator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able Safe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erarchical Tab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18160" indent="-21816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xternal bounds in attacker model and tight intervals set in Tau-Argu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pper, Lower, and Sliding Protection levels set in Tau-Argu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Incremental Attacker Heuristi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18160" indent="-21816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usiness Problem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rious methodologies for Cell Suppres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rge instan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erarchical classifica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ultidimensional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requency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putational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arison of Existing Methods in Tau-Argu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ans of assessing fair existing methods and new method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posed Solu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taheuristic vs.. Mathematical Programming – Pros and C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Arial"/>
              </a:rPr>
              <a:t>Experiments Desig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rameter Optimis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RA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T Colon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A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perator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etter operators GREEDY and Descent Metho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lternative Mutation operators 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able Safe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laxed feasibility check vs. strict feasibility check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roved heuristic for checking table safe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 algn="just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ierarchical Ta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 algn="just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ffect hierarchical data structure has on problem/algorithm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Arial"/>
              </a:rPr>
              <a:t>Issue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8160" indent="-21816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ternal bounds in attacker model and tight intervals set in Tau-Argus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ttackers knowledge assump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 upper and lower bounds are s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18160" indent="-21816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Upper, Lower, and Sliding Protection levels set in Tau-Argu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ictly less than constrai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pecial issue on frequency da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happened with Sliding protection information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18160" indent="-21816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Incremental Attacker Heuristic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97680" indent="-271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o should we give protection: primary, of course, but if the secondary cells added are not sufficient protected can I disclose a primary by consequence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ts val="3798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O best method but too slow. Could be implemented in parall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ts val="3798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eedy heuristics promising, good solution quality, extremely quick and easy to adap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ts val="3798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arge dataset, (4000 * 12), solved in 328 second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ts val="3798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 80% of solutions strictly feasi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ts val="3798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n adapt to hierarchical ta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ts val="3798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 datasets that were not strictly feasible, feasibility test resulted in cost increasing by an average of 57%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ich is the best meta-heuristic for solving the relaxed cell suppression problem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RA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are best parameters? How robust are they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ffective on all datas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time consuming is the feasibility test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aries according to problem siz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effective is a “relaxed” feasibility test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ery effective in some c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oes priming the feasibility test IP with a good starting solution produce better results than the feasibility test IP alone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most c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quality of results on different sorts of datasets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aries, no pattern but seemingly worse on larger data. More time consuming on datasets with more sensitive cells / less zero cell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effective is the general method when applied to the heuristic problem?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ery - solutions equal lower bound in most cases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enetic algorithm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n reliably improve on heuristic solu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utperform Local Search approa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ave identified suitable operators/paramet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proach based on treating sensitive cells individually is too slow for large tabl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ed to do more research into grouping approac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ems more scala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ood reasons to believe it may give better solu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hD research underway to look at the problems found and try to develop alternative methods using metaheuristic approaches based on this work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8:38:50Z</dcterms:created>
  <dc:creator>stagga</dc:creator>
  <dc:description/>
  <dc:language>en-US</dc:language>
  <cp:lastModifiedBy>stagga</cp:lastModifiedBy>
  <dcterms:modified xsi:type="dcterms:W3CDTF">2007-12-14T09:26:41Z</dcterms:modified>
  <cp:revision>9</cp:revision>
  <dc:subject/>
  <dc:title>Improving our knowledge of metaheuristic approaches for cell suppression problem</dc:title>
</cp:coreProperties>
</file>