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2366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44480" indent="-22860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038240"/>
            <a:ext cx="9144000" cy="0"/>
          </a:xfrm>
          <a:prstGeom prst="line">
            <a:avLst/>
          </a:prstGeom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94840" y="0"/>
            <a:ext cx="74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</a:t>
            </a:r>
            <a:fld id="{AB8C18E9-2720-43F8-B240-F6884B804E0C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67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 flipH="1">
            <a:off x="1739520" y="3619440"/>
            <a:ext cx="7404120" cy="0"/>
          </a:xfrm>
          <a:prstGeom prst="line">
            <a:avLst/>
          </a:prstGeom>
          <a:ln w="22320">
            <a:solidFill>
              <a:srgbClr val="0026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60" y="662940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99"/>
                </a:solidFill>
                <a:latin typeface="Arial"/>
              </a:rPr>
              <a:t>Version 1.1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30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indent="93600" algn="ctr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indent="44280" algn="ctr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67f"/>
                </a:solidFill>
                <a:latin typeface="Arial"/>
              </a:rPr>
              <a:t>Improving our knowledge of metaheuristic approaches for cell suppression problem</a:t>
            </a:r>
            <a:endParaRPr b="1" lang="en-US" sz="34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909440" y="5238720"/>
            <a:ext cx="662292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ndrea Toniolo Staggemei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listair R. Clar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ames Smit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nathan Thomps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Content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18160" indent="-21816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usiness Problem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parison of Existing Methods in Tau-Argu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posed Solu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18160" indent="-21816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riments Design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rameter Optimis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perator Approac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able Safet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erarchical Tab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18160" indent="-21816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xternal bounds in attacker model and tight intervals set in Tau-Argu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pper, Lower, and Sliding Protection levels set in Tau-Argu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Incremental Attacker Heuristi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18160" indent="-21816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 algn="just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usiness Problem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arious methodologies for Cell Suppres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rge instan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erarchical classifica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ultidimensional dat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requency dat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putational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 algn="just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parison of Existing Methods in Tau-Argu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eans of assessing fair existing methods and new method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 algn="just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posed Solution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etaheuristic vs.. Mathematical Programming – Pros and C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Arial"/>
              </a:rPr>
              <a:t>Experiments Design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 algn="just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rameter Optimisa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RA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NT Colon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A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 algn="just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perator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etter operators GREEDY and Descent Metho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lternative Mutation operators E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 algn="just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able Safe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laxed feasibility check vs. strict feasibility check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roved heuristic for checking table safet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 algn="just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ierarchical Tab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ffect hierarchical data structure has on problem/algorithm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Arial"/>
              </a:rPr>
              <a:t>Issues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18160" indent="-21816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ternal bounds in attacker model and tight intervals set in Tau-Argus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ttackers knowledge assumption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ow upper and lower bounds are s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18160" indent="-21816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Upper, Lower, and Sliding Protection levels set in Tau-Argu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rictly less than constrain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pecial issue on frequency dat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happened with Sliding protection information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18160" indent="-21816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Incremental Attacker Heuristic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o should we give protection: primary, of course, but if the secondary cells added are not sufficient protected can I disclose a primary by consequence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lnSpc>
                <a:spcPts val="3798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O best method but too slow. Could be implemented in parall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lnSpc>
                <a:spcPts val="3798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reedy heuristics promising, good solution quality, extremely quick and easy to adap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lnSpc>
                <a:spcPts val="3798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arge dataset, (4000 * 12), solved in 328 second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lnSpc>
                <a:spcPts val="3798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 80% of solutions strictly feasib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lnSpc>
                <a:spcPts val="3798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n adapt to hierarchical tab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lnSpc>
                <a:spcPts val="3798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 datasets that were not strictly feasible, feasibility test resulted in cost increasing by an average of 57%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499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ich is the best meta-heuristic for solving the relaxed cell suppression problem?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RA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are best parameters? How robust are they?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ffective on all datas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ow time consuming is the feasibility test?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Varies according to problem siz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ow effective is a “relaxed” feasibility test?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Very effective in some c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oes priming the feasibility test IP with a good starting solution produce better results than the feasibility test IP alone?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 most c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is the quality of results on different sorts of datasets?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Varies, no pattern but seemingly worse on larger data. More time consuming on datasets with more sensitive cells / less zero cell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ow effective is the general method when applied to the heuristic problem?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Very - solutions equal lower bound in most cases.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enetic algorithm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n reliably improve on heuristic solution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utperform Local Search approa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ave identified suitable operators/paramet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pproach based on treating sensitive cells individually is too slow for large tabl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eed to do more research into grouping approach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ems more scalab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ood reasons to believe it may give better solution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hD research underway to look at the problems found and try to develop alternative methods using metaheuristic approaches based on this work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08:38:50Z</dcterms:created>
  <dc:creator>stagga</dc:creator>
  <dc:description/>
  <dc:language>en-US</dc:language>
  <cp:lastModifiedBy>stagga</cp:lastModifiedBy>
  <dcterms:modified xsi:type="dcterms:W3CDTF">2007-12-14T09:26:41Z</dcterms:modified>
  <cp:revision>9</cp:revision>
  <dc:subject/>
  <dc:title>Improving our knowledge of metaheuristic approaches for cell suppression problem</dc:title>
</cp:coreProperties>
</file>