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753725" cy="8067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B89-B00D-43EB-B86F-E18D8D20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913932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4832280"/>
            <a:ext cx="913932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562-0314-4373-9E1D-E259E563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483228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22400" y="483228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DBA-21CF-4D23-9CDE-F661167F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29760" y="230472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20000" y="230472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483228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29760" y="483228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20000" y="483228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8C5-04FB-4639-AA88-92ED820D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2304720"/>
            <a:ext cx="91393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27C-147D-4CB9-BDFD-AC20475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913932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DD2-7565-43D4-948B-A2619782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893-F4AE-4192-8D1F-3CCA7F2C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2BD-F976-4239-8EE6-C86B719E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06040" y="717120"/>
            <a:ext cx="913932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509-43D6-4CB2-8520-8CCBF870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483228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433-625C-4720-B911-3AA7BB6C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22400" y="483228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DF2-60AA-4BB4-AC90-B16E016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4832280"/>
            <a:ext cx="913932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08D-C3E7-406F-9A4F-7B0ED8FE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2304720"/>
            <a:ext cx="913932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 fontScale="99000"/>
          </a:bodyPr>
          <a:p>
            <a:pPr marL="398880" indent="-3988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31200">
              <a:spcBef>
                <a:spcPts val="950"/>
              </a:spcBef>
              <a:buClr>
                <a:srgbClr val="000000"/>
              </a:buClr>
              <a:buFont typeface="Times New Roman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920" indent="-26712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62280" indent="-265680">
              <a:spcBef>
                <a:spcPts val="950"/>
              </a:spcBef>
              <a:buClr>
                <a:srgbClr val="000000"/>
              </a:buClr>
              <a:buFont typeface="Times New Roman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2394720" indent="-2653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2394720" indent="-2653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2394720" indent="-2653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7348320"/>
            <a:ext cx="2239920" cy="5382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lstStyle>
            <a:lvl1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73080" y="7348320"/>
            <a:ext cx="3405240" cy="5382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lstStyle>
            <a:lvl1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05800" y="7348320"/>
            <a:ext cx="2239920" cy="5382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lstStyle>
            <a:lvl1pPr indent="0" algn="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fld id="{ABA90A25-C4F3-43DF-92F7-EE1424DD13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41920" y="7345440"/>
            <a:ext cx="3168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 algn="ctr"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Joint UNECE/Eurostat work session on statistical data confidenti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96160" y="7750080"/>
            <a:ext cx="4032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anchester, 17-19 Decemb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hyperlink" Target="http://www.eustat.es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752120" cy="806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55520" y="3952800"/>
            <a:ext cx="940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Dealing with Confidentiality in Dissemination: The experience of the Basque Statistical </a:t>
            </a: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48240" y="6481800"/>
            <a:ext cx="667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UNECE/Eurostat work session on statistical data 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chester, 17-19 Decemb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7360" y="93672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2.2 Previous work on statistical confidenti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11160" y="2016000"/>
          <a:ext cx="9172800" cy="3224160"/>
        </p:xfrm>
        <a:graphic>
          <a:graphicData uri="http://schemas.openxmlformats.org/drawingml/2006/table">
            <a:tbl>
              <a:tblPr/>
              <a:tblGrid>
                <a:gridCol w="2122560"/>
                <a:gridCol w="4110120"/>
                <a:gridCol w="294012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ff training on disclosure control and protection softwa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Workshop on SDC techniques and ARGU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on standard safety criter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report about analysis of sources and internal situ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endance of PSD Conference. (Rome, Decemb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and contac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6040" y="2505240"/>
            <a:ext cx="9139320" cy="1730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urrent situation at EUST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800" y="1728720"/>
            <a:ext cx="964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25160" y="649440"/>
            <a:ext cx="55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1 Confidentiality Boa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668320"/>
            <a:ext cx="628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an expert group to make decisions about data protection and to give advice on confidentiality ma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95520" y="5548320"/>
            <a:ext cx="6288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ighest representatives of each thematic area and the General Directio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f EU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24240" y="2016000"/>
            <a:ext cx="1081080" cy="432000"/>
          </a:xfrm>
          <a:custGeom>
            <a:avLst/>
            <a:gdLst>
              <a:gd name="textAreaLeft" fmla="*/ 189000 w 1081080"/>
              <a:gd name="textAreaRight" fmla="*/ 783720 w 1081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5520" y="4753080"/>
            <a:ext cx="1081080" cy="431640"/>
          </a:xfrm>
          <a:custGeom>
            <a:avLst/>
            <a:gdLst>
              <a:gd name="textAreaLeft" fmla="*/ 189000 w 1081080"/>
              <a:gd name="textAreaRight" fmla="*/ 783720 w 10810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50800" y="1728720"/>
            <a:ext cx="96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in Du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25160" y="649440"/>
            <a:ext cx="55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1 Confidentiality Boa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9880" y="2952720"/>
            <a:ext cx="9217080" cy="31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stablish rules and criteria about confidential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cisions concerning sensitive topics and sensitiv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cuss and approve public-use micro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cide about on-site access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specific queries (research-use microdat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vise other statistical agents from the Basque statistics system on confidentiality matters and data protection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keep a coherent and upd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9520" y="649440"/>
            <a:ext cx="103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00" y="2089080"/>
            <a:ext cx="96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of sources and other experiences - 1s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mpilation of exter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ences from other statistical offices regarding their policies on reporting and implementing confidenti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urces consul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9880" y="4681440"/>
            <a:ext cx="9361440" cy="23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National Statistical Institute – INE (Sp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atistical Office of the European Communities – EUROSTAT (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fice of National Statistics – ONS (United Kingd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ureau of the Census – (United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 Bureau of Statistics – CBS (The Netherl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tistics Canada – StatCan (Ca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9520" y="649440"/>
            <a:ext cx="103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0800" y="2089080"/>
            <a:ext cx="96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of sources and other experiences - 1s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9880" y="3457440"/>
            <a:ext cx="9217080" cy="38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framework is available to all sources consulted and it is considered essential as a star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less common to find information about the sensitivity rules applied and the values for the parameters of such ru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osure control methods are applied to tables and microdata in most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ical thresholds are applied in many cases with diverse values and mainly in microdata rel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all the sources provide microdata products (for research use and/or public 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9520" y="649440"/>
            <a:ext cx="103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0800" y="2089080"/>
            <a:ext cx="96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of sources and other experiences – 2nd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mpila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rotection practices commonly applied by EUSTAT in dissemination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urces consulted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atives of the production areas in EUS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9880" y="5184720"/>
            <a:ext cx="9361440" cy="21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Business stat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- Low frequencies in tables are avoided by means of recodification and manual 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sup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- No concentration rules are applied to magnitud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Social and populatio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- Ad-hoc protection for each particular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720" y="649440"/>
            <a:ext cx="1030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0800" y="2089080"/>
            <a:ext cx="96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crodata protect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5160" y="2665440"/>
            <a:ext cx="9361800" cy="456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crodata files released should not include, in any case, either direct identifiers or person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, microdata files will not include geographical indicators referring to areas under a fixed threshold (10,000 inhabitan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gregation level for other variables included in the file will depend on geographical level released and sensitivity of the variable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n additional protection, disclosure control techniques (perturbation methods, record swapping, noise addition, etc.) could be applied to microdata, always preserving the statistical properties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0720" y="649440"/>
            <a:ext cx="1030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0800" y="2089080"/>
            <a:ext cx="96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bular data protect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5160" y="2665440"/>
            <a:ext cx="9361800" cy="456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 values should be avoided in frequency tables with multiple crossings, where at least one of the variables is sensitive and the geographical indicator refers to an area under a fixed threshold (10,000 inhabitan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minant contributions should be avoided in magnitude tables in order to prevent accurate estimation of sensitive data belonging to a contributor in a cell. Concentration rules will be applied to detect sensitive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ropriate protection techniques for tabular data (recoding of variables, primary and secondary cell suppression, etc.) will be applied in order to protect sensitive cells from disclo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0720" y="649440"/>
            <a:ext cx="1030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800" y="2089080"/>
            <a:ext cx="96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90008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ing confidentia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heck the fulfillment of safety criteria in the dissemination products of EU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urces checked: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istical tables and data bank (www.eustat.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ecking point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 scope and sensitivity of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0008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0008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5680" y="7920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5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3880" y="1297080"/>
            <a:ext cx="10128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gal framework and previous work on statistical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rrent situation at EUS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fidentiality Boar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ablishing confidentiality criteria in disseminatio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ecking confidentia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uture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wards a safe-standard micro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n-site access facility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040" y="2505240"/>
            <a:ext cx="9139320" cy="1730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4. Future tas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5080" y="649440"/>
            <a:ext cx="103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wards a safe-standard microdata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00" y="2089080"/>
            <a:ext cx="96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standard microdata files which will be available for the general public but with all the guarantees of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spect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9880" y="3816360"/>
            <a:ext cx="9361440" cy="34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of statistics (census or sampling surv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 structure of the data (i.e.: families and individu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ical indicator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ing variables and possible combinations (identifying ke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of detail (number of categories) of the variable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e variables included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osure control methods to be a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ss measure (Utility mea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5080" y="649440"/>
            <a:ext cx="103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4.2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-site access fac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800" y="2089080"/>
            <a:ext cx="96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provide users (mainly researchers) with an ‘in-situ’ workstation where microdata could be accessed under specific cond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spect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9880" y="3816360"/>
            <a:ext cx="9361440" cy="200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of user (general public, researcher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of the data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 of data access (confidentiality agreements, limited access, passwords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spects (location, number of computers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35080" y="649440"/>
            <a:ext cx="103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5.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0800" y="2089080"/>
            <a:ext cx="96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880" y="2016000"/>
            <a:ext cx="9361440" cy="34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STAT has been working on the development of standard criteria to protect statistical products: microdata and tabula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stablishment of 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se confidentiality rules has been a hard process, and the discussion about what should be considered as identifiable or sensitive is still ongoing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riteria should be updated 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tinuous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flecting changes in the legal framework, in the technological environment and in social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752120" cy="8066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9894960" y="741060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06400" y="717480"/>
            <a:ext cx="9394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05160" y="2181240"/>
            <a:ext cx="59227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ore information i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eustat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hanks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3880" y="7345440"/>
            <a:ext cx="3168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ook Antiqua"/>
              </a:rPr>
              <a:t>Joint UNECE/Eurostat work session on statistical data confidenti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6840" y="7761240"/>
            <a:ext cx="270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Manchester, 17-19 Decemb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040" y="2505240"/>
            <a:ext cx="9139320" cy="1730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00" y="1728720"/>
            <a:ext cx="96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main goals of a statistical agency is to maintain and provide statistical confidentiality for its respon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dentiality should be preserved in all the stages of statistical production and especially in the dissemination phas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77680" y="64944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1.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7520" y="3745080"/>
            <a:ext cx="576360" cy="938160"/>
          </a:xfrm>
          <a:prstGeom prst="downArrow">
            <a:avLst>
              <a:gd name="adj1" fmla="val 50000"/>
              <a:gd name="adj2" fmla="val 40693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7520" y="4826160"/>
            <a:ext cx="75470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le 5 of the European Statistics Code of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…] Instructions and guidelines are provided on the protection of statistical confidentiality in the production and dissemination processes. These guidelines are spelled out in writing and made known to the public […]”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8240" y="2881440"/>
            <a:ext cx="9577440" cy="274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A comprehensive </a:t>
            </a:r>
            <a:r>
              <a:rPr b="1" lang="eu-ES" sz="2400" spc="-1" strike="noStrike">
                <a:solidFill>
                  <a:srgbClr val="000000"/>
                </a:solidFill>
                <a:latin typeface="Times New Roman"/>
              </a:rPr>
              <a:t>confidentiality policy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has been developed at Basque Statistics Office (EUSTAT) that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 protection criteria for dissemination products (tables, micro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titution of an exper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itment to future tasks: public-use microfiles and on-sit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480" y="64944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1.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7960" y="189396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 order to fulfil this Princip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6040" y="2505240"/>
            <a:ext cx="9139320" cy="1730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gal framework and previous work on statistical confidenti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0800" y="1657440"/>
            <a:ext cx="96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que Statistics Law (23rd April, Law 4/1986). Chapter 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c Law of Personal Data Protection (13th December, Law 15/1999) defines the concept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ersonal Da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pecially Protected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ropean Directive 95/46/E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protection of individuals with regard to the processing of personal da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fines the concep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dentifiable pers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90000" y="720720"/>
            <a:ext cx="445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2.1 Legal fra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6240" y="2089080"/>
            <a:ext cx="6553440" cy="1008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[…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he duty to keep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atistical secre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rotects any identifiable data as belonging to an specific person […]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47880" y="3889440"/>
            <a:ext cx="6553080" cy="1008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sonal Data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y information related to an identified or identifiable perso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0240" y="5761080"/>
            <a:ext cx="8064360" cy="17272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[…]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an identifiable person is one who can be identified,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directly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indirectly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, in particular by reference to an identification number or to one or more factors specific to his physical, physiological, mental, economic, cultural or social identity.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[…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7360" y="93672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2.2 Previous work on statistical confidenti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84240" y="2376360"/>
          <a:ext cx="8967960" cy="4330800"/>
        </p:xfrm>
        <a:graphic>
          <a:graphicData uri="http://schemas.openxmlformats.org/drawingml/2006/table">
            <a:tbl>
              <a:tblPr/>
              <a:tblGrid>
                <a:gridCol w="1837080"/>
                <a:gridCol w="3709800"/>
                <a:gridCol w="342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1631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-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 fellowship on data protection techniques and statistical confidenti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ical notebook on “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Data Protection Techniques”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dited by EUST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tional Seminar on “Confidentiality and statistical data protection techniques” organized by EUST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cturer: L.H. C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ation: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Confidentiality and statistical data protection techniques”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.H. Cox edited by EUST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tember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ity Analysis of Census 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report about sensitive crosses and dissemination propo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67360" y="93672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2.2 Previous work on statistical confidenti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9880" y="1800360"/>
          <a:ext cx="9172440" cy="5011560"/>
        </p:xfrm>
        <a:graphic>
          <a:graphicData uri="http://schemas.openxmlformats.org/drawingml/2006/table">
            <a:tbl>
              <a:tblPr/>
              <a:tblGrid>
                <a:gridCol w="2122560"/>
                <a:gridCol w="4109760"/>
                <a:gridCol w="29401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tion in The Joint UNECE/Eurostat Work Session on Statistical Data Confidentiality (Skopje, Macedonia, 14-16 Mar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: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A comparative test for several threshold values in frequency tables: A Tau-Argus performance example.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ular Data protection of preliminary results of the Census 2001, using Tau-Argus (optimal method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ation of suppression patterns for frequency tables with fine geographical level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C project pursui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ing of Argus softwa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e 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endance of PSD (Privacy in Statistical Databases) Conference. (Barcelona, Spain, 6-9 Ju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74600"/>
                          <a:tab algn="l" pos="2149560"/>
                          <a:tab algn="l" pos="3224160"/>
                          <a:tab algn="l" pos="4299120"/>
                          <a:tab algn="l" pos="5373720"/>
                          <a:tab algn="l" pos="6448320"/>
                          <a:tab algn="l" pos="7523280"/>
                          <a:tab algn="l" pos="8597880"/>
                          <a:tab algn="l" pos="9672480"/>
                          <a:tab algn="l" pos="10747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32:18Z</dcterms:created>
  <dc:creator>mikel</dc:creator>
  <dc:description/>
  <dc:language>en-US</dc:language>
  <cp:lastModifiedBy>CRISTINA</cp:lastModifiedBy>
  <cp:lastPrinted>2003-02-27T13:02:46Z</cp:lastPrinted>
  <dcterms:modified xsi:type="dcterms:W3CDTF">2007-12-02T19:34:22Z</dcterms:modified>
  <cp:revision>130</cp:revision>
  <dc:subject/>
  <dc:title>Sin título de diapositiva</dc:title>
</cp:coreProperties>
</file>