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996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068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0924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996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068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9240" y="-6480"/>
            <a:ext cx="852012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8996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7068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0924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8996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7068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9240" y="-6480"/>
            <a:ext cx="852012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236600" indent="-22860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44480" indent="-22860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1038240"/>
            <a:ext cx="9144000" cy="0"/>
          </a:xfrm>
          <a:prstGeom prst="line">
            <a:avLst/>
          </a:prstGeom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394840" y="0"/>
            <a:ext cx="749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Slide </a:t>
            </a:r>
            <a:fld id="{9AD274B0-1406-4ABD-AF95-98638EF8F6F2}" type="slidenum">
              <a:rPr b="0" lang="en-US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61960" y="3768480"/>
            <a:ext cx="6848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67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 flipH="1">
            <a:off x="1739520" y="3619440"/>
            <a:ext cx="7404120" cy="0"/>
          </a:xfrm>
          <a:prstGeom prst="line">
            <a:avLst/>
          </a:prstGeom>
          <a:ln w="22320">
            <a:solidFill>
              <a:srgbClr val="0026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360" y="6629400"/>
            <a:ext cx="76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99"/>
                </a:solidFill>
                <a:latin typeface="Arial"/>
              </a:rPr>
              <a:t>Version 1.1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30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indent="93600" algn="ctr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indent="44280" algn="ctr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5640" y="4005000"/>
            <a:ext cx="71946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67f"/>
                </a:solidFill>
                <a:latin typeface="Arial"/>
              </a:rPr>
              <a:t>Tau-Argus and SuperCROSS</a:t>
            </a:r>
            <a:br>
              <a:rPr sz="3400"/>
            </a:br>
            <a:r>
              <a:rPr b="1" lang="en-US" sz="1800" spc="-1" strike="noStrike">
                <a:solidFill>
                  <a:srgbClr val="00267f"/>
                </a:solidFill>
                <a:latin typeface="Arial"/>
              </a:rPr>
              <a:t>A practical example using the UK Business Register Unit data</a:t>
            </a:r>
            <a:endParaRPr b="1" lang="en-US" sz="18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908000" y="5084640"/>
            <a:ext cx="64008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Andrea Staggemei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hilip Lowthian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Grant L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Business Benefits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au-Argus is powerful disclosure control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sers do not need to understand SDC or how rules are implement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DC process is automated, significantly reduces manual effor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educes risk of human error and possible disclos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asily adapted to other business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Some Issues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able Desig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perCROSS allows complete flexibil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oesn’t always make sense for Tau-Argu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issing totals are a key concer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able siz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olving tim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dministration Requiremen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crease in efficienc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crease in risk of disclos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inimal training for user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e wary of table design limitation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Further Information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20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20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For further information, please contact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20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20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andrea.staggemeier@ons.gsi.gov.uk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20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20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hilip.lowthian@ons.gsi.gov.uk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20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20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grant.lee@spacetimeresearch.co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Questions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0" algn="ctr">
              <a:spcBef>
                <a:spcPts val="76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6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30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9600" y="1211040"/>
            <a:ext cx="418320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4920" y="1211040"/>
            <a:ext cx="84344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usiness Problem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au Argus / SuperCROS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etail of Solu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au-Argus in Batch Mod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perCROSS and Tau-Argus Integra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ontrolled Rounding Examp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usiness Benefi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ssu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urther Informa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Business Problem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anual proces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ime consuming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High risk of human erro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refore higher risk of disclos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isk reduced by exhaustive manual che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Tau-Argus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oftware tool enabling Statistical Disclosure Control (SDC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teractive or Batch mo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afety rules (threshold and dominance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trolled Rounding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uppress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History of Tau-Argu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urrently used by BRU within ONS, and other data suppliers to Neighbourhood Statistic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SuperCROSS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Part of SuperSTAR suite from Space-Time Research</a:t>
            </a:r>
            <a:r>
              <a:rPr b="0" lang="en-GB" sz="2800" spc="-1" strike="noStrike" baseline="30000">
                <a:solidFill>
                  <a:srgbClr val="000099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 (Melbourne, Australia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Desktop tabul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Easy-to-use drag and drop interfac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Used by BRU, Labour Force Survey, and Census within ON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Used by many other statistical offices around the world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99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www.spacetimeresearch.co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Solution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054160" y="1268280"/>
            <a:ext cx="50389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Tau-Argus in Batch Mode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UI or batch interfac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tch file contains parameters and pointers to data/metadata fil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Integration with SuperCROSS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sers have familiar tabulation environmen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lect desired rule from drop-down list (rules set up by in-house experts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00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ule applied to table, and results presented to user in SuperCROS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7f"/>
                </a:solidFill>
                <a:latin typeface="Arial"/>
              </a:rPr>
              <a:t>Controlled Rounding Example</a:t>
            </a:r>
            <a:endParaRPr b="1" lang="en-US" sz="3200" spc="-1" strike="noStrike">
              <a:solidFill>
                <a:srgbClr val="00267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43280" y="2505240"/>
            <a:ext cx="2628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43280" y="2505240"/>
            <a:ext cx="2628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43280" y="2505240"/>
            <a:ext cx="2628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43280" y="2505240"/>
            <a:ext cx="2628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rcRect l="17561" t="17510" r="17036" b="6872"/>
          <a:stretch/>
        </p:blipFill>
        <p:spPr>
          <a:xfrm>
            <a:off x="1220760" y="1085760"/>
            <a:ext cx="658188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0:46:00Z</dcterms:created>
  <dc:creator>Grant Lee</dc:creator>
  <dc:description/>
  <dc:language>en-US</dc:language>
  <cp:lastModifiedBy>Grant Lee</cp:lastModifiedBy>
  <dcterms:modified xsi:type="dcterms:W3CDTF">2007-11-30T14:25:05Z</dcterms:modified>
  <cp:revision>34</cp:revision>
  <dc:subject/>
  <dc:title>SuperCROSS &amp;  Migration Statistics</dc:title>
</cp:coreProperties>
</file>