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4840" y="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</a:t>
            </a:r>
            <a:fld id="{E9F2BB7A-6BDF-4140-B712-D35B8BC20878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002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0" y="662940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Version 1.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4005000"/>
            <a:ext cx="71946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67f"/>
                </a:solidFill>
                <a:latin typeface="Arial"/>
              </a:rPr>
              <a:t>Tau-Argus and SuperCROSS</a:t>
            </a:r>
            <a:br>
              <a:rPr sz="3400"/>
            </a:br>
            <a:r>
              <a:rPr b="1" lang="en-US" sz="1800" spc="-1" strike="noStrike">
                <a:solidFill>
                  <a:srgbClr val="00267f"/>
                </a:solidFill>
                <a:latin typeface="Arial"/>
              </a:rPr>
              <a:t>A practical example using the UK Business Register Unit data</a:t>
            </a:r>
            <a:endParaRPr b="1" lang="en-US" sz="1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08000" y="508464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ndrea Staggemei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hilip Lowthia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rant L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Business Benefit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u-Argus is powerful disclosure control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rs do not need to understand SDC or how rules are implement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DC process is automated, significantly reduces manual effo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duces risk of human error and possible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sily adapted to other business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ome Issu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ble Desig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perCROSS allows complete flexibil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esn’t always make sense for Tau-Argu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ssing totals are a key concer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ble siz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lving t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ministration Requiremen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rease in efficienc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crease in risk of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imal training for us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 wary of table design limit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or further information, please contact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ndrea.staggemeier@ons.gsi.gov.u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hilip.lowthian@ons.gsi.gov.u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rant.lee@spacetimeresearch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0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4920" y="1211040"/>
            <a:ext cx="84344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usiness Proble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u Argus / SuperCROS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tail of Solu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u-Argus in Batch Mod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perCROSS and Tau-Argus Integr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trolled Rounding Examp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usiness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urther Inform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Business Problem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anual proc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me consum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gh risk of human err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refore higher risk of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isk reduced by exhaustive manual che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au-Argu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ftware tool enabling Statistical Disclosure Control (SDC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active or Batch mo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afety rules (threshold and dominance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rolled Round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y of Tau-Arg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urrently used by BRU within ONS, and other data suppliers to Neighbourhood Statist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uperCROS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art of SuperSTAR suite from Space-Time Research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(Melbourne, Australia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Desktop tabul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asy-to-use drag and drop interfa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sed by BRU, Labour Force Survey, and Census within 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sed by many other statistical offices around the worl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ww.spacetimeresearch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olu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4160" y="1268280"/>
            <a:ext cx="5038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au-Argus in Batch Mod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UI or batch interfa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tch file contains parameters and pointers to data/metadata fi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Integration with SuperCROS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rs have familiar tabulation environ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lect desired rule from drop-down list (rules set up by in-house expert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ule applied to table, and results presented to user in SuperCRO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trolled Rounding Exampl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17561" t="17510" r="17036" b="6872"/>
          <a:stretch/>
        </p:blipFill>
        <p:spPr>
          <a:xfrm>
            <a:off x="1220760" y="1085760"/>
            <a:ext cx="65818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0:46:00Z</dcterms:created>
  <dc:creator>Grant Lee</dc:creator>
  <dc:description/>
  <dc:language>en-US</dc:language>
  <cp:lastModifiedBy>Grant Lee</cp:lastModifiedBy>
  <dcterms:modified xsi:type="dcterms:W3CDTF">2007-11-30T14:25:05Z</dcterms:modified>
  <cp:revision>34</cp:revision>
  <dc:subject/>
  <dc:title>SuperCROSS &amp;  Migration Statistics</dc:title>
</cp:coreProperties>
</file>