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DBF7-8BE4-4BB6-88E3-E652D657F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193760" y="4560480"/>
            <a:ext cx="49276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r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L rule – No cell with less tha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t up at a survey organization that can offer services across agencies to store their data sets. Services provid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sion of researcher access to sensitive microdata (researcher could access the data through secured internet access onsite at survey organization or remotel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istical protection of the 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ssemination of information to the research communit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ction with federal consortium of data providers to Data Encla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ency-specific data protection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193760" y="4560480"/>
            <a:ext cx="49276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r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L rule – No cell with less tha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FC64-61CE-4E79-8CB0-15526BDB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3450-ABBA-42C5-A76E-4F60BC8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D0A7-F25E-44F7-93BB-A0638BCC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30CE-D300-432F-A70B-5A54623E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6C6-6EDB-4325-818B-C9FD20DD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2B3-5039-43FE-AE16-453E34C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FB6-D289-40AE-9BFA-1B75BD94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461-D53E-44CB-BEBA-8B3661D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F1BC-2DB7-43F4-9016-B0A8EAD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6867-EC22-404A-92A5-06086AC5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97F8-B012-437F-94E5-41CB690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5848-952C-4E8E-84FA-71245AA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2942-41A6-490D-AADA-7746AB3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629-148D-496C-99F3-5BDEC54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396-C025-4DE6-943C-1C15EE3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37F-25DB-4CCD-A7E5-FAB9117E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A66-FA8E-43E2-9BBC-3AB8ED7F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A6C2-DB43-421C-93AA-A5EA175E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7882-6A4F-4B71-AEBD-8C0EFD8E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AB55-E17D-4845-9CF2-E48D5A0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C81B-48D9-4495-80E5-C323CFB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4385-DD0A-43C6-AED8-BB175A7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F6F7-9E0A-4D41-9772-F4AECCE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243A-D1DA-4B2B-B070-2FBE5A1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404-2CF2-440E-AD03-2C0BD00FF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717-F7D9-48A8-8475-A367E6BFE6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mproving researcher access to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SDA’s Agricultural Resourc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nagement Survey</a:t>
            </a: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Charles Towe and Mitch Morehart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Economic Research Service, USD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Secondary disclos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Algorithm (equation check) determines additional cells for obfuscation in order to keep primary disclosure intac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) Factored in solving from totals and across cells using relationship of data in a single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) Could not prevent cross table sear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1676520" y="5638680"/>
          <a:ext cx="3430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56386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790920" y="1278000"/>
            <a:ext cx="6910200" cy="4364280"/>
            <a:chOff x="790920" y="1278000"/>
            <a:chExt cx="6910200" cy="4364280"/>
          </a:xfrm>
        </p:grpSpPr>
        <p:sp>
          <p:nvSpPr>
            <p:cNvPr id="153" name=""/>
            <p:cNvSpPr/>
            <p:nvPr/>
          </p:nvSpPr>
          <p:spPr>
            <a:xfrm rot="5400000">
              <a:off x="881640" y="2096280"/>
              <a:ext cx="1091160" cy="12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63880" y="2550960"/>
              <a:ext cx="727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09800" y="1641600"/>
              <a:ext cx="109116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960" y="1278000"/>
              <a:ext cx="2000160" cy="72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Collect list of violating 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1440" y="1823400"/>
              <a:ext cx="1818000" cy="1818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isclo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Rules on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(pl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tatistical reliability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09960" y="200520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0960" y="2369160"/>
              <a:ext cx="1818000" cy="909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Equ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9960" y="3278520"/>
              <a:ext cx="10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6840" y="3823920"/>
              <a:ext cx="1818000" cy="163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Arial"/>
                </a:rPr>
                <a:t>Identify the method for selecting complementary c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427120" y="4550400"/>
              <a:ext cx="909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0920" y="4006080"/>
              <a:ext cx="1636560" cy="1090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Done!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Build table for displ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0960" y="3642120"/>
              <a:ext cx="18180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Key 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09960" y="4187520"/>
              <a:ext cx="108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2760" y="4369680"/>
              <a:ext cx="14544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Final Li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09960" y="4915080"/>
              <a:ext cx="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00960" y="5096880"/>
              <a:ext cx="1818000" cy="54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Arial"/>
                </a:rPr>
                <a:t>Candidate Li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54840" y="4187520"/>
              <a:ext cx="54540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155200" y="473328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54840" y="5096520"/>
              <a:ext cx="54540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2120" y="228600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Arial"/>
              </a:rPr>
              <a:t>Data request m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440" y="30492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and complementary cell suppress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009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inal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built in 2003 and presented at a peer review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ighted the need to disseminate data further and illustrated the risks associ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ed in approval of a weighting scheme for all data which, theoretically, eliminates need of secondary suppre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generated each data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r response time, wh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greater graphic capa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4191120"/>
            <a:ext cx="38098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eGov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4660920"/>
            <a:ext cx="6019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Testing &amp;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103720"/>
            <a:ext cx="556272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Data pr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5546880"/>
            <a:ext cx="556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Application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6033960"/>
            <a:ext cx="72392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280" y="1798560"/>
            <a:ext cx="1355760" cy="1493640"/>
            <a:chOff x="152280" y="1798560"/>
            <a:chExt cx="1355760" cy="1493640"/>
          </a:xfrm>
        </p:grpSpPr>
        <p:sp>
          <p:nvSpPr>
            <p:cNvPr id="183" name=""/>
            <p:cNvSpPr/>
            <p:nvPr/>
          </p:nvSpPr>
          <p:spPr>
            <a:xfrm>
              <a:off x="152280" y="2103120"/>
              <a:ext cx="1355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/21/0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ickof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am Char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dentify Goals, Project Plan, &amp; 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86000" y="1798560"/>
            <a:ext cx="990720" cy="1128960"/>
            <a:chOff x="2286000" y="1798560"/>
            <a:chExt cx="990720" cy="1128960"/>
          </a:xfrm>
        </p:grpSpPr>
        <p:sp>
          <p:nvSpPr>
            <p:cNvPr id="186" name=""/>
            <p:cNvSpPr/>
            <p:nvPr/>
          </p:nvSpPr>
          <p:spPr>
            <a:xfrm>
              <a:off x="2286000" y="210348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/25/0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rst prototyp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sent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17985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67080" y="1798560"/>
            <a:ext cx="990360" cy="1493640"/>
            <a:chOff x="4267080" y="1798560"/>
            <a:chExt cx="990360" cy="1493640"/>
          </a:xfrm>
        </p:grpSpPr>
        <p:sp>
          <p:nvSpPr>
            <p:cNvPr id="189" name=""/>
            <p:cNvSpPr/>
            <p:nvPr/>
          </p:nvSpPr>
          <p:spPr>
            <a:xfrm>
              <a:off x="458748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2103120"/>
              <a:ext cx="990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/29/04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-2 Release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td, secure Extranet by IP addr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934320" y="1798560"/>
            <a:ext cx="1066680" cy="1114560"/>
            <a:chOff x="6934320" y="1798560"/>
            <a:chExt cx="1066680" cy="1114560"/>
          </a:xfrm>
        </p:grpSpPr>
        <p:sp>
          <p:nvSpPr>
            <p:cNvPr id="192" name=""/>
            <p:cNvSpPr/>
            <p:nvPr/>
          </p:nvSpPr>
          <p:spPr>
            <a:xfrm>
              <a:off x="6934320" y="20890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/24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xtranet Tool Relea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8880" y="17985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666880" y="1523880"/>
            <a:ext cx="533520" cy="503280"/>
            <a:chOff x="2666880" y="1523880"/>
            <a:chExt cx="533520" cy="503280"/>
          </a:xfrm>
        </p:grpSpPr>
        <p:sp>
          <p:nvSpPr>
            <p:cNvPr id="195" name=""/>
            <p:cNvSpPr/>
            <p:nvPr/>
          </p:nvSpPr>
          <p:spPr>
            <a:xfrm>
              <a:off x="2666880" y="1523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17226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Project Timeline and Mile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0" y="1828800"/>
            <a:ext cx="838080" cy="2165400"/>
            <a:chOff x="4572000" y="1828800"/>
            <a:chExt cx="838080" cy="2165400"/>
          </a:xfrm>
        </p:grpSpPr>
        <p:sp>
          <p:nvSpPr>
            <p:cNvPr id="200" name=""/>
            <p:cNvSpPr/>
            <p:nvPr/>
          </p:nvSpPr>
          <p:spPr>
            <a:xfrm>
              <a:off x="4572000" y="3352680"/>
              <a:ext cx="83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/10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er 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562720" y="18288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" y="1798560"/>
            <a:ext cx="8610480" cy="2378160"/>
            <a:chOff x="457200" y="1798560"/>
            <a:chExt cx="8610480" cy="2378160"/>
          </a:xfrm>
        </p:grpSpPr>
        <p:grpSp>
          <p:nvGrpSpPr>
            <p:cNvPr id="204" name=""/>
            <p:cNvGrpSpPr/>
            <p:nvPr/>
          </p:nvGrpSpPr>
          <p:grpSpPr>
            <a:xfrm>
              <a:off x="7940520" y="1798560"/>
              <a:ext cx="1127160" cy="2223720"/>
              <a:chOff x="7940520" y="1798560"/>
              <a:chExt cx="1127160" cy="222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7940520" y="2103120"/>
                <a:ext cx="112716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1/9/0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ailored Reporting Tool Public Releas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blic website overhaul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305920" y="179856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486400" y="1798560"/>
              <a:ext cx="1066680" cy="1493640"/>
              <a:chOff x="5486400" y="1798560"/>
              <a:chExt cx="1066680" cy="1493640"/>
            </a:xfrm>
          </p:grpSpPr>
          <p:sp>
            <p:nvSpPr>
              <p:cNvPr id="208" name=""/>
              <p:cNvSpPr/>
              <p:nvPr/>
            </p:nvSpPr>
            <p:spPr>
              <a:xfrm>
                <a:off x="5486400" y="2103120"/>
                <a:ext cx="106668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/30/04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-3 Relea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ltd, secure Extranet open outside of 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7160" y="1798560"/>
                <a:ext cx="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57200" y="1798560"/>
              <a:ext cx="8458200" cy="1493640"/>
              <a:chOff x="457200" y="1798560"/>
              <a:chExt cx="8458200" cy="14936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521160" y="1798560"/>
                <a:ext cx="898560" cy="1493640"/>
                <a:chOff x="3521160" y="1798560"/>
                <a:chExt cx="898560" cy="1493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521160" y="2103120"/>
                  <a:ext cx="89856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/26/04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V-1 Release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 Intranet, by IP addres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26080" y="17985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57200" y="1798560"/>
                <a:ext cx="8458200" cy="304560"/>
                <a:chOff x="457200" y="1798560"/>
                <a:chExt cx="8458200" cy="304560"/>
              </a:xfrm>
            </p:grpSpPr>
            <p:sp>
              <p:nvSpPr>
                <p:cNvPr id="215" name=""/>
                <p:cNvSpPr/>
                <p:nvPr/>
              </p:nvSpPr>
              <p:spPr>
                <a:xfrm rot="5400000">
                  <a:off x="8533080" y="172080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7200" y="1874520"/>
                  <a:ext cx="80773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00"/>
                    </a:gs>
                    <a:gs pos="100000">
                      <a:srgbClr val="00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5257800" y="33526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/21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ise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3352680"/>
              <a:ext cx="838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/5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urity Evalua-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182880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4320" y="3352680"/>
              <a:ext cx="83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/21/0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udit logg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30592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5582"/>
          <a:stretch/>
        </p:blipFill>
        <p:spPr>
          <a:xfrm>
            <a:off x="838080" y="228600"/>
            <a:ext cx="6116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83059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457200"/>
          <a:ext cx="8680320" cy="57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8032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94280"/>
            <a:ext cx="8231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Enclave Basi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mote Access to sensitive micro d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tect Confidenti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rchive, Index and Curate Micro-d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by NIST/AT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nt live July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articipants/data producers: NIST/ATP, USDA/ERS (pilot), Kauffman Found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e remote acc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ory: a collaborative environment for researchers to work, share code, ideas &amp; work with online discovery too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ized metadata documentation techniques (IHSN’s microdata management toolkit; DDI complianc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7AEA-8AAC-411E-AC41-54CF8C6B9B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Agricultural Resource Management Surv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S is USDA’s primary survey for the </a:t>
            </a:r>
            <a:r>
              <a:rPr b="1" i="1" lang="en-US" sz="2800" spc="-1" strike="noStrike">
                <a:solidFill>
                  <a:srgbClr val="a886e0"/>
                </a:solidFill>
                <a:latin typeface="Arial"/>
              </a:rPr>
              <a:t>annu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on of data from farm operators about the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m--ownership, governance, management, an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ice of practices, inputs, and expenditures to produce crop and livestock commod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usehold--demographic attributes, economic and financi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68440"/>
            <a:ext cx="86868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NORC Data Enclave: </a:t>
            </a:r>
            <a:br>
              <a:rPr sz="4000"/>
            </a:br>
            <a:r>
              <a:rPr b="1" lang="en-GB" sz="2400" spc="-1" strike="noStrike">
                <a:solidFill>
                  <a:srgbClr val="e5e5ff"/>
                </a:solidFill>
                <a:latin typeface="Arial"/>
              </a:rPr>
              <a:t>Mechanics of Portfolio Approach to Protection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sion of access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chnical protection (IT and operation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ency-specific data protection requirements (Leg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istical protection (Statist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er training (Education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481D-00C5-4963-A430-19504A17A4D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6765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mandates: Income for farms, Costs for commodities, Status of family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U.S. National Economic Accounts (GDP, Personal Inc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ing data to respond to USD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ies &amp;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ing research to inform decision makers on a variety of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94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rogram Activities Supported by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(pre 2004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S is complex survey that has existed, in one form or another, for approximately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96 the data collection methodology has been standard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4952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delive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oject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user to customize table requ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2 way t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tate level an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graphical representation of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dvanced users access to suite of regression-type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this to users in an environment that protects survey participants confidentiality to ensure future particip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king at individual c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disclo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lving from totals or known formul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bining data from different tables and sour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non-suppressed information to infer th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ch more difficult to che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ary and complementa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 suppression algori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Primary disclos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Threshold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cells with less than 3 units (enterpris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Dominance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m of the sample minus the two largest observations (C) cannot exceed 60% of the largest value, or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&gt; 3/5 * 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1676520" y="5638680"/>
          <a:ext cx="34308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56386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00200" y="42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9480" y="4199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572000"/>
            <a:ext cx="838080" cy="175248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724280"/>
            <a:ext cx="762120" cy="160020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5562720"/>
            <a:ext cx="761760" cy="76176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5791320"/>
            <a:ext cx="914400" cy="53316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5867280"/>
            <a:ext cx="6858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6172200"/>
            <a:ext cx="685800" cy="15228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5029200"/>
            <a:ext cx="3124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19112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19112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419112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760" y="387000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wo largest observ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5720" y="449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7440" y="571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5880" y="571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6240" y="5790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1360" y="586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3480" y="586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8560" y="594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20:40Z</dcterms:created>
  <dc:creator> </dc:creator>
  <dc:description/>
  <dc:language>en-US</dc:language>
  <cp:lastModifiedBy>CTOWE</cp:lastModifiedBy>
  <dcterms:modified xsi:type="dcterms:W3CDTF">2007-12-12T18:09:57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