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3B74D-8E21-4A50-954C-57510CB77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193760" y="4560480"/>
            <a:ext cx="492768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 r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L rule – No cell with less tha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t up at a survey organization that can offer services across agencies to store their data sets. Services provided would 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vision of researcher access to sensitive microdata (researcher could access the data through secured internet access onsite at survey organization or remotel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istical protection of the 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ssemination of information to the research communit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ction with federal consortium of data providers to Data Encla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gency-specific data protection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193760" y="4560480"/>
            <a:ext cx="492768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 r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L rule – No cell with less tha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0A80-7C4F-4460-BD25-624EA146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0437-CD8E-461E-93E5-24B5B60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6993-A0C2-49B6-8F8E-88AACD93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DD4A-E5F7-4186-95A2-98E3F0B8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9B35-D865-4215-9129-F170D00A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CCAF-C3D5-41C3-8708-B49C9F5F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D43A-A56C-4D8E-870C-8ED865E3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4601-0EC0-4633-8692-B9EE335A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A423-AF02-463F-8F86-0D0D03CC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DB17-84D8-45BD-A644-73169B8F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929E-C98E-4B90-9402-5F9DD23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52ED-B2BD-4C91-BD4C-E14ED37B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244A-372B-494E-ACE1-172DAD29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4BB7-D1F2-40DD-8921-371D555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D05D-D0DA-4C3A-B466-524A22E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93C6-52BF-4F17-8ED4-B9F0383B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C01B-CAB0-46A6-A8F6-98BAB68D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515A-27AA-4AFB-A43F-7D0F5FDF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A9DE-AF7D-4E17-ADEA-21091C14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C9FF-9AC3-4AE2-95F1-D6CB42C2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F78E-DE57-40D2-B7C4-9AB83813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D6ED-AEEA-4B42-8F0D-325C4B6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6672-FBCF-4295-8916-FFA6A7E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31B8-ACF6-4097-8365-46A6F2D7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AA25-3B38-4A6E-982D-BA0AC2584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EA9-CF49-47FB-A486-27AD36A642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mproving researcher access to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SDA’s Agricultural Resourc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nagement Survey</a:t>
            </a: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Charles Towe and Mitch Morehart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Economic Research Service, USD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Secondary disclos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) Algorithm (equation check) determines additional cells for obfuscation in order to keep primary disclosure intact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) Factored in solving from totals and across cells using relationship of data in a single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) Could not prevent cross table sear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-1676520" y="5638680"/>
          <a:ext cx="34308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56386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790920" y="1278000"/>
            <a:ext cx="6910200" cy="4364280"/>
            <a:chOff x="790920" y="1278000"/>
            <a:chExt cx="6910200" cy="4364280"/>
          </a:xfrm>
        </p:grpSpPr>
        <p:sp>
          <p:nvSpPr>
            <p:cNvPr id="153" name=""/>
            <p:cNvSpPr/>
            <p:nvPr/>
          </p:nvSpPr>
          <p:spPr>
            <a:xfrm rot="5400000">
              <a:off x="881640" y="2096280"/>
              <a:ext cx="1091160" cy="12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63880" y="2550960"/>
              <a:ext cx="727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609800" y="1641600"/>
              <a:ext cx="1091160" cy="90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960" y="1278000"/>
              <a:ext cx="2000160" cy="72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Arial"/>
                </a:rPr>
                <a:t>Collect list of violating 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91440" y="1823400"/>
              <a:ext cx="1818000" cy="18183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Prima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Disclos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Rules on 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(pl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statistical reliability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09960" y="200520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00960" y="2369160"/>
              <a:ext cx="1818000" cy="909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514"/>
                  </a:solidFill>
                  <a:latin typeface="Arial"/>
                </a:rPr>
                <a:t>Equ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514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09960" y="3278520"/>
              <a:ext cx="10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6840" y="3823920"/>
              <a:ext cx="1818000" cy="163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Arial"/>
                </a:rPr>
                <a:t>Identify the method for selecting complementary c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427120" y="4550400"/>
              <a:ext cx="909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0920" y="4006080"/>
              <a:ext cx="1636560" cy="10908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Done!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Build table for displ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0960" y="3642120"/>
              <a:ext cx="1818000" cy="54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Arial"/>
                </a:rPr>
                <a:t>Key 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09960" y="4187520"/>
              <a:ext cx="108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2760" y="4369680"/>
              <a:ext cx="1454400" cy="54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Arial"/>
                </a:rPr>
                <a:t>Final Li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09960" y="4915080"/>
              <a:ext cx="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00960" y="5096880"/>
              <a:ext cx="1818000" cy="54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Arial"/>
                </a:rPr>
                <a:t>Candidate Li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154840" y="4187520"/>
              <a:ext cx="54540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155200" y="473328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154840" y="5096520"/>
              <a:ext cx="54540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62120" y="228600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Arial"/>
              </a:rPr>
              <a:t>Data request m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2440" y="304920"/>
            <a:ext cx="82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and complementary cell suppress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9009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inal 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e built in 2003 and presented at a peer review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ighted the need to disseminate data further and illustrated the risks associ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ed in approval of a weighting scheme for all data which, theoretically, eliminates need of secondary suppres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generated each data po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er response time, wh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greater graphic capab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4191120"/>
            <a:ext cx="38098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eGov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4660920"/>
            <a:ext cx="6019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Testing &amp;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103720"/>
            <a:ext cx="55627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Data pr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5546880"/>
            <a:ext cx="5562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Application func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6033960"/>
            <a:ext cx="72392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2280" y="1798560"/>
            <a:ext cx="1355760" cy="1493640"/>
            <a:chOff x="152280" y="1798560"/>
            <a:chExt cx="1355760" cy="1493640"/>
          </a:xfrm>
        </p:grpSpPr>
        <p:sp>
          <p:nvSpPr>
            <p:cNvPr id="183" name=""/>
            <p:cNvSpPr/>
            <p:nvPr/>
          </p:nvSpPr>
          <p:spPr>
            <a:xfrm>
              <a:off x="152280" y="2103120"/>
              <a:ext cx="1355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/21/0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ickof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am Char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dentify Goals, Project Plan, &amp; Resour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17985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86000" y="1798560"/>
            <a:ext cx="990720" cy="1128960"/>
            <a:chOff x="2286000" y="1798560"/>
            <a:chExt cx="990720" cy="1128960"/>
          </a:xfrm>
        </p:grpSpPr>
        <p:sp>
          <p:nvSpPr>
            <p:cNvPr id="186" name=""/>
            <p:cNvSpPr/>
            <p:nvPr/>
          </p:nvSpPr>
          <p:spPr>
            <a:xfrm>
              <a:off x="2286000" y="2103480"/>
              <a:ext cx="99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/25/0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rst prototyp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sent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66880" y="17985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67080" y="1798560"/>
            <a:ext cx="990360" cy="1493640"/>
            <a:chOff x="4267080" y="1798560"/>
            <a:chExt cx="990360" cy="1493640"/>
          </a:xfrm>
        </p:grpSpPr>
        <p:sp>
          <p:nvSpPr>
            <p:cNvPr id="189" name=""/>
            <p:cNvSpPr/>
            <p:nvPr/>
          </p:nvSpPr>
          <p:spPr>
            <a:xfrm>
              <a:off x="4587480" y="17985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2103120"/>
              <a:ext cx="990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/29/04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V-2 Release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td, secure Extranet by IP addr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934320" y="1798560"/>
            <a:ext cx="1066680" cy="1114560"/>
            <a:chOff x="6934320" y="1798560"/>
            <a:chExt cx="1066680" cy="1114560"/>
          </a:xfrm>
        </p:grpSpPr>
        <p:sp>
          <p:nvSpPr>
            <p:cNvPr id="192" name=""/>
            <p:cNvSpPr/>
            <p:nvPr/>
          </p:nvSpPr>
          <p:spPr>
            <a:xfrm>
              <a:off x="6934320" y="208908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/24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xtranet Tool Releas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38880" y="17985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666880" y="1523880"/>
            <a:ext cx="533520" cy="503280"/>
            <a:chOff x="2666880" y="1523880"/>
            <a:chExt cx="533520" cy="503280"/>
          </a:xfrm>
        </p:grpSpPr>
        <p:sp>
          <p:nvSpPr>
            <p:cNvPr id="195" name=""/>
            <p:cNvSpPr/>
            <p:nvPr/>
          </p:nvSpPr>
          <p:spPr>
            <a:xfrm>
              <a:off x="2666880" y="1523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17226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Project Timeline and Mile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0" y="1828800"/>
            <a:ext cx="838080" cy="2165400"/>
            <a:chOff x="4572000" y="1828800"/>
            <a:chExt cx="838080" cy="2165400"/>
          </a:xfrm>
        </p:grpSpPr>
        <p:sp>
          <p:nvSpPr>
            <p:cNvPr id="200" name=""/>
            <p:cNvSpPr/>
            <p:nvPr/>
          </p:nvSpPr>
          <p:spPr>
            <a:xfrm>
              <a:off x="4572000" y="3352680"/>
              <a:ext cx="83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/10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eer Revie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182880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562720" y="18288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" y="1798560"/>
            <a:ext cx="8610480" cy="2378160"/>
            <a:chOff x="457200" y="1798560"/>
            <a:chExt cx="8610480" cy="2378160"/>
          </a:xfrm>
        </p:grpSpPr>
        <p:grpSp>
          <p:nvGrpSpPr>
            <p:cNvPr id="204" name=""/>
            <p:cNvGrpSpPr/>
            <p:nvPr/>
          </p:nvGrpSpPr>
          <p:grpSpPr>
            <a:xfrm>
              <a:off x="7940520" y="1798560"/>
              <a:ext cx="1127160" cy="2223720"/>
              <a:chOff x="7940520" y="1798560"/>
              <a:chExt cx="1127160" cy="2223720"/>
            </a:xfrm>
          </p:grpSpPr>
          <p:sp>
            <p:nvSpPr>
              <p:cNvPr id="205" name=""/>
              <p:cNvSpPr/>
              <p:nvPr/>
            </p:nvSpPr>
            <p:spPr>
              <a:xfrm>
                <a:off x="7940520" y="2103120"/>
                <a:ext cx="112716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1/9/0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ailored Reporting Tool Public Releas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blic website overhaul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305920" y="1798560"/>
                <a:ext cx="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486400" y="1798560"/>
              <a:ext cx="1066680" cy="1493640"/>
              <a:chOff x="5486400" y="1798560"/>
              <a:chExt cx="1066680" cy="1493640"/>
            </a:xfrm>
          </p:grpSpPr>
          <p:sp>
            <p:nvSpPr>
              <p:cNvPr id="208" name=""/>
              <p:cNvSpPr/>
              <p:nvPr/>
            </p:nvSpPr>
            <p:spPr>
              <a:xfrm>
                <a:off x="5486400" y="2103120"/>
                <a:ext cx="106668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/30/04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-3 Relea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ltd, secure Extranet open outside of ER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07160" y="1798560"/>
                <a:ext cx="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57200" y="1798560"/>
              <a:ext cx="8458200" cy="1493640"/>
              <a:chOff x="457200" y="1798560"/>
              <a:chExt cx="8458200" cy="149364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3521160" y="1798560"/>
                <a:ext cx="898560" cy="1493640"/>
                <a:chOff x="3521160" y="1798560"/>
                <a:chExt cx="898560" cy="14936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521160" y="2103120"/>
                  <a:ext cx="898560" cy="11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/26/04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V-1 Release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 Intranet, by IP addres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26080" y="17985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57200" y="1798560"/>
                <a:ext cx="8458200" cy="304560"/>
                <a:chOff x="457200" y="1798560"/>
                <a:chExt cx="8458200" cy="304560"/>
              </a:xfrm>
            </p:grpSpPr>
            <p:sp>
              <p:nvSpPr>
                <p:cNvPr id="215" name=""/>
                <p:cNvSpPr/>
                <p:nvPr/>
              </p:nvSpPr>
              <p:spPr>
                <a:xfrm rot="5400000">
                  <a:off x="8533080" y="172080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7200" y="1874520"/>
                  <a:ext cx="807732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00"/>
                    </a:gs>
                    <a:gs pos="100000">
                      <a:srgbClr val="00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5257800" y="3352680"/>
              <a:ext cx="1066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/21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ise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mplement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5720" y="182880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520" y="3352680"/>
              <a:ext cx="838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/5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urity Evalua-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182880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34320" y="3352680"/>
              <a:ext cx="83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/21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udit logg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30592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5582"/>
          <a:stretch/>
        </p:blipFill>
        <p:spPr>
          <a:xfrm>
            <a:off x="838080" y="228600"/>
            <a:ext cx="6116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83059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457200"/>
          <a:ext cx="8680320" cy="57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8032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94280"/>
            <a:ext cx="8231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Enclave Basic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mote Access to sensitive micro da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tect Confidentia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rchive, Index and Curate Micro-da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ed by NIST/AT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nt live July 200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participants/data producers: NIST/ATP, USDA/ERS (pilot), Kauffman Found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e remote acc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ory: a collaborative environment for researchers to work, share code, ideas &amp; work with online discovery too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ized metadata documentation techniques (IHSN’s microdata management toolkit; DDI complianc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7DC7-5F65-46B7-8495-B0D149F30D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80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Agricultural Resource Management Surv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S is USDA’s primary survey for the </a:t>
            </a:r>
            <a:r>
              <a:rPr b="1" i="1" lang="en-US" sz="2800" spc="-1" strike="noStrike">
                <a:solidFill>
                  <a:srgbClr val="a886e0"/>
                </a:solidFill>
                <a:latin typeface="Arial"/>
              </a:rPr>
              <a:t>annual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on of data from farm operators about the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m--ownership, governance, management, and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ice of practices, inputs, and expenditures to produce crop and livestock commod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usehold--demographic attributes, economic and financi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68440"/>
            <a:ext cx="86868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NORC Data Enclave: </a:t>
            </a:r>
            <a:br>
              <a:rPr sz="4000"/>
            </a:br>
            <a:r>
              <a:rPr b="1" lang="en-GB" sz="2400" spc="-1" strike="noStrike">
                <a:solidFill>
                  <a:srgbClr val="e5e5ff"/>
                </a:solidFill>
                <a:latin typeface="Arial"/>
              </a:rPr>
              <a:t>Mechanics of Portfolio Approach to Protection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sion of access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chnical protection (IT and operation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gency-specific data protection requirements (Leg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istical protection (Statistic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er training (Education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B45A-6B35-4752-8F38-2B0D0E3A94C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676520"/>
            <a:ext cx="76197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ding to mandates: Income for farms, Costs for commodities, Status of family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for U.S. National Economic Accounts (GDP, Personal Inc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ing data to respond to USD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ies &amp;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ing research to inform decision makers on a variety of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94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rogram Activities Supported by 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delivery (pre 2004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S is complex survey that has existed, in one form or another, for approximately 20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1996 the data collection methodology has been standardiz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deliver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4952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deliver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83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oject go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user to customize table requ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2 way t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tate level analy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graphical representation of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dvanced users access to suite of regression-type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this to users in an environment that protects survey participants confidentiality to ensure future particip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m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king at individual c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disclo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lving from totals or known formul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bining data from different tables and sour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non-suppressed information to infer th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ch more difficult to che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mary and complementa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ll suppression algori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Primary disclos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Threshold ru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cells with less than 3 units (enterpris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Dominance ru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m of the sample minus the two largest observations (C) cannot exceed 60% of the largest value, or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&gt; 3/5 * 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-1676520" y="5638680"/>
          <a:ext cx="34308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56386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600200" y="42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59480" y="4199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572000"/>
            <a:ext cx="838080" cy="175248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4724280"/>
            <a:ext cx="762120" cy="160020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5562720"/>
            <a:ext cx="761760" cy="76176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5791320"/>
            <a:ext cx="914400" cy="53316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5867280"/>
            <a:ext cx="685800" cy="45720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6172200"/>
            <a:ext cx="685800" cy="15228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5029200"/>
            <a:ext cx="3124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5029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029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19112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19112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419112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760" y="387000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wo largest observ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5720" y="449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7440" y="571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5880" y="571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6240" y="57902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31360" y="586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3480" y="586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8560" y="594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9:20:40Z</dcterms:created>
  <dc:creator> </dc:creator>
  <dc:description/>
  <dc:language>en-US</dc:language>
  <cp:lastModifiedBy>CTOWE</cp:lastModifiedBy>
  <dcterms:modified xsi:type="dcterms:W3CDTF">2007-12-12T18:09:57Z</dcterms:modified>
  <cp:revision>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