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1593-18DC-44B5-9C03-EFCD8F59B2DF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 u="sng">
                <a:solidFill>
                  <a:srgbClr val="ff0000"/>
                </a:solidFill>
                <a:uFillTx/>
                <a:latin typeface="Times New Roman"/>
              </a:rPr>
              <a:t>Eleis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Round of Introd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Intro to folder and gu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0AC-2ECC-478E-80DD-3C26F330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920" y="3915000"/>
            <a:ext cx="864216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C96-2748-414E-93B7-7BD42C3E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36C-5F89-4DB7-B980-0C2C3E48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040" y="981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0" y="981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920" y="3915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040" y="3915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4800" y="3915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0AB-080A-4F0A-81E4-1943E679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19D9-399F-4608-A7DF-F13D7436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0FEE-454F-46B9-A222-42FEC838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8A3E-4624-4290-AB54-F159502D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D8BC-46F3-4D8B-BBAE-D89C9A71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71B9-F04F-43F3-A095-71391AB0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6F3F-5B8B-4DE5-8707-91692A5D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092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1644-7701-40D7-9F78-3FB52D3E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838-D60D-448D-91E9-6AAEBCF6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928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FE0C-1D7F-4073-A2AC-7B79FF73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920" y="3915000"/>
            <a:ext cx="864216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9C64-C009-4EA3-9688-48D496A5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0920" y="3915000"/>
            <a:ext cx="864216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47E4-5C51-4A66-BA55-A2F823DD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092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928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87D8-752D-45A5-8F4F-C4CAF1F8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040" y="981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0" y="981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0920" y="3915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040" y="3915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4800" y="3915000"/>
            <a:ext cx="27824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8B88-405B-457D-A4CE-8A2C9128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8EA-3E55-4CD7-AF49-AC28AF05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1C6-C8AC-4E3A-A0AD-37D89FA9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DE0-B52D-411D-A1C3-D0AB0348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598-5D6A-46CD-A088-83B82EA8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92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A40-C9EE-45FF-93E9-6E5FE44F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915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885-2D93-490A-A739-4F828A19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981000"/>
            <a:ext cx="4217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915000"/>
            <a:ext cx="864216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D40-E1B7-4C0C-8324-D91E554E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57CF-EE70-44C6-A17D-6D553D9EC9F4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E7B4-7733-4DF5-94A1-6C2A137DA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Census tables: </a:t>
            </a:r>
            <a:br>
              <a:rPr sz="3200"/>
            </a:b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utility and safety via a cell thresho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00000" y="3573000"/>
            <a:ext cx="73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ffff"/>
                </a:solidFill>
                <a:latin typeface="Arial"/>
              </a:rPr>
              <a:t>Mike Camden, Paul Cowie, Lisa Henle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ffff"/>
                </a:solidFill>
                <a:latin typeface="Arial"/>
              </a:rPr>
              <a:t>Statistics New Zeal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869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Joint UNECE/Eurostat Work Session</a:t>
            </a:r>
            <a:br>
              <a:rPr sz="2400"/>
            </a:b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n Statistical Data Confidentiality</a:t>
            </a:r>
            <a:br>
              <a:rPr sz="2400"/>
            </a:b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7-19 Dec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609300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A Short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3C26-D487-43B3-A341-86AC22973E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The Measures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S, PR, SD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A measure of Risk:</a:t>
            </a:r>
            <a:br>
              <a:rPr sz="2800"/>
            </a:br>
            <a:r>
              <a:rPr b="1" lang="en-US" sz="2800" spc="-1" strike="noStrike">
                <a:solidFill>
                  <a:srgbClr val="003333"/>
                </a:solidFill>
                <a:latin typeface="Arial"/>
              </a:rPr>
              <a:t>PS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= Proportion of cells Sparse = P(0) + P(1)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Two measures of Utility:</a:t>
            </a:r>
            <a:br>
              <a:rPr sz="2800"/>
            </a:br>
            <a:r>
              <a:rPr b="1" lang="en-US" sz="2800" spc="-1" strike="noStrike">
                <a:solidFill>
                  <a:srgbClr val="003333"/>
                </a:solidFill>
                <a:latin typeface="Arial"/>
              </a:rPr>
              <a:t>PR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= Proportion of persons 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            Rescued by Threshold </a:t>
            </a:r>
            <a:br>
              <a:rPr sz="2800"/>
            </a:br>
            <a:r>
              <a:rPr b="1" lang="en-US" sz="2800" spc="-1" strike="noStrike">
                <a:solidFill>
                  <a:srgbClr val="003333"/>
                </a:solidFill>
                <a:latin typeface="Arial"/>
              </a:rPr>
              <a:t>SD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= Standard Deviation of noise 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            from any rule set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  assuming simple recalculation 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       of suppressed counts by users.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We use the distribution of AU size to: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test the rules and 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plan for future rules, geographies, classifications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1B1-1B2F-4C61-A386-A69D2D6832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PS: Sparseness and our area unit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6092640"/>
            <a:ext cx="864216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33"/>
                </a:solidFill>
                <a:latin typeface="Arial"/>
              </a:rPr>
              <a:t>Where is the minimum for a new geog. classification?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4344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50920" y="45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ff"/>
                </a:solidFill>
                <a:latin typeface="Arial"/>
              </a:rPr>
              <a:t>Poiss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76360" y="17002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Mean cell siz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551664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Safety | Utlil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92000" y="59500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619280" y="53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714-B3A6-4AF2-B304-1C003D8B30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PR: Proportion of people Rescued</a:t>
            </a:r>
            <a:br>
              <a:rPr sz="3600"/>
            </a:b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by Thresholding; and our area units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6165720"/>
            <a:ext cx="8353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Is Threshold worthwhile? Is MCS still needed?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135640" cy="470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 flipV="1">
            <a:off x="1115640" y="4005360"/>
            <a:ext cx="20876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79280" y="2492280"/>
            <a:ext cx="3384360" cy="36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35D-A6B9-4DD1-B11F-3CC7CD3414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SD: Noise from R, RT, RM, RMT, for AUs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613728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RMT is a complex rule set, but reduces noise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816360" cy="2390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387504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7130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500720" y="3573360"/>
            <a:ext cx="3958920" cy="2519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92720" y="270828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4653000"/>
            <a:ext cx="396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B4C-B4EF-4DC1-A11C-97544B2CA7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Messages from the data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here possible,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design geographical classifications for outpu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here possible,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design other classifications for output,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ith several versions per variable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(and avoid differencing)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e complexity of our rule set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gives gains in utility and safety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574-2E1D-41BF-9AED-2F32E83E5F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For our 2011 Census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r tables,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e’re open to other approaches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e value our users’ view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r microdata access, we’re open to options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our 3 data laboratories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remote access (about to start: ABS software)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onfidentialised Unit Record Files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and specific CURFS for Travel etc </a:t>
            </a:r>
            <a:br>
              <a:rPr sz="3200"/>
            </a:b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C10-3F84-4F14-889D-BFFF73D98B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Confidentiality via design and complexity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o optimise </a:t>
            </a:r>
            <a:r>
              <a:rPr b="0" lang="en-US" sz="3200" spc="-1" strike="noStrike" u="sng">
                <a:solidFill>
                  <a:srgbClr val="003333"/>
                </a:solidFill>
                <a:uFillTx/>
                <a:latin typeface="Arial"/>
              </a:rPr>
              <a:t>utility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3333"/>
                </a:solidFill>
                <a:uFillTx/>
                <a:latin typeface="Arial"/>
              </a:rPr>
              <a:t>safety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, we act at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design stage: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on geographical and other classifications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dissemination stage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complex risks and user needs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justify complex rules.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o guide us, we need evidence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rom within the data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rom needs of our users.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5805360"/>
            <a:ext cx="864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9933"/>
                </a:solidFill>
                <a:latin typeface="Arial"/>
              </a:rPr>
              <a:t>      </a:t>
            </a:r>
            <a:r>
              <a:rPr b="1" lang="en-NZ" sz="3600" spc="-1" strike="noStrike">
                <a:solidFill>
                  <a:srgbClr val="999933"/>
                </a:solidFill>
                <a:latin typeface="Arial"/>
              </a:rPr>
              <a:t>The End of the Overview (almost)</a:t>
            </a: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695-0722-495E-85D6-2907EF59C0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Possible measures of Sparseness, by Size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168720" cy="1963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168720" cy="1962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0920" y="4797360"/>
            <a:ext cx="3097080" cy="1919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04000" y="1125360"/>
            <a:ext cx="1943280" cy="12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1 Main Urban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ff9933"/>
                </a:solidFill>
                <a:latin typeface="Arial"/>
              </a:rPr>
              <a:t>2 Secondary Urban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ffff00"/>
                </a:solidFill>
                <a:latin typeface="Arial"/>
              </a:rPr>
              <a:t>3 Minor Urban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9900"/>
                </a:solidFill>
                <a:latin typeface="Arial"/>
              </a:rPr>
              <a:t>4 R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cc6600"/>
                </a:solidFill>
                <a:latin typeface="Arial"/>
              </a:rPr>
              <a:t>5 Other Rur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ff"/>
                </a:solidFill>
                <a:latin typeface="Arial"/>
              </a:rPr>
              <a:t>6 Wat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141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808080"/>
                </a:solidFill>
                <a:latin typeface="Arial"/>
              </a:rPr>
              <a:t>P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5373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808080"/>
                </a:solidFill>
                <a:latin typeface="Arial"/>
              </a:rPr>
              <a:t>P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3429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808080"/>
                </a:solidFill>
                <a:latin typeface="Arial"/>
              </a:rPr>
              <a:t>P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2781360"/>
            <a:ext cx="4968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Is there a reason why P(1) and P(2) are so fl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hat are the implications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073-449E-4C5B-812F-D5CF7C9400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Answers for our Underl</a:t>
            </a:r>
            <a:r>
              <a:rPr b="1" lang="en-US" sz="3600" spc="-1" strike="noStrike">
                <a:solidFill>
                  <a:srgbClr val="999933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ing Questions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Our rules for 2006 Census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are they OK re </a:t>
            </a:r>
            <a:r>
              <a:rPr b="0" lang="en-US" sz="3200" spc="-1" strike="noStrike" u="sng">
                <a:solidFill>
                  <a:srgbClr val="003333"/>
                </a:solidFill>
                <a:uFillTx/>
                <a:latin typeface="Arial"/>
              </a:rPr>
              <a:t>Utility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3333"/>
                </a:solidFill>
                <a:uFillTx/>
                <a:latin typeface="Arial"/>
              </a:rPr>
              <a:t>Safety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bably!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Our plans for 2011 Census: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how can we get the best of both worlds?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perfect set of rule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smart new geographical classification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smart new classifications for other variable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delicious wide-ranging product-mix!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5877000"/>
            <a:ext cx="21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AEF-369B-4C46-A96F-1E516ACE90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Contents of Overview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Our geographical classification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Our path towards utility and safety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A two-way table: Travel (to work) x Age (5 yrs)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Three measures of safety and utility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Conclusion: complexity in needs and solution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Visualising our geographies, measures, path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Messages from the data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Our 2011 Census: option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Confidentiality via design and complexity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2F4-0110-4EB3-8CAD-577C270FC6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Geography matters: the planet and NZ</a:t>
            </a: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6049800" cy="561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812000" y="981000"/>
            <a:ext cx="0" cy="3743280"/>
          </a:xfrm>
          <a:prstGeom prst="line">
            <a:avLst/>
          </a:prstGeom>
          <a:ln w="381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059280" y="4869000"/>
            <a:ext cx="4752720" cy="0"/>
          </a:xfrm>
          <a:prstGeom prst="line">
            <a:avLst/>
          </a:prstGeom>
          <a:ln w="381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522936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33"/>
                </a:solidFill>
                <a:latin typeface="Times New Roman"/>
              </a:rPr>
              <a:t>4,249,737 people</a:t>
            </a:r>
            <a:br>
              <a:rPr sz="2400"/>
            </a:br>
            <a:r>
              <a:rPr b="1" lang="en-US" sz="2400" spc="-1" strike="noStrike">
                <a:solidFill>
                  <a:srgbClr val="999933"/>
                </a:solidFill>
                <a:latin typeface="Times New Roman"/>
              </a:rPr>
              <a:t>on 7 Ma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94C-0A30-46F4-A93E-2320CCDF4E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Geographies: NZ has: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regional authorities</a:t>
            </a: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rritorial authoritie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89120" y="981000"/>
            <a:ext cx="3965760" cy="561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411280" y="1268280"/>
            <a:ext cx="2737080" cy="244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300360" y="1197000"/>
            <a:ext cx="647640" cy="1440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141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8560" y="1989000"/>
            <a:ext cx="493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Geography does matter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Statistical Data Confidenti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we apply th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to each geographica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separate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we know people </a:t>
            </a:r>
            <a:br>
              <a:rPr sz="2400"/>
            </a:b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b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in our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9a5e"/>
                </a:solidFill>
                <a:latin typeface="Bitstream Vera Sans"/>
              </a:rPr>
              <a:t>Geograph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DEE-279B-4035-883A-3D7FCA601A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Geographies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rea units</a:t>
            </a: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hblock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839880"/>
            <a:ext cx="8424720" cy="5949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7093080" y="620640"/>
            <a:ext cx="1366560" cy="3959280"/>
          </a:xfrm>
          <a:prstGeom prst="line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796000" y="907920"/>
            <a:ext cx="936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634920" y="907920"/>
            <a:ext cx="289080" cy="936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484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 Authority: Wellington 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83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,918 in 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24360" y="981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,384 in 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4E9-8C1A-4C25-AD6B-B3AA6FDC7D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Distribution of Area Units Size (Pop)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551664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mall areas result in sparse tabl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Area units were not designed for dissemination!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939960"/>
            <a:ext cx="8209080" cy="4727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 flipV="1">
            <a:off x="1115640" y="5084280"/>
            <a:ext cx="934920" cy="576360"/>
          </a:xfrm>
          <a:prstGeom prst="line">
            <a:avLst/>
          </a:prstGeom>
          <a:ln w="38160">
            <a:solidFill>
              <a:srgbClr val="4e78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916280"/>
            <a:ext cx="10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78f0"/>
                </a:solidFill>
                <a:latin typeface="Times New Roman"/>
              </a:rPr>
              <a:t>With 1-99 people: 107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042920" y="3933720"/>
            <a:ext cx="216000" cy="503280"/>
          </a:xfrm>
          <a:prstGeom prst="line">
            <a:avLst/>
          </a:prstGeom>
          <a:ln w="38160">
            <a:solidFill>
              <a:srgbClr val="4e78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CC8-3588-40F0-A36E-6302CBC92C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3280" y="537372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9a5e"/>
                </a:solidFill>
                <a:latin typeface="Times New Roman"/>
              </a:rPr>
              <a:t>Age</a:t>
            </a:r>
            <a:br>
              <a:rPr sz="2400"/>
            </a:br>
            <a:r>
              <a:rPr b="1" lang="en-US" sz="2400" spc="-1" strike="noStrike">
                <a:solidFill>
                  <a:srgbClr val="689a5e"/>
                </a:solidFill>
                <a:latin typeface="Times New Roman"/>
              </a:rPr>
              <a:t>(5 yr g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4724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9a5e"/>
                </a:solidFill>
                <a:latin typeface="Times New Roman"/>
              </a:rPr>
              <a:t>Travel to work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229360"/>
            <a:ext cx="2808360" cy="792000"/>
          </a:xfrm>
          <a:prstGeom prst="line">
            <a:avLst/>
          </a:prstGeom>
          <a:ln w="9360">
            <a:solidFill>
              <a:srgbClr val="1ea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6000" y="4076640"/>
            <a:ext cx="1152360" cy="1657440"/>
          </a:xfrm>
          <a:prstGeom prst="line">
            <a:avLst/>
          </a:prstGeom>
          <a:ln w="9360">
            <a:solidFill>
              <a:srgbClr val="1ea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60280"/>
            <a:ext cx="871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Area Unit: Riccarton: 268 people</a:t>
            </a:r>
            <a:br>
              <a:rPr sz="3600"/>
            </a:b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Age x Travel to work mode: 121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155736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Sparseness: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  P(0) = 45%   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     P(1) = 19%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        P(2) =  7%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A good measure?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PS = P(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P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51280" y="1844640"/>
            <a:ext cx="649080" cy="1728720"/>
          </a:xfrm>
          <a:prstGeom prst="line">
            <a:avLst/>
          </a:prstGeom>
          <a:ln w="93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628164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Mean Cell Size = 268/121 &gt; 2; the table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DE0-D1A2-4F35-BEFD-9EEC10807C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Utility and Risk: Rules and Measure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parseness is common,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especially with small-population geographi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r our 2006 Census, to increase both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data </a:t>
            </a:r>
            <a:r>
              <a:rPr b="0" lang="en-US" sz="3200" spc="-1" strike="noStrike" u="sng">
                <a:solidFill>
                  <a:srgbClr val="003333"/>
                </a:solidFill>
                <a:uFillTx/>
                <a:latin typeface="Arial"/>
              </a:rPr>
              <a:t>utility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3333"/>
                </a:solidFill>
                <a:uFillTx/>
                <a:latin typeface="Arial"/>
              </a:rPr>
              <a:t>safety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from disclosure risk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e have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a 3-part rule set (2007)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and a set of 3 measur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e rule set …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33F-84A5-497A-A9E8-C7C647CBF3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For sparseness, a 3 part rule set: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, M, T</a:t>
            </a: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561080" cy="553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48000" y="1557360"/>
            <a:ext cx="0" cy="7920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2781360"/>
            <a:ext cx="0" cy="93492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2852640"/>
            <a:ext cx="0" cy="14400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4149720"/>
            <a:ext cx="0" cy="14400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AFE-429C-438F-9035-7C5E35D34E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1:15:15Z</dcterms:created>
  <dc:creator>   </dc:creator>
  <dc:description/>
  <dc:language>en-US</dc:language>
  <cp:lastModifiedBy>Technical Support Services</cp:lastModifiedBy>
  <dcterms:modified xsi:type="dcterms:W3CDTF">2007-11-29T20:41:52Z</dcterms:modified>
  <cp:revision>157</cp:revision>
  <dc:subject/>
  <dc:title>PowerPoint Presentation</dc:title>
</cp:coreProperties>
</file>