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4529-B7E4-4441-9DFE-A3A0DC1DA7A3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 u="sng">
                <a:solidFill>
                  <a:srgbClr val="ff0000"/>
                </a:solidFill>
                <a:uFillTx/>
                <a:latin typeface="Times New Roman"/>
              </a:rPr>
              <a:t>Eleis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Round of Introdu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Intro to folder and gu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FB01-931A-40DE-9809-9DF874C1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0920" y="3915000"/>
            <a:ext cx="864216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48CB-704C-409A-AE8F-1FE73B20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981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915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9280" y="3915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17BB-A63A-47D5-ADE3-B1FA0FD3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27824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3040" y="981000"/>
            <a:ext cx="27824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0" y="981000"/>
            <a:ext cx="27824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0920" y="3915000"/>
            <a:ext cx="27824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3040" y="3915000"/>
            <a:ext cx="27824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4800" y="3915000"/>
            <a:ext cx="27824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A734-3D48-4595-9F3C-F698D405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E913-6D92-4574-9584-8218695B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5FEF-2555-4A6E-A283-BEB5C490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E07D-8FFB-4C84-99A6-2E61C6BD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2170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9280" y="981000"/>
            <a:ext cx="42170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1CE9-77F0-47CC-B8D3-02DED91B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A5DF-77BF-489D-B9D2-C327DCD3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E0D3-8CB8-44FF-8162-3989520C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9280" y="981000"/>
            <a:ext cx="42170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0920" y="3915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B59F-6946-412C-9F46-34DFFD78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DEE9-11FC-463B-BF36-DE8709AC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2170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9280" y="981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9280" y="3915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A476-5479-4D75-85A4-90B2D654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9280" y="981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0920" y="3915000"/>
            <a:ext cx="864216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F6D8-A8C2-4592-ABBB-8FE250A0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0920" y="3915000"/>
            <a:ext cx="864216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3EC5-4951-4AC4-B79A-535043E6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9280" y="981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50920" y="3915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9280" y="3915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A139-D902-4819-BCF7-0F602D63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27824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3040" y="981000"/>
            <a:ext cx="27824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0" y="981000"/>
            <a:ext cx="27824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50920" y="3915000"/>
            <a:ext cx="27824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3040" y="3915000"/>
            <a:ext cx="27824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4800" y="3915000"/>
            <a:ext cx="27824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5437-8468-4BA0-B52E-7DE1E608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A092-3C09-40A8-B0BE-0BE49371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2170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9280" y="981000"/>
            <a:ext cx="42170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9406-EC9C-476B-82CC-A76A4380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BE34-B25D-4586-886A-F2D8E0A9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5A8E-4AB8-4B9A-B4A9-5655A803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981000"/>
            <a:ext cx="42170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0920" y="3915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6B07-50AF-406B-A5FE-3EFDF395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2170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981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9280" y="3915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EF44-710B-4A6C-A924-27FF27AA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280" y="981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0920" y="3915000"/>
            <a:ext cx="864216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0724-339A-4493-A630-100A5B99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8400" cy="6872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3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92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5913-E1D2-4B05-B0C1-25073EA4B731}" type="slidenum">
              <a:rPr b="0" lang="en-US" sz="1200" spc="-1" strike="noStrike">
                <a:solidFill>
                  <a:srgbClr val="00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8400" cy="6872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7FBE-E748-48E0-890B-5A0587BC1E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3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Census tables: </a:t>
            </a:r>
            <a:br>
              <a:rPr sz="3200"/>
            </a:b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utility and safety via a cell thresho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00000" y="3573000"/>
            <a:ext cx="73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ffffff"/>
                </a:solidFill>
                <a:latin typeface="Arial"/>
              </a:rPr>
              <a:t>Mike Camden, Paul Cowie, Lisa Henle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ffffff"/>
                </a:solidFill>
                <a:latin typeface="Arial"/>
              </a:rPr>
              <a:t>Statistics New Zealand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486900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Joint UNECE/Eurostat Work Session</a:t>
            </a:r>
            <a:br>
              <a:rPr sz="2400"/>
            </a:b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n Statistical Data Confidentiality</a:t>
            </a:r>
            <a:br>
              <a:rPr sz="2400"/>
            </a:b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7-19 Dec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6093000"/>
            <a:ext cx="7772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A Short Overvi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38DE-AABD-4ADC-8AD8-9223E25B24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The Measures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S, PR, SD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A measure of Risk:</a:t>
            </a:r>
            <a:br>
              <a:rPr sz="2800"/>
            </a:br>
            <a:r>
              <a:rPr b="1" lang="en-US" sz="2800" spc="-1" strike="noStrike">
                <a:solidFill>
                  <a:srgbClr val="003333"/>
                </a:solidFill>
                <a:latin typeface="Arial"/>
              </a:rPr>
              <a:t>PS</a:t>
            </a: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 = Proportion of cells Sparse = P(0) + P(1)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Two measures of Utility:</a:t>
            </a:r>
            <a:br>
              <a:rPr sz="2800"/>
            </a:br>
            <a:r>
              <a:rPr b="1" lang="en-US" sz="2800" spc="-1" strike="noStrike">
                <a:solidFill>
                  <a:srgbClr val="003333"/>
                </a:solidFill>
                <a:latin typeface="Arial"/>
              </a:rPr>
              <a:t>PR</a:t>
            </a: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 = Proportion of persons </a:t>
            </a:r>
            <a:br>
              <a:rPr sz="2800"/>
            </a:b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              Rescued by Threshold </a:t>
            </a:r>
            <a:br>
              <a:rPr sz="2800"/>
            </a:br>
            <a:r>
              <a:rPr b="1" lang="en-US" sz="2800" spc="-1" strike="noStrike">
                <a:solidFill>
                  <a:srgbClr val="003333"/>
                </a:solidFill>
                <a:latin typeface="Arial"/>
              </a:rPr>
              <a:t>SD</a:t>
            </a: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 = Standard Deviation of noise </a:t>
            </a:r>
            <a:br>
              <a:rPr sz="2800"/>
            </a:b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              from any rule set</a:t>
            </a:r>
            <a:br>
              <a:rPr sz="2800"/>
            </a:b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    assuming simple recalculation </a:t>
            </a:r>
            <a:br>
              <a:rPr sz="2800"/>
            </a:b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         of suppressed counts by users.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We use the distribution of AU size to:</a:t>
            </a:r>
            <a:br>
              <a:rPr sz="2800"/>
            </a:b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test the rules and </a:t>
            </a:r>
            <a:br>
              <a:rPr sz="2800"/>
            </a:b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plan for future rules, geographies, classifications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72FB-4E4B-4EEB-A748-07A8AA2775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PS: Sparseness and our area units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920" y="6092640"/>
            <a:ext cx="864216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33"/>
                </a:solidFill>
                <a:latin typeface="Arial"/>
              </a:rPr>
              <a:t>Where is the minimum for a new geog. classification?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642160" cy="4344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050920" y="4581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ff"/>
                </a:solidFill>
                <a:latin typeface="Arial"/>
              </a:rPr>
              <a:t>Poisso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76360" y="170028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Mean cell siz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551664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Safety | Utlil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5950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692000" y="595008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619280" y="53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031-FEA4-4806-9258-9CD996408C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PR: Proportion of people Rescued</a:t>
            </a:r>
            <a:br>
              <a:rPr sz="3600"/>
            </a:b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by Thresholding; and our area units: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6165720"/>
            <a:ext cx="83534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Is Threshold worthwhile? Is MCS still needed?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135640" cy="4702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H="1" flipV="1">
            <a:off x="1115640" y="4005360"/>
            <a:ext cx="208764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1979280" y="2492280"/>
            <a:ext cx="3384360" cy="360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1B77-FD77-4533-85E9-B882B2B8D9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SD: Noise from R, RT, RM, RMT, for AUs: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6137280"/>
            <a:ext cx="8642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RMT is a complex rule set, but reduces noise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3816360" cy="2390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500720" y="1197000"/>
            <a:ext cx="3875040" cy="2376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95280" y="3573360"/>
            <a:ext cx="3713040" cy="244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4500720" y="3573360"/>
            <a:ext cx="3958920" cy="2519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292720" y="2708280"/>
            <a:ext cx="0" cy="24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4653000"/>
            <a:ext cx="396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207-FA77-4092-9530-3AC90350BB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Messages from the data: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Where possible, 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design geographical classifications for output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Where possible, 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design other classifications for output,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with several versions per variable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(and avoid differencing)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The complexity of our rule set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gives gains in utility and safety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CD3D-DAEC-4009-B5AF-874C2F6CE1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For our 2011 Census: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or tables, 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we’re open to other approaches 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we value our users’ view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or microdata access, we’re open to options: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our 3 data laboratories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remote access (about to start: ABS software)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Confidentialised Unit Record Files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   and specific CURFS for Travel etc </a:t>
            </a:r>
            <a:br>
              <a:rPr sz="3200"/>
            </a:b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1C9A-A312-43C5-99A1-C345C21FF9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Confidentiality via design and complexity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To optimise </a:t>
            </a:r>
            <a:r>
              <a:rPr b="0" lang="en-US" sz="3200" spc="-1" strike="noStrike" u="sng">
                <a:solidFill>
                  <a:srgbClr val="003333"/>
                </a:solidFill>
                <a:uFillTx/>
                <a:latin typeface="Arial"/>
              </a:rPr>
              <a:t>utility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3333"/>
                </a:solidFill>
                <a:uFillTx/>
                <a:latin typeface="Arial"/>
              </a:rPr>
              <a:t>safety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, we act at: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design stage: 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   on geographical and other classifications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dissemination stage: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   complex risks and user needs 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   justify complex rules.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To guide us, we need evidence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rom within the data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rom needs of our users.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5805360"/>
            <a:ext cx="8642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999933"/>
                </a:solidFill>
                <a:latin typeface="Arial"/>
              </a:rPr>
              <a:t>      </a:t>
            </a:r>
            <a:r>
              <a:rPr b="1" lang="en-NZ" sz="3600" spc="-1" strike="noStrike">
                <a:solidFill>
                  <a:srgbClr val="999933"/>
                </a:solidFill>
                <a:latin typeface="Arial"/>
              </a:rPr>
              <a:t>The End of the Overview (almost)</a:t>
            </a: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BAB8-8E3E-4723-88AF-54EDD78621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Possible measures of Sparseness, by Size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3168720" cy="1963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168720" cy="1962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50920" y="4797360"/>
            <a:ext cx="3097080" cy="19195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804000" y="1125360"/>
            <a:ext cx="1943280" cy="12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1 Main Urban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ff9933"/>
                </a:solidFill>
                <a:latin typeface="Arial"/>
              </a:rPr>
              <a:t>2 Secondary Urban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ffff00"/>
                </a:solidFill>
                <a:latin typeface="Arial"/>
              </a:rPr>
              <a:t>3 Minor Urban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9900"/>
                </a:solidFill>
                <a:latin typeface="Arial"/>
              </a:rPr>
              <a:t>4 Ru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cc6600"/>
                </a:solidFill>
                <a:latin typeface="Arial"/>
              </a:rPr>
              <a:t>5 Other Rural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ff"/>
                </a:solidFill>
                <a:latin typeface="Arial"/>
              </a:rPr>
              <a:t>6 Wat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87280" y="1413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808080"/>
                </a:solidFill>
                <a:latin typeface="Arial"/>
              </a:rPr>
              <a:t>P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58920" y="5373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808080"/>
                </a:solidFill>
                <a:latin typeface="Arial"/>
              </a:rPr>
              <a:t>P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58920" y="3429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808080"/>
                </a:solidFill>
                <a:latin typeface="Arial"/>
              </a:rPr>
              <a:t>P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51280" y="2781360"/>
            <a:ext cx="496872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Is there a reason why P(1) and P(2) are so fl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What are the implications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CAA7-C500-463A-9151-BC167EC9B3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Answers for our Underl</a:t>
            </a:r>
            <a:r>
              <a:rPr b="1" lang="en-US" sz="3600" spc="-1" strike="noStrike">
                <a:solidFill>
                  <a:srgbClr val="999933"/>
                </a:solidFill>
                <a:latin typeface="Arial"/>
              </a:rPr>
              <a:t>y</a:t>
            </a: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ing Questions: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Our rules for 2006 Census: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are they OK re </a:t>
            </a:r>
            <a:r>
              <a:rPr b="0" lang="en-US" sz="3200" spc="-1" strike="noStrike" u="sng">
                <a:solidFill>
                  <a:srgbClr val="003333"/>
                </a:solidFill>
                <a:uFillTx/>
                <a:latin typeface="Arial"/>
              </a:rPr>
              <a:t>Utility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3333"/>
                </a:solidFill>
                <a:uFillTx/>
                <a:latin typeface="Arial"/>
              </a:rPr>
              <a:t>Safety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bably!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Our plans for 2011 Census: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how can we get the best of both worlds?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perfect set of rules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smart new geographical classifications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smart new classifications for other variables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delicious wide-ranging product-mix!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04000" y="5877000"/>
            <a:ext cx="21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8635-3FF2-45A8-99B3-800C54921C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Contents of Overview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642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Our geographical classification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Our path towards utility and safety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A two-way table: Travel (to work) x Age (5 yrs)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Three measures of safety and utility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Conclusion: complexity in needs and solution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Visualising our geographies, measures, path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Messages from the data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Our 2011 Census: option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Confidentiality via design and complexity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2FA7-4B8D-476A-BF6F-93A7EEF684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Geography matters: the planet and NZ</a:t>
            </a: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6049800" cy="5616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812000" y="981000"/>
            <a:ext cx="0" cy="3743280"/>
          </a:xfrm>
          <a:prstGeom prst="line">
            <a:avLst/>
          </a:prstGeom>
          <a:ln w="38160">
            <a:solidFill>
              <a:srgbClr val="99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059280" y="4869000"/>
            <a:ext cx="4752720" cy="0"/>
          </a:xfrm>
          <a:prstGeom prst="line">
            <a:avLst/>
          </a:prstGeom>
          <a:ln w="38160">
            <a:solidFill>
              <a:srgbClr val="99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56360" y="522936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33"/>
                </a:solidFill>
                <a:latin typeface="Times New Roman"/>
              </a:rPr>
              <a:t>4,249,737 people</a:t>
            </a:r>
            <a:br>
              <a:rPr sz="2400"/>
            </a:br>
            <a:r>
              <a:rPr b="1" lang="en-US" sz="2400" spc="-1" strike="noStrike">
                <a:solidFill>
                  <a:srgbClr val="999933"/>
                </a:solidFill>
                <a:latin typeface="Times New Roman"/>
              </a:rPr>
              <a:t>on 7 Mar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E93F-0CBD-48ED-B3EC-2542D8F0C7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Geographies: NZ has:</a:t>
            </a:r>
            <a:br>
              <a:rPr sz="3600"/>
            </a:b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regional authorities</a:t>
            </a: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rritorial authorities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89120" y="981000"/>
            <a:ext cx="3965760" cy="5616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411280" y="1268280"/>
            <a:ext cx="2737080" cy="2448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300360" y="1197000"/>
            <a:ext cx="647640" cy="1440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16720" y="1413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8560" y="1989000"/>
            <a:ext cx="4934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9a5e"/>
                </a:solidFill>
                <a:latin typeface="Bitstream Vera Sans"/>
              </a:rPr>
              <a:t>Geography does matter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9a5e"/>
                </a:solidFill>
                <a:latin typeface="Bitstream Vera Sans"/>
              </a:rPr>
              <a:t>Statistical Data Confidentia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9a5e"/>
                </a:solidFill>
                <a:latin typeface="Bitstream Vera Sans"/>
              </a:rPr>
              <a:t>we apply the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9a5e"/>
                </a:solidFill>
                <a:latin typeface="Bitstream Vera Sans"/>
              </a:rPr>
              <a:t>to each geographical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9a5e"/>
                </a:solidFill>
                <a:latin typeface="Bitstream Vera Sans"/>
              </a:rPr>
              <a:t>separatel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9a5e"/>
                </a:solidFill>
                <a:latin typeface="Bitstream Vera Sans"/>
              </a:rPr>
              <a:t>we know people </a:t>
            </a:r>
            <a:br>
              <a:rPr sz="2400"/>
            </a:br>
            <a:r>
              <a:rPr b="0" lang="en-US" sz="2400" spc="-1" strike="noStrike">
                <a:solidFill>
                  <a:srgbClr val="689a5e"/>
                </a:solidFill>
                <a:latin typeface="Bitstream Vera Sans"/>
              </a:rPr>
              <a:t>b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9a5e"/>
                </a:solidFill>
                <a:latin typeface="Bitstream Vera Sans"/>
              </a:rPr>
              <a:t>in our 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9a5e"/>
                </a:solidFill>
                <a:latin typeface="Bitstream Vera Sans"/>
              </a:rPr>
              <a:t>Geograph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46E8-A686-47A8-945A-9A23878814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Geographies: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rea units</a:t>
            </a: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shblocks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839880"/>
            <a:ext cx="8424720" cy="5949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H="1">
            <a:off x="7093080" y="620640"/>
            <a:ext cx="1366560" cy="3959280"/>
          </a:xfrm>
          <a:prstGeom prst="line">
            <a:avLst/>
          </a:prstGeom>
          <a:ln w="9360">
            <a:solidFill>
              <a:srgbClr val="99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796000" y="907920"/>
            <a:ext cx="9367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634920" y="907920"/>
            <a:ext cx="289080" cy="9367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148428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itorial Authority: Wellington 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836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,918 in 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24360" y="98100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,384 in 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5856-4C28-4545-A1FF-37B3A790AF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Distribution of Area Units Size (Pop)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5516640"/>
            <a:ext cx="87854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mall areas result in sparse table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Area units were not designed for dissemination!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939960"/>
            <a:ext cx="8209080" cy="4727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H="1" flipV="1">
            <a:off x="1115640" y="5084280"/>
            <a:ext cx="934920" cy="576360"/>
          </a:xfrm>
          <a:prstGeom prst="line">
            <a:avLst/>
          </a:prstGeom>
          <a:ln w="38160">
            <a:solidFill>
              <a:srgbClr val="4e78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1916280"/>
            <a:ext cx="107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78f0"/>
                </a:solidFill>
                <a:latin typeface="Times New Roman"/>
              </a:rPr>
              <a:t>With 1-99 people: 107 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042920" y="3933720"/>
            <a:ext cx="216000" cy="503280"/>
          </a:xfrm>
          <a:prstGeom prst="line">
            <a:avLst/>
          </a:prstGeom>
          <a:ln w="38160">
            <a:solidFill>
              <a:srgbClr val="4e78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83C0-C2CE-4018-A431-DBB09B027F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96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03280" y="537372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9a5e"/>
                </a:solidFill>
                <a:latin typeface="Times New Roman"/>
              </a:rPr>
              <a:t>Age</a:t>
            </a:r>
            <a:br>
              <a:rPr sz="2400"/>
            </a:br>
            <a:r>
              <a:rPr b="1" lang="en-US" sz="2400" spc="-1" strike="noStrike">
                <a:solidFill>
                  <a:srgbClr val="689a5e"/>
                </a:solidFill>
                <a:latin typeface="Times New Roman"/>
              </a:rPr>
              <a:t>(5 yr g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472428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9a5e"/>
                </a:solidFill>
                <a:latin typeface="Times New Roman"/>
              </a:rPr>
              <a:t>Travel to work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76360" y="5229360"/>
            <a:ext cx="2808360" cy="792000"/>
          </a:xfrm>
          <a:prstGeom prst="line">
            <a:avLst/>
          </a:prstGeom>
          <a:ln w="9360">
            <a:solidFill>
              <a:srgbClr val="1ea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96000" y="4076640"/>
            <a:ext cx="1152360" cy="1657440"/>
          </a:xfrm>
          <a:prstGeom prst="line">
            <a:avLst/>
          </a:prstGeom>
          <a:ln w="9360">
            <a:solidFill>
              <a:srgbClr val="1ea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260280"/>
            <a:ext cx="8713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Area Unit: Riccarton: 268 people</a:t>
            </a:r>
            <a:br>
              <a:rPr sz="3600"/>
            </a:b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Age x Travel to work mode: 121 cel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00720" y="1557360"/>
            <a:ext cx="251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Sparseness:</a:t>
            </a:r>
            <a:br>
              <a:rPr sz="2400"/>
            </a:b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   P(0) = 45%   </a:t>
            </a:r>
            <a:br>
              <a:rPr sz="2400"/>
            </a:b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      P(1) = 19%</a:t>
            </a:r>
            <a:br>
              <a:rPr sz="2400"/>
            </a:b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         P(2) =  7%</a:t>
            </a:r>
            <a:br>
              <a:rPr sz="2400"/>
            </a:b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A good measure?</a:t>
            </a:r>
            <a:br>
              <a:rPr sz="2400"/>
            </a:b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PS = P(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P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51280" y="1844640"/>
            <a:ext cx="649080" cy="1728720"/>
          </a:xfrm>
          <a:prstGeom prst="line">
            <a:avLst/>
          </a:prstGeom>
          <a:ln w="93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6281640"/>
            <a:ext cx="896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Mean Cell Size = 268/121 &gt; 2; the table p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0896-6929-4D4D-A88E-9B17F65873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Utility and Risk: Rules and Measures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parseness is common,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especially with small-population geographie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or our 2006 Census, to increase both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data </a:t>
            </a:r>
            <a:r>
              <a:rPr b="0" lang="en-US" sz="3200" spc="-1" strike="noStrike" u="sng">
                <a:solidFill>
                  <a:srgbClr val="003333"/>
                </a:solidFill>
                <a:uFillTx/>
                <a:latin typeface="Arial"/>
              </a:rPr>
              <a:t>utility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3333"/>
                </a:solidFill>
                <a:uFillTx/>
                <a:latin typeface="Arial"/>
              </a:rPr>
              <a:t>safety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from disclosure risk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we have 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  a 3-part rule set (2007)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  and a set of 3 measure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                                                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The rule set …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45EC-F08B-4970-A6D5-94ABA9E75D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For sparseness, a 3 part rule set: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, M, T</a:t>
            </a: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7561080" cy="5534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348000" y="1557360"/>
            <a:ext cx="0" cy="79200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2781360"/>
            <a:ext cx="0" cy="93492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59280" y="2852640"/>
            <a:ext cx="0" cy="144000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4149720"/>
            <a:ext cx="0" cy="144000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91EB-7490-43E0-B2C0-2A479B885A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8T21:15:15Z</dcterms:created>
  <dc:creator>   </dc:creator>
  <dc:description/>
  <dc:language>en-US</dc:language>
  <cp:lastModifiedBy>Technical Support Services</cp:lastModifiedBy>
  <dcterms:modified xsi:type="dcterms:W3CDTF">2007-11-29T20:41:52Z</dcterms:modified>
  <cp:revision>157</cp:revision>
  <dc:subject/>
  <dc:title>PowerPoint Presentation</dc:title>
</cp:coreProperties>
</file>