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0FA1-3BAE-4A16-B219-6C5B5F476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nce is R^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E64-1FDF-46D2-B6D6-A1B1940D7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nce is R^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309C-232E-4C1B-B3C6-730DB1EBB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nce is R^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65C0-D61F-4013-8926-8A5BF7228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nce is R^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2ACF-46EC-4B1C-A841-EC0F1EDAF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nce is R^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AF2-352D-44E4-B5E4-223C89C64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3453-E1F7-4926-B5E2-3E0EE6E1B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E3D-F55A-408D-A262-93F12BC7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355-EBCF-4D56-AC79-DC21BE80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C8F-4AB2-46CD-8D40-5DE775A8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B60-59CF-4A2A-AAEF-3C5D7D1F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09E6-45A4-480C-963A-16DF51F5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55AE-0C73-4BC9-99CA-1FECC3C7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9811-5114-49FC-8A05-C8960982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38FA-9793-4AD9-9709-8917B200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A986-DB15-4979-B182-1BF0CCBD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AD40-030F-4318-B3CA-A9B618F2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F828-FE00-41DD-B8EB-3D934BEF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A83-8915-4E34-9083-3531C00A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1523-982E-4142-B718-8B594471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E65B-6B71-4255-A2C9-E0F25643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E9FE-F612-4DB3-B658-F572204C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8C40-1191-48C1-80EC-0C616247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3E60-DD0C-45F2-93C1-7DBEADC7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F0EE-609D-4F3A-BE20-FE400DFF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1FA1-D779-45F7-9B7B-DE69E31F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7497C-591F-4BB7-817E-C51E5FE8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6B07-FA0A-41EA-ACCE-9D495F6F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7317-E948-46D2-8F80-37971EA4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A5D-9BA2-490D-91F7-C8552E0B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F88E-A26E-472C-B233-1986CA7C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A990-CE4E-4C7C-BDAB-1F40083F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89EA-52C9-4913-AFE0-D01EE8D4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199B-5600-41A2-8D77-5FCA20CF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153E-9A1C-4DA3-99B1-7A3E3AE4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C816-5855-4D4B-A4DF-ED47D964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2204-8C61-4704-A340-40FF430B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B5CA2-9D2D-4A1B-A83C-A0561DEB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55EF-97EB-4446-8F61-5A7D94F2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102B4-3AEA-4A1C-BB6D-8381258E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4AF-A38D-4FA1-A788-47358371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D519D-08DD-45F5-9F87-FA54C62C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747A-CB37-4636-AC7E-444064FA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05CC7-17A2-4FA5-9680-7B937799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CDCC-38BA-41AB-B732-2CF7FA35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D0A9-8841-40F2-9769-8CC622D2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3BD81-AC2D-49E1-9577-5B051F1C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2AD8A-B9E4-4006-B41D-337FDF8D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B044A-45D5-42AC-96E0-85DF287B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52974-70C2-405A-B0C0-E45EB9AE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7A2D2-04F9-4E9A-A33A-B757254C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3A8-3325-41C9-ABCE-32DA8EF7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E9D82-58A8-4134-8ABE-CB8E48DD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5C9C4-8FBA-4BEB-BC31-C97C624B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92A66-C6F8-4287-AF61-254C77EF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D3082-ACE4-4F44-81F7-E7711F1D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540A5-DA2E-47D6-9EB6-E4D99F35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FABA3-A901-4D9A-901D-480A195C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8692-BB2D-4E10-974E-C470C20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E2581-1924-4B66-BF5D-F78AF161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EB1CA-37A8-416D-9462-AE063375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C1F87-70DC-45C9-A905-CF72E606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82C-B1E6-4F54-8A60-B4C972F8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2F9A-FF75-4E33-86ED-088CC35E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90401-8C19-42D0-BA30-D9964F70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4611A-CA1E-4F25-AB96-5A881850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9E82C-F28D-420E-AFD9-91678586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0E8D-3330-4AB3-A1D3-09BAF253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726F4-B06D-4C3B-9067-28ED584A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3811-21E9-4036-821B-03D63345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69608-EC1A-4DC5-BF66-EEF1BB3D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F3E70-50EB-4EC1-9D55-8C94B360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4F8AD-4AD9-47A6-A9A2-D95BA4E3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8C3-589A-4764-BF06-3A93421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D3701-C7F8-4CC5-BC9C-44163F08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2A0FD-D5B8-4237-84F4-85E7C504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66DB-CE98-4895-AF66-33C041F6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5953A-F653-4F0C-B443-E6D582DB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580E5-219A-47B5-95A8-D8EAEC70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6F12-31AE-4B12-9BDE-ED90D410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8E44-03AD-4338-AD29-15CE7FC4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294C2-38B0-484A-A0C2-F5FF6E1C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A43E1-DBE5-49BB-B0D4-FE10D4DB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111AC-D8B4-4A33-8B2E-646669C3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1BC-5DFA-4B7D-9FC4-47BD951D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CB25-FE50-4C6A-B607-13661AA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19658-E69C-4399-8DCB-73C2BC1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5F851-715D-44F5-A7C0-EE03B52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D59D-FB84-4047-B9FB-6AC9DF50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5F9E4-231B-45F5-9617-227D543D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AE7FA-E33A-4E39-8E90-3D7CFBD5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E06F3-DEB3-4494-8733-C09571A9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738A4-E3D7-4F6F-85F4-EF6B3265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65964-148B-4DCD-88E5-700A4365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36DFA-9F6E-49FC-B72E-E26DDC9C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F1B-59D5-40EA-96C3-AF9111DD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E3522-9C42-4E1F-B182-164F64C8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63BAB-7F10-4082-82BD-F3CC1C7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C278A-B5C7-45E2-BD5F-A79CF896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9D1F8-B9B4-44CD-8FD8-2E83CC3F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86F0-298C-4D6A-B956-1A9F3DD5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DE50C-9073-4368-8C19-D9B281FC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995D5-B52C-4D99-9AD1-94DCB311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63A3-6F08-4720-92A7-46256B788ED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571-3F4D-4E46-9C97-61023BC9DE7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66E5-5B4C-4DEF-8BEB-CE1640DFEA6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FC79-4AC1-4B11-A6B6-2D91AB22D67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BB0D-DC9D-4E60-839D-274BB82C7B6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C18F-FFD9-4D65-B54F-24E7D3B18E1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Monotype Corsi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7059-3C2D-4094-897B-49E53301C0A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7AE-4F97-4301-A5B8-D1B6622E9F5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3581280"/>
            <a:ext cx="6858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030a0"/>
                </a:solidFill>
                <a:latin typeface="Monotype Corsiva"/>
              </a:rPr>
              <a:t>Differentially Private Marginals Release with</a:t>
            </a:r>
            <a:br>
              <a:rPr sz="3100"/>
            </a:br>
            <a:r>
              <a:rPr b="0" lang="en-US" sz="3100" spc="-1" strike="noStrike">
                <a:solidFill>
                  <a:srgbClr val="7030a0"/>
                </a:solidFill>
                <a:latin typeface="Monotype Corsiva"/>
              </a:rPr>
              <a:t>Mutual Consistency and</a:t>
            </a:r>
            <a:br>
              <a:rPr sz="3100"/>
            </a:br>
            <a:r>
              <a:rPr b="0" lang="en-US" sz="3100" spc="-1" strike="noStrike">
                <a:solidFill>
                  <a:srgbClr val="7030a0"/>
                </a:solidFill>
                <a:latin typeface="Monotype Corsiva"/>
              </a:rPr>
              <a:t>Error Independent of Sample Size</a:t>
            </a:r>
            <a:endParaRPr b="0" lang="en-US" sz="31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Cynthia Dwork, Microsoft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0" y="711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xPoint fonts used in EMF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ad the TexPoint manual before you delete this box.: </a:t>
            </a:r>
            <a:r>
              <a:rPr b="0" lang="en-US" sz="1800" spc="-1" strike="noStrike">
                <a:solidFill>
                  <a:srgbClr val="000000"/>
                </a:solidFill>
                <a:latin typeface="CMEX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5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Accuracy </a:t>
            </a: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of Reported Value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oughly,  described by E[||R(M(T)) – M(T)||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]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Expected error in each cell:  proportional to  c(M)/</a:t>
            </a:r>
            <a:r>
              <a:rPr b="0" lang="el-GR" sz="2300" spc="-1" strike="noStrike">
                <a:solidFill>
                  <a:srgbClr val="464653"/>
                </a:solidFill>
                <a:latin typeface="Georgia"/>
              </a:rPr>
              <a:t>ε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 little worse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Probabilistic guarantees on size of max error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imilar to change obtained by randomly adding/deleting c(M)/</a:t>
            </a:r>
            <a:r>
              <a:rPr b="0" lang="el-GR" sz="23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respondents to T and then computing M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ey Point: Error is Independent of n (and k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epends on the “complexity” of M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epends on the privacy parameter </a:t>
            </a:r>
            <a:r>
              <a:rPr b="0" lang="el-GR" sz="2300" spc="-1" strike="noStrike">
                <a:solidFill>
                  <a:srgbClr val="464653"/>
                </a:solidFill>
                <a:latin typeface="Georgia"/>
              </a:rPr>
              <a:t>ε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7030a0"/>
                </a:solidFill>
                <a:latin typeface="Monotype Corsiva"/>
              </a:rPr>
              <a:t>ε</a:t>
            </a: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-Differential </a:t>
            </a: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Privacy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15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8377-F765-4AD8-888E-4D8F5EF5E20E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eorgia"/>
              </a:rPr>
              <a:t>For all x, for all reported values 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Pr[R(M) = r | x in D] </a:t>
            </a:r>
            <a:r>
              <a:rPr b="0" lang="en-US" sz="2400" spc="-1" strike="noStrike">
                <a:solidFill>
                  <a:srgbClr val="464653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464653"/>
                </a:solidFill>
                <a:latin typeface="Comic Sans MS"/>
              </a:rPr>
              <a:t> exp(±</a:t>
            </a:r>
            <a:r>
              <a:rPr b="0" lang="el-GR" sz="24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) </a:t>
            </a:r>
            <a:r>
              <a:rPr b="0" lang="en-US" sz="2400" spc="-1" strike="noStrike">
                <a:solidFill>
                  <a:srgbClr val="ff3300"/>
                </a:solidFill>
                <a:latin typeface="Georgia"/>
              </a:rPr>
              <a:t>Pr[R(M) = r | x not in D]</a:t>
            </a: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</p:txBody>
      </p:sp>
      <p:sp>
        <p:nvSpPr>
          <p:cNvPr id="417" name="Line 9"/>
          <p:cNvSpPr/>
          <p:nvPr/>
        </p:nvSpPr>
        <p:spPr>
          <a:xfrm flipV="1">
            <a:off x="914400" y="367200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Freeform 10"/>
          <p:cNvSpPr/>
          <p:nvPr/>
        </p:nvSpPr>
        <p:spPr>
          <a:xfrm>
            <a:off x="914400" y="3962520"/>
            <a:ext cx="7315200" cy="204444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Line 11"/>
          <p:cNvSpPr/>
          <p:nvPr/>
        </p:nvSpPr>
        <p:spPr>
          <a:xfrm>
            <a:off x="1066680" y="5943600"/>
            <a:ext cx="5410440" cy="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910080" y="42465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 [r]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Freeform 13"/>
          <p:cNvSpPr/>
          <p:nvPr/>
        </p:nvSpPr>
        <p:spPr>
          <a:xfrm>
            <a:off x="1295280" y="3976560"/>
            <a:ext cx="7315200" cy="2044800"/>
          </a:xfrm>
          <a:prstGeom prst="pie">
            <a:avLst/>
          </a:pr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Straight Connector 10"/>
          <p:cNvSpPr/>
          <p:nvPr/>
        </p:nvSpPr>
        <p:spPr>
          <a:xfrm flipH="1">
            <a:off x="4723920" y="3811680"/>
            <a:ext cx="1800" cy="2284200"/>
          </a:xfrm>
          <a:prstGeom prst="line">
            <a:avLst/>
          </a:prstGeom>
          <a:ln w="9360">
            <a:solidFill>
              <a:srgbClr val="727c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23" name="Straight Arrow Connector 31"/>
          <p:cNvCxnSpPr/>
          <p:nvPr/>
        </p:nvCxnSpPr>
        <p:spPr>
          <a:xfrm flipH="1">
            <a:off x="4799880" y="3504960"/>
            <a:ext cx="1143720" cy="15246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24" name="Straight Arrow Connector 34"/>
          <p:cNvCxnSpPr/>
          <p:nvPr/>
        </p:nvCxnSpPr>
        <p:spPr>
          <a:xfrm flipH="1">
            <a:off x="4723920" y="3505320"/>
            <a:ext cx="1448640" cy="1753200"/>
          </a:xfrm>
          <a:prstGeom prst="straightConnector1">
            <a:avLst/>
          </a:prstGeom>
          <a:ln w="9360">
            <a:solidFill>
              <a:srgbClr val="464653"/>
            </a:solidFill>
            <a:miter/>
            <a:tailEnd len="med" type="triangle" w="med"/>
          </a:ln>
        </p:spPr>
      </p:cxnSp>
      <p:sp>
        <p:nvSpPr>
          <p:cNvPr id="425" name="TextBox 36"/>
          <p:cNvSpPr/>
          <p:nvPr/>
        </p:nvSpPr>
        <p:spPr>
          <a:xfrm>
            <a:off x="5739840" y="32004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atio bound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986040" y="60199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7030a0"/>
                </a:solidFill>
                <a:latin typeface="Monotype Corsiva"/>
              </a:rPr>
              <a:t>ε</a:t>
            </a: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-Differential </a:t>
            </a: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Privacy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en 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: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for all x, for all reported 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[R(M) = r | x in D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Pr[R(M) = r | x not in D]</a:t>
            </a: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Probabilities taken over coins flipped by curator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dependent of other sources of data, databases, or even knowledge of every element in D\{x}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“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nything, good or bad, is essentially equally likely to occur, whether I join the database or not.”</a:t>
            </a:r>
            <a:r>
              <a:rPr b="0" lang="el-GR" sz="2300" spc="-1" strike="noStrike">
                <a:solidFill>
                  <a:srgbClr val="464653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Generalizes to groups of respondent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though, if group is large, then outcome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houl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diffe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Why Differential Privacy?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19320"/>
            <a:ext cx="8458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alenius’ Goal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   “</a:t>
            </a:r>
            <a:r>
              <a:rPr b="0" i="1" lang="en-US" sz="2100" spc="-1" strike="noStrike">
                <a:solidFill>
                  <a:srgbClr val="464653"/>
                </a:solidFill>
                <a:latin typeface="Georgia"/>
              </a:rPr>
              <a:t>Anything that can be learned about a respondent, given access to the statistical database, can be learned without access”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Provably Unachievable.</a:t>
            </a: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m the (American) smoker tries to buy medical insuran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Statistical DB teaches smoking causes cancer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Sam harmed: high premiums for medical insurance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66"/>
                </a:solidFill>
                <a:latin typeface="Georgia"/>
              </a:rPr>
              <a:t>Sam need not be in the database!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fferential Privacy guarantees that risk to Sam will not substantially increase if he enters the D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7400" indent="-2214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Bs have intrinsic social valu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30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CC97-58D4-4868-9E88-76B58D6BA661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An Ad Omnia Guarantee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No perceptible risk is incurred by joining data s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Anything adversary can do to Sam, it could do even if his data not in data s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590040" y="3749760"/>
            <a:ext cx="5658480" cy="2534400"/>
            <a:chOff x="590040" y="3749760"/>
            <a:chExt cx="5658480" cy="2534400"/>
          </a:xfrm>
        </p:grpSpPr>
        <p:sp>
          <p:nvSpPr>
            <p:cNvPr id="435" name="Freeform 13"/>
            <p:cNvSpPr/>
            <p:nvPr/>
          </p:nvSpPr>
          <p:spPr>
            <a:xfrm>
              <a:off x="5638680" y="5214960"/>
              <a:ext cx="609840" cy="457200"/>
            </a:xfrm>
            <a:prstGeom prst="pie">
              <a:avLst/>
            </a:prstGeom>
            <a:solidFill>
              <a:srgbClr val="ff3300"/>
            </a:solidFill>
            <a:ln w="2556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6" name="Freeform 14"/>
            <p:cNvSpPr/>
            <p:nvPr/>
          </p:nvSpPr>
          <p:spPr>
            <a:xfrm>
              <a:off x="5638680" y="5291280"/>
              <a:ext cx="609840" cy="380880"/>
            </a:xfrm>
            <a:prstGeom prst="pie">
              <a:avLst/>
            </a:prstGeom>
            <a:solidFill>
              <a:srgbClr val="fbba6b"/>
            </a:solidFill>
            <a:ln w="2844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7" name="Freeform 15"/>
            <p:cNvSpPr/>
            <p:nvPr/>
          </p:nvSpPr>
          <p:spPr>
            <a:xfrm>
              <a:off x="3809880" y="3749760"/>
              <a:ext cx="381240" cy="1922400"/>
            </a:xfrm>
            <a:prstGeom prst="pie">
              <a:avLst/>
            </a:prstGeom>
            <a:solidFill>
              <a:srgbClr val="ff3300"/>
            </a:solidFill>
            <a:ln w="2556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8" name="Freeform 16"/>
            <p:cNvSpPr/>
            <p:nvPr/>
          </p:nvSpPr>
          <p:spPr>
            <a:xfrm>
              <a:off x="2514600" y="4467240"/>
              <a:ext cx="228600" cy="12193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9" name="Freeform 17"/>
            <p:cNvSpPr/>
            <p:nvPr/>
          </p:nvSpPr>
          <p:spPr>
            <a:xfrm>
              <a:off x="2514600" y="5000760"/>
              <a:ext cx="228600" cy="685800"/>
            </a:xfrm>
            <a:prstGeom prst="pie">
              <a:avLst/>
            </a:prstGeom>
            <a:solidFill>
              <a:srgbClr val="fbba6b"/>
            </a:solidFill>
            <a:ln w="2556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0" name="Freeform 18"/>
            <p:cNvSpPr/>
            <p:nvPr/>
          </p:nvSpPr>
          <p:spPr>
            <a:xfrm>
              <a:off x="3809880" y="3919680"/>
              <a:ext cx="381240" cy="1752480"/>
            </a:xfrm>
            <a:prstGeom prst="pie">
              <a:avLst/>
            </a:prstGeom>
            <a:solidFill>
              <a:srgbClr val="fbba6b"/>
            </a:solidFill>
            <a:ln w="2556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441" name="Group 19"/>
            <p:cNvGrpSpPr/>
            <p:nvPr/>
          </p:nvGrpSpPr>
          <p:grpSpPr>
            <a:xfrm>
              <a:off x="590040" y="5748480"/>
              <a:ext cx="5658480" cy="535680"/>
              <a:chOff x="590040" y="5748480"/>
              <a:chExt cx="5658480" cy="53568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590040" y="5838840"/>
                <a:ext cx="105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5680"/>
                    </a:solidFill>
                    <a:latin typeface="Georgia"/>
                  </a:rPr>
                  <a:t>Bad r’s: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3821400" y="582444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b5680"/>
                    </a:solidFill>
                    <a:latin typeface="Georgi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5778720" y="582444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b5680"/>
                    </a:solidFill>
                    <a:latin typeface="Georgi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5" name="Text Box 23"/>
              <p:cNvSpPr/>
              <p:nvPr/>
            </p:nvSpPr>
            <p:spPr>
              <a:xfrm>
                <a:off x="2449800" y="582444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b5680"/>
                    </a:solidFill>
                    <a:latin typeface="Georgi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6" name="Line 24"/>
              <p:cNvSpPr/>
              <p:nvPr/>
            </p:nvSpPr>
            <p:spPr>
              <a:xfrm>
                <a:off x="2514600" y="5748480"/>
                <a:ext cx="228600" cy="0"/>
              </a:xfrm>
              <a:prstGeom prst="line">
                <a:avLst/>
              </a:prstGeom>
              <a:ln w="76320">
                <a:solidFill>
                  <a:srgbClr val="b292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7" name="Line 25"/>
              <p:cNvSpPr/>
              <p:nvPr/>
            </p:nvSpPr>
            <p:spPr>
              <a:xfrm>
                <a:off x="3809880" y="5748480"/>
                <a:ext cx="381240" cy="0"/>
              </a:xfrm>
              <a:prstGeom prst="line">
                <a:avLst/>
              </a:prstGeom>
              <a:ln w="76320">
                <a:solidFill>
                  <a:srgbClr val="b292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8" name="Line 26"/>
              <p:cNvSpPr/>
              <p:nvPr/>
            </p:nvSpPr>
            <p:spPr>
              <a:xfrm>
                <a:off x="5638680" y="5748480"/>
                <a:ext cx="609840" cy="0"/>
              </a:xfrm>
              <a:prstGeom prst="line">
                <a:avLst/>
              </a:prstGeom>
              <a:ln w="76320">
                <a:solidFill>
                  <a:srgbClr val="b292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449" name="Group 31"/>
          <p:cNvGrpSpPr/>
          <p:nvPr/>
        </p:nvGrpSpPr>
        <p:grpSpPr>
          <a:xfrm>
            <a:off x="910080" y="3409560"/>
            <a:ext cx="7700400" cy="2349360"/>
            <a:chOff x="910080" y="3409560"/>
            <a:chExt cx="7700400" cy="2349360"/>
          </a:xfrm>
        </p:grpSpPr>
        <p:grpSp>
          <p:nvGrpSpPr>
            <p:cNvPr id="450" name="Group 5"/>
            <p:cNvGrpSpPr/>
            <p:nvPr/>
          </p:nvGrpSpPr>
          <p:grpSpPr>
            <a:xfrm>
              <a:off x="910080" y="3409560"/>
              <a:ext cx="7700400" cy="2349360"/>
              <a:chOff x="910080" y="3409560"/>
              <a:chExt cx="7700400" cy="2349360"/>
            </a:xfrm>
          </p:grpSpPr>
          <p:sp>
            <p:nvSpPr>
              <p:cNvPr id="451" name="Line 6"/>
              <p:cNvSpPr/>
              <p:nvPr/>
            </p:nvSpPr>
            <p:spPr>
              <a:xfrm flipV="1">
                <a:off x="914400" y="3409560"/>
                <a:ext cx="0" cy="182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52" name="Freeform 7"/>
              <p:cNvSpPr/>
              <p:nvPr/>
            </p:nvSpPr>
            <p:spPr>
              <a:xfrm>
                <a:off x="914400" y="3651120"/>
                <a:ext cx="7315200" cy="2044080"/>
              </a:xfrm>
              <a:prstGeom prst="pie">
                <a:avLst/>
              </a:prstGeom>
              <a:noFill/>
              <a:ln w="25560">
                <a:solidFill>
                  <a:srgbClr val="4646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53" name="Freeform 8"/>
              <p:cNvSpPr/>
              <p:nvPr/>
            </p:nvSpPr>
            <p:spPr>
              <a:xfrm>
                <a:off x="1295280" y="3714480"/>
                <a:ext cx="7315200" cy="2044440"/>
              </a:xfrm>
              <a:prstGeom prst="pie">
                <a:avLst/>
              </a:prstGeom>
              <a:noFill/>
              <a:ln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54" name="Text Box 11"/>
              <p:cNvSpPr/>
              <p:nvPr/>
            </p:nvSpPr>
            <p:spPr>
              <a:xfrm>
                <a:off x="910080" y="3984480"/>
                <a:ext cx="75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eorgia"/>
                  </a:rPr>
                  <a:t>Pr [r]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cxnSp>
          <p:nvCxnSpPr>
            <p:cNvPr id="455" name="Straight Arrow Connector 30"/>
            <p:cNvCxnSpPr/>
            <p:nvPr/>
          </p:nvCxnSpPr>
          <p:spPr>
            <a:xfrm>
              <a:off x="914040" y="5713560"/>
              <a:ext cx="6172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Achieving Differential Privacy for d-ary f 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urator adds noise according to Laplace distribu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“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Hides” the presence/absence of any individual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How much can the data of one person affect M(T)?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, one person can affect one cell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T), by 1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949320" y="3276720"/>
            <a:ext cx="6367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6b568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 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g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|M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4"/>
          <p:cNvSpPr/>
          <p:nvPr/>
        </p:nvSpPr>
        <p:spPr>
          <a:xfrm>
            <a:off x="2895480" y="6340320"/>
            <a:ext cx="350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3779-BE93-4CB7-828A-8FD7ACDF56C8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alibrate Noise to Sensitivity for d-ary f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1306440" y="1295280"/>
            <a:ext cx="649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Freeform 5"/>
          <p:cNvSpPr/>
          <p:nvPr/>
        </p:nvSpPr>
        <p:spPr>
          <a:xfrm>
            <a:off x="1295280" y="3200400"/>
            <a:ext cx="312444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Freeform 6"/>
          <p:cNvSpPr/>
          <p:nvPr/>
        </p:nvSpPr>
        <p:spPr>
          <a:xfrm flipH="1">
            <a:off x="4419720" y="3200400"/>
            <a:ext cx="312408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64" name="Group 9"/>
          <p:cNvGrpSpPr/>
          <p:nvPr/>
        </p:nvGrpSpPr>
        <p:grpSpPr>
          <a:xfrm>
            <a:off x="609480" y="4495680"/>
            <a:ext cx="8381880" cy="0"/>
            <a:chOff x="609480" y="4495680"/>
            <a:chExt cx="8381880" cy="0"/>
          </a:xfrm>
        </p:grpSpPr>
        <p:sp>
          <p:nvSpPr>
            <p:cNvPr id="465" name="Line 10"/>
            <p:cNvSpPr/>
            <p:nvPr/>
          </p:nvSpPr>
          <p:spPr>
            <a:xfrm>
              <a:off x="1371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6" name="Line 11"/>
            <p:cNvSpPr/>
            <p:nvPr/>
          </p:nvSpPr>
          <p:spPr>
            <a:xfrm>
              <a:off x="2133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7" name="Line 12"/>
            <p:cNvSpPr/>
            <p:nvPr/>
          </p:nvSpPr>
          <p:spPr>
            <a:xfrm>
              <a:off x="2895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8" name="Line 13"/>
            <p:cNvSpPr/>
            <p:nvPr/>
          </p:nvSpPr>
          <p:spPr>
            <a:xfrm>
              <a:off x="3657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9" name="Line 14"/>
            <p:cNvSpPr/>
            <p:nvPr/>
          </p:nvSpPr>
          <p:spPr>
            <a:xfrm>
              <a:off x="4419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0" name="Line 15"/>
            <p:cNvSpPr/>
            <p:nvPr/>
          </p:nvSpPr>
          <p:spPr>
            <a:xfrm>
              <a:off x="5181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1" name="Line 16"/>
            <p:cNvSpPr/>
            <p:nvPr/>
          </p:nvSpPr>
          <p:spPr>
            <a:xfrm>
              <a:off x="6705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2" name="Line 17"/>
            <p:cNvSpPr/>
            <p:nvPr/>
          </p:nvSpPr>
          <p:spPr>
            <a:xfrm>
              <a:off x="8229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3" name="Line 18"/>
            <p:cNvSpPr/>
            <p:nvPr/>
          </p:nvSpPr>
          <p:spPr>
            <a:xfrm>
              <a:off x="609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4" name="Line 19"/>
            <p:cNvSpPr/>
            <p:nvPr/>
          </p:nvSpPr>
          <p:spPr>
            <a:xfrm>
              <a:off x="5943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5" name="Line 20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76" name="Text Box 21"/>
          <p:cNvSpPr/>
          <p:nvPr/>
        </p:nvSpPr>
        <p:spPr>
          <a:xfrm>
            <a:off x="4256640" y="458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Text Box 22"/>
          <p:cNvSpPr/>
          <p:nvPr/>
        </p:nvSpPr>
        <p:spPr>
          <a:xfrm>
            <a:off x="5021280" y="4619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56584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647856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724212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80002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3415320" y="4619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262476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189072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Text Box 30"/>
          <p:cNvSpPr/>
          <p:nvPr/>
        </p:nvSpPr>
        <p:spPr>
          <a:xfrm>
            <a:off x="110160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1007640" y="2016000"/>
            <a:ext cx="70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orem: To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ifferential privacy, u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led symmetric no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p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 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Straight Connector 30"/>
          <p:cNvSpPr/>
          <p:nvPr/>
        </p:nvSpPr>
        <p:spPr>
          <a:xfrm flipH="1">
            <a:off x="4417560" y="3049560"/>
            <a:ext cx="3240" cy="2362320"/>
          </a:xfrm>
          <a:prstGeom prst="line">
            <a:avLst/>
          </a:prstGeom>
          <a:ln w="9360">
            <a:solidFill>
              <a:srgbClr val="727c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Straight Connector 33"/>
          <p:cNvSpPr/>
          <p:nvPr/>
        </p:nvSpPr>
        <p:spPr>
          <a:xfrm flipH="1">
            <a:off x="5180040" y="3124080"/>
            <a:ext cx="1440" cy="2362320"/>
          </a:xfrm>
          <a:prstGeom prst="line">
            <a:avLst/>
          </a:prstGeom>
          <a:ln w="9360">
            <a:solidFill>
              <a:srgbClr val="727c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89" name="Straight Arrow Connector 36"/>
          <p:cNvCxnSpPr/>
          <p:nvPr/>
        </p:nvCxnSpPr>
        <p:spPr>
          <a:xfrm flipH="1" flipV="1">
            <a:off x="4494960" y="3199680"/>
            <a:ext cx="1677240" cy="1530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490" name="Straight Arrow Connector 40"/>
          <p:cNvCxnSpPr/>
          <p:nvPr/>
        </p:nvCxnSpPr>
        <p:spPr>
          <a:xfrm flipH="1">
            <a:off x="5181120" y="3429000"/>
            <a:ext cx="991440" cy="4579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491" name="TextBox 43"/>
          <p:cNvSpPr/>
          <p:nvPr/>
        </p:nvSpPr>
        <p:spPr>
          <a:xfrm>
            <a:off x="6246720" y="320040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atio = 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6E93-F2B0-4E55-B783-2D5656626224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alibrate Noise to Sensitivity for d-ary f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306440" y="1295280"/>
            <a:ext cx="649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Freeform 5"/>
          <p:cNvSpPr/>
          <p:nvPr/>
        </p:nvSpPr>
        <p:spPr>
          <a:xfrm>
            <a:off x="1295280" y="3200400"/>
            <a:ext cx="312444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Freeform 6"/>
          <p:cNvSpPr/>
          <p:nvPr/>
        </p:nvSpPr>
        <p:spPr>
          <a:xfrm flipH="1">
            <a:off x="4419720" y="3200400"/>
            <a:ext cx="312408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97" name="Group 9"/>
          <p:cNvGrpSpPr/>
          <p:nvPr/>
        </p:nvGrpSpPr>
        <p:grpSpPr>
          <a:xfrm>
            <a:off x="609480" y="4495680"/>
            <a:ext cx="8381880" cy="0"/>
            <a:chOff x="609480" y="4495680"/>
            <a:chExt cx="8381880" cy="0"/>
          </a:xfrm>
        </p:grpSpPr>
        <p:sp>
          <p:nvSpPr>
            <p:cNvPr id="498" name="Line 10"/>
            <p:cNvSpPr/>
            <p:nvPr/>
          </p:nvSpPr>
          <p:spPr>
            <a:xfrm>
              <a:off x="1371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9" name="Line 11"/>
            <p:cNvSpPr/>
            <p:nvPr/>
          </p:nvSpPr>
          <p:spPr>
            <a:xfrm>
              <a:off x="2133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0" name="Line 12"/>
            <p:cNvSpPr/>
            <p:nvPr/>
          </p:nvSpPr>
          <p:spPr>
            <a:xfrm>
              <a:off x="2895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1" name="Line 13"/>
            <p:cNvSpPr/>
            <p:nvPr/>
          </p:nvSpPr>
          <p:spPr>
            <a:xfrm>
              <a:off x="3657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2" name="Line 14"/>
            <p:cNvSpPr/>
            <p:nvPr/>
          </p:nvSpPr>
          <p:spPr>
            <a:xfrm>
              <a:off x="4419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5181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6705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5" name="Line 17"/>
            <p:cNvSpPr/>
            <p:nvPr/>
          </p:nvSpPr>
          <p:spPr>
            <a:xfrm>
              <a:off x="8229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6" name="Line 18"/>
            <p:cNvSpPr/>
            <p:nvPr/>
          </p:nvSpPr>
          <p:spPr>
            <a:xfrm>
              <a:off x="609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7" name="Line 19"/>
            <p:cNvSpPr/>
            <p:nvPr/>
          </p:nvSpPr>
          <p:spPr>
            <a:xfrm>
              <a:off x="5943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8" name="Line 20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09" name="Text Box 21"/>
          <p:cNvSpPr/>
          <p:nvPr/>
        </p:nvSpPr>
        <p:spPr>
          <a:xfrm>
            <a:off x="4256640" y="458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Text Box 22"/>
          <p:cNvSpPr/>
          <p:nvPr/>
        </p:nvSpPr>
        <p:spPr>
          <a:xfrm>
            <a:off x="5021280" y="4619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Text Box 23"/>
          <p:cNvSpPr/>
          <p:nvPr/>
        </p:nvSpPr>
        <p:spPr>
          <a:xfrm>
            <a:off x="56584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Text Box 24"/>
          <p:cNvSpPr/>
          <p:nvPr/>
        </p:nvSpPr>
        <p:spPr>
          <a:xfrm>
            <a:off x="647856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724212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Text Box 26"/>
          <p:cNvSpPr/>
          <p:nvPr/>
        </p:nvSpPr>
        <p:spPr>
          <a:xfrm>
            <a:off x="80002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Text Box 27"/>
          <p:cNvSpPr/>
          <p:nvPr/>
        </p:nvSpPr>
        <p:spPr>
          <a:xfrm>
            <a:off x="3415320" y="4619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262476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Text Box 29"/>
          <p:cNvSpPr/>
          <p:nvPr/>
        </p:nvSpPr>
        <p:spPr>
          <a:xfrm>
            <a:off x="189072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Text Box 30"/>
          <p:cNvSpPr/>
          <p:nvPr/>
        </p:nvSpPr>
        <p:spPr>
          <a:xfrm>
            <a:off x="110160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007640" y="2016000"/>
            <a:ext cx="70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orem: To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ifferential privacy, u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led symmetric no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Lap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 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TextBox 29"/>
          <p:cNvSpPr/>
          <p:nvPr/>
        </p:nvSpPr>
        <p:spPr>
          <a:xfrm>
            <a:off x="3176640" y="54100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 s  = 1/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 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D8A8-7A25-4F4A-9DBC-0E7193968053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alibrate Noise to Sensitivity for d-ary f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1279800" y="1295280"/>
            <a:ext cx="654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 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1295280" y="3200400"/>
            <a:ext cx="312444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Freeform 6"/>
          <p:cNvSpPr/>
          <p:nvPr/>
        </p:nvSpPr>
        <p:spPr>
          <a:xfrm flipH="1">
            <a:off x="4419720" y="3200400"/>
            <a:ext cx="312408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26" name="Group 9"/>
          <p:cNvGrpSpPr/>
          <p:nvPr/>
        </p:nvGrpSpPr>
        <p:grpSpPr>
          <a:xfrm>
            <a:off x="609480" y="4495680"/>
            <a:ext cx="8381880" cy="0"/>
            <a:chOff x="609480" y="4495680"/>
            <a:chExt cx="8381880" cy="0"/>
          </a:xfrm>
        </p:grpSpPr>
        <p:sp>
          <p:nvSpPr>
            <p:cNvPr id="527" name="Line 10"/>
            <p:cNvSpPr/>
            <p:nvPr/>
          </p:nvSpPr>
          <p:spPr>
            <a:xfrm>
              <a:off x="1371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8" name="Line 11"/>
            <p:cNvSpPr/>
            <p:nvPr/>
          </p:nvSpPr>
          <p:spPr>
            <a:xfrm>
              <a:off x="2133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9" name="Line 12"/>
            <p:cNvSpPr/>
            <p:nvPr/>
          </p:nvSpPr>
          <p:spPr>
            <a:xfrm>
              <a:off x="2895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0" name="Line 13"/>
            <p:cNvSpPr/>
            <p:nvPr/>
          </p:nvSpPr>
          <p:spPr>
            <a:xfrm>
              <a:off x="3657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1" name="Line 14"/>
            <p:cNvSpPr/>
            <p:nvPr/>
          </p:nvSpPr>
          <p:spPr>
            <a:xfrm>
              <a:off x="4419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2" name="Line 15"/>
            <p:cNvSpPr/>
            <p:nvPr/>
          </p:nvSpPr>
          <p:spPr>
            <a:xfrm>
              <a:off x="5181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3" name="Line 16"/>
            <p:cNvSpPr/>
            <p:nvPr/>
          </p:nvSpPr>
          <p:spPr>
            <a:xfrm>
              <a:off x="6705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4" name="Line 17"/>
            <p:cNvSpPr/>
            <p:nvPr/>
          </p:nvSpPr>
          <p:spPr>
            <a:xfrm>
              <a:off x="8229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5" name="Line 18"/>
            <p:cNvSpPr/>
            <p:nvPr/>
          </p:nvSpPr>
          <p:spPr>
            <a:xfrm>
              <a:off x="609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6" name="Line 19"/>
            <p:cNvSpPr/>
            <p:nvPr/>
          </p:nvSpPr>
          <p:spPr>
            <a:xfrm>
              <a:off x="5943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7" name="Line 20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38" name="Text Box 21"/>
          <p:cNvSpPr/>
          <p:nvPr/>
        </p:nvSpPr>
        <p:spPr>
          <a:xfrm>
            <a:off x="4256640" y="458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5021280" y="4619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Text Box 23"/>
          <p:cNvSpPr/>
          <p:nvPr/>
        </p:nvSpPr>
        <p:spPr>
          <a:xfrm>
            <a:off x="56584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Text Box 24"/>
          <p:cNvSpPr/>
          <p:nvPr/>
        </p:nvSpPr>
        <p:spPr>
          <a:xfrm>
            <a:off x="647856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Text Box 25"/>
          <p:cNvSpPr/>
          <p:nvPr/>
        </p:nvSpPr>
        <p:spPr>
          <a:xfrm>
            <a:off x="724212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Text Box 26"/>
          <p:cNvSpPr/>
          <p:nvPr/>
        </p:nvSpPr>
        <p:spPr>
          <a:xfrm>
            <a:off x="80002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Text Box 27"/>
          <p:cNvSpPr/>
          <p:nvPr/>
        </p:nvSpPr>
        <p:spPr>
          <a:xfrm>
            <a:off x="3415320" y="4619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Text Box 28"/>
          <p:cNvSpPr/>
          <p:nvPr/>
        </p:nvSpPr>
        <p:spPr>
          <a:xfrm>
            <a:off x="262476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Text Box 29"/>
          <p:cNvSpPr/>
          <p:nvPr/>
        </p:nvSpPr>
        <p:spPr>
          <a:xfrm>
            <a:off x="189072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Text Box 30"/>
          <p:cNvSpPr/>
          <p:nvPr/>
        </p:nvSpPr>
        <p:spPr>
          <a:xfrm>
            <a:off x="110160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007640" y="2016000"/>
            <a:ext cx="70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orem: To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ifferential privacy, u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led symmetric no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p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 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TextBox 29"/>
          <p:cNvSpPr/>
          <p:nvPr/>
        </p:nvSpPr>
        <p:spPr>
          <a:xfrm>
            <a:off x="3194640" y="5410080"/>
            <a:ext cx="24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  = T:  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1/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 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07DE-EEBE-49B8-B86B-29559396189C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alibrate Noise to Sensitivity for d-ary f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79800" y="1295280"/>
            <a:ext cx="654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 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Freeform 5"/>
          <p:cNvSpPr/>
          <p:nvPr/>
        </p:nvSpPr>
        <p:spPr>
          <a:xfrm>
            <a:off x="1295280" y="3200400"/>
            <a:ext cx="312444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Freeform 6"/>
          <p:cNvSpPr/>
          <p:nvPr/>
        </p:nvSpPr>
        <p:spPr>
          <a:xfrm flipH="1">
            <a:off x="4419720" y="3200400"/>
            <a:ext cx="312408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609480" y="4495680"/>
            <a:ext cx="8381880" cy="0"/>
            <a:chOff x="609480" y="4495680"/>
            <a:chExt cx="8381880" cy="0"/>
          </a:xfrm>
        </p:grpSpPr>
        <p:sp>
          <p:nvSpPr>
            <p:cNvPr id="556" name="Line 10"/>
            <p:cNvSpPr/>
            <p:nvPr/>
          </p:nvSpPr>
          <p:spPr>
            <a:xfrm>
              <a:off x="1371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7" name="Line 11"/>
            <p:cNvSpPr/>
            <p:nvPr/>
          </p:nvSpPr>
          <p:spPr>
            <a:xfrm>
              <a:off x="2133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8" name="Line 12"/>
            <p:cNvSpPr/>
            <p:nvPr/>
          </p:nvSpPr>
          <p:spPr>
            <a:xfrm>
              <a:off x="2895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9" name="Line 13"/>
            <p:cNvSpPr/>
            <p:nvPr/>
          </p:nvSpPr>
          <p:spPr>
            <a:xfrm>
              <a:off x="3657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0" name="Line 14"/>
            <p:cNvSpPr/>
            <p:nvPr/>
          </p:nvSpPr>
          <p:spPr>
            <a:xfrm>
              <a:off x="4419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1" name="Line 15"/>
            <p:cNvSpPr/>
            <p:nvPr/>
          </p:nvSpPr>
          <p:spPr>
            <a:xfrm>
              <a:off x="5181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2" name="Line 16"/>
            <p:cNvSpPr/>
            <p:nvPr/>
          </p:nvSpPr>
          <p:spPr>
            <a:xfrm>
              <a:off x="6705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3" name="Line 17"/>
            <p:cNvSpPr/>
            <p:nvPr/>
          </p:nvSpPr>
          <p:spPr>
            <a:xfrm>
              <a:off x="8229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>
              <a:off x="609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>
              <a:off x="5943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67" name="Text Box 21"/>
          <p:cNvSpPr/>
          <p:nvPr/>
        </p:nvSpPr>
        <p:spPr>
          <a:xfrm>
            <a:off x="4256640" y="458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5021280" y="4619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56584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647856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24212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80002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3415320" y="4619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Text Box 28"/>
          <p:cNvSpPr/>
          <p:nvPr/>
        </p:nvSpPr>
        <p:spPr>
          <a:xfrm>
            <a:off x="262476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189072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110160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1007640" y="2016000"/>
            <a:ext cx="70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orem: To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ifferential privacy, u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led symmetric no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Lap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 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TextBox 29"/>
          <p:cNvSpPr/>
          <p:nvPr/>
        </p:nvSpPr>
        <p:spPr>
          <a:xfrm>
            <a:off x="2868120" y="5410080"/>
            <a:ext cx="31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  = M:  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|M|/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 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Full  Paper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Georgia"/>
              </a:rPr>
              <a:t>Privacy, Accuracy, and Consistency Too: A Holistic Solution to Contingency Table Releas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Barak, Chaudhuri, Dwork, Kale,  McSherry, and Talwar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CM SIGMOD/PODS 2007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Georgia"/>
              </a:rPr>
              <a:t>Differentially Private Marginals Release with Mutual Consistency and Error Independent of Sample Siz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work, McSherry, and Talwar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This Workshop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C35C-52F7-46FD-BEDE-FFED94638838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alibrate Noise to Sensitivity for d-ary f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279800" y="1295280"/>
            <a:ext cx="654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 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Freeform 5"/>
          <p:cNvSpPr/>
          <p:nvPr/>
        </p:nvSpPr>
        <p:spPr>
          <a:xfrm>
            <a:off x="1295280" y="3200400"/>
            <a:ext cx="312444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Freeform 6"/>
          <p:cNvSpPr/>
          <p:nvPr/>
        </p:nvSpPr>
        <p:spPr>
          <a:xfrm flipH="1">
            <a:off x="4419720" y="3200400"/>
            <a:ext cx="312408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609480" y="4495680"/>
            <a:ext cx="8381880" cy="0"/>
            <a:chOff x="609480" y="4495680"/>
            <a:chExt cx="8381880" cy="0"/>
          </a:xfrm>
        </p:grpSpPr>
        <p:sp>
          <p:nvSpPr>
            <p:cNvPr id="585" name="Line 10"/>
            <p:cNvSpPr/>
            <p:nvPr/>
          </p:nvSpPr>
          <p:spPr>
            <a:xfrm>
              <a:off x="1371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6" name="Line 11"/>
            <p:cNvSpPr/>
            <p:nvPr/>
          </p:nvSpPr>
          <p:spPr>
            <a:xfrm>
              <a:off x="2133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7" name="Line 12"/>
            <p:cNvSpPr/>
            <p:nvPr/>
          </p:nvSpPr>
          <p:spPr>
            <a:xfrm>
              <a:off x="2895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3657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9" name="Line 14"/>
            <p:cNvSpPr/>
            <p:nvPr/>
          </p:nvSpPr>
          <p:spPr>
            <a:xfrm>
              <a:off x="4419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5181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6705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8229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609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5943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96" name="Text Box 21"/>
          <p:cNvSpPr/>
          <p:nvPr/>
        </p:nvSpPr>
        <p:spPr>
          <a:xfrm>
            <a:off x="4256640" y="458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Text Box 22"/>
          <p:cNvSpPr/>
          <p:nvPr/>
        </p:nvSpPr>
        <p:spPr>
          <a:xfrm>
            <a:off x="5021280" y="4619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56584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647856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724212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80002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Text Box 27"/>
          <p:cNvSpPr/>
          <p:nvPr/>
        </p:nvSpPr>
        <p:spPr>
          <a:xfrm>
            <a:off x="3415320" y="4619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Text Box 28"/>
          <p:cNvSpPr/>
          <p:nvPr/>
        </p:nvSpPr>
        <p:spPr>
          <a:xfrm>
            <a:off x="262476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Text Box 29"/>
          <p:cNvSpPr/>
          <p:nvPr/>
        </p:nvSpPr>
        <p:spPr>
          <a:xfrm>
            <a:off x="189072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Text Box 30"/>
          <p:cNvSpPr/>
          <p:nvPr/>
        </p:nvSpPr>
        <p:spPr>
          <a:xfrm>
            <a:off x="110160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1007640" y="2016000"/>
            <a:ext cx="70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orem: To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ifferential privacy, u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led symmetric no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p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 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TextBox 30"/>
          <p:cNvSpPr/>
          <p:nvPr/>
        </p:nvSpPr>
        <p:spPr>
          <a:xfrm>
            <a:off x="2112840" y="5410080"/>
            <a:ext cx="45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  = M3:  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(k choose 3) /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 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Application: Release of Marginals M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lease noisy contingency table; compute marginals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Consistency and differential privacy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oise per cell of T: Lap(1/</a:t>
            </a:r>
            <a:r>
              <a:rPr b="0" lang="el-GR" sz="24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Noise per cell of M:  about </a:t>
            </a:r>
            <a:r>
              <a:rPr b="0" lang="en-US" sz="2400" spc="-1" strike="noStrike">
                <a:solidFill>
                  <a:srgbClr val="464653"/>
                </a:solidFill>
                <a:latin typeface="Monotype Corsiva"/>
              </a:rPr>
              <a:t>2 </a:t>
            </a:r>
            <a:r>
              <a:rPr b="0" lang="en-US" sz="2400" spc="-1" strike="noStrike" baseline="30000">
                <a:solidFill>
                  <a:srgbClr val="464653"/>
                </a:solidFill>
                <a:latin typeface="Georgia"/>
              </a:rPr>
              <a:t>k/2</a:t>
            </a:r>
            <a:r>
              <a:rPr b="0" lang="en-US" sz="2400" spc="-1" strike="noStrike">
                <a:solidFill>
                  <a:srgbClr val="464653"/>
                </a:solidFill>
                <a:latin typeface="Monotype Corsiva"/>
              </a:rPr>
              <a:t>/  </a:t>
            </a:r>
            <a:r>
              <a:rPr b="0" lang="el-GR" sz="20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 for low order marginals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lease noisy versions of all marginals in M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oise per cell of M: Lap(|M|/</a:t>
            </a:r>
            <a:r>
              <a:rPr b="0" lang="el-GR" sz="20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ifferential privacy and better accur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Inconsistent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Move to the Fourier Domain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ust a change of basis.  Why bother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T represented by 2</a:t>
            </a:r>
            <a:r>
              <a:rPr b="0" lang="en-US" sz="2100" spc="-1" strike="noStrike" baseline="30000">
                <a:solidFill>
                  <a:srgbClr val="464653"/>
                </a:solidFill>
                <a:latin typeface="Georgia"/>
              </a:rPr>
              <a:t>k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Fourier coefficients (it has 2</a:t>
            </a:r>
            <a:r>
              <a:rPr b="0" lang="en-US" sz="2100" spc="-1" strike="noStrike" baseline="30000">
                <a:solidFill>
                  <a:srgbClr val="464653"/>
                </a:solidFill>
                <a:latin typeface="Georgia"/>
              </a:rPr>
              <a:t>k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cells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To compute j-ary marginal </a:t>
            </a:r>
            <a:r>
              <a:rPr b="0" lang="en-US" sz="2100" spc="-1" strike="noStrike">
                <a:solidFill>
                  <a:srgbClr val="464653"/>
                </a:solidFill>
                <a:latin typeface="CMMI10"/>
              </a:rPr>
              <a:t>®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(T) only need 2</a:t>
            </a:r>
            <a:r>
              <a:rPr b="0" lang="en-US" sz="2100" spc="-1" strike="noStrike" baseline="30000">
                <a:solidFill>
                  <a:srgbClr val="464653"/>
                </a:solidFill>
                <a:latin typeface="Georgia"/>
              </a:rPr>
              <a:t>j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coefficients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For any M, expected noise/cell depends on number of coefficients needed to compute M(T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Eg, for M3, E[noise/cell]  </a:t>
            </a:r>
            <a:r>
              <a:rPr b="0" lang="en-US" sz="2100" spc="-1" strike="noStrike">
                <a:solidFill>
                  <a:srgbClr val="464653"/>
                </a:solidFill>
                <a:latin typeface="Comic Sans MS"/>
              </a:rPr>
              <a:t>≈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 (k choose 3)/</a:t>
            </a:r>
            <a:r>
              <a:rPr b="0" lang="el-GR" sz="19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1900" spc="-1" strike="noStrike">
                <a:solidFill>
                  <a:srgbClr val="464653"/>
                </a:solidFill>
                <a:latin typeface="Georgia"/>
              </a:rPr>
              <a:t>.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lgorithm for R(M(T))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Compute  set of Fourier coefficients of T needed for M(T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Add noise; gives Fourier coefficients for M(T*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1-1  mapping between set of Fourier coeffs and tables ensures consistency!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Convert back to obtain M(T*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Release R(M(T))=M(T*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Improving Accuracy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Gaussian noise, instead of Laplacia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E[noise/cell] for M3 looks more like O((log (1/</a:t>
            </a:r>
            <a:r>
              <a:rPr b="1" lang="en-US" sz="2400" spc="-1" strike="noStrike">
                <a:solidFill>
                  <a:srgbClr val="464653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)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k</a:t>
            </a:r>
            <a:r>
              <a:rPr b="0" lang="en-US" sz="2300" spc="-1" strike="noStrike" baseline="30000">
                <a:solidFill>
                  <a:srgbClr val="464653"/>
                </a:solidFill>
                <a:latin typeface="Georgia"/>
              </a:rPr>
              <a:t>3/2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/</a:t>
            </a:r>
            <a:r>
              <a:rPr b="0" lang="el-GR" sz="20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Probablistic (1- </a:t>
            </a:r>
            <a:r>
              <a:rPr b="1" lang="en-US" sz="2400" spc="-1" strike="noStrike">
                <a:solidFill>
                  <a:srgbClr val="464653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) guarantee of </a:t>
            </a:r>
            <a:r>
              <a:rPr b="0" lang="el-GR" sz="24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-differential privacy</a:t>
            </a: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e Domain-Specific Knowledg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We have, so far, avoided this!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If most attributes are considered (socially) insensitive, can add less noise, and to fewer coefficient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g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3 with 1 sensitive attribu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(instead of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Monotype Corsiva"/>
              </a:rPr>
              <a:t>In Theory, Noise Must Depend on the Set M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inur-Nissim” style results: 1 sensitive attribut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Overly accurate answers to too many questions permits reconstruction of sensitive attributes of almost entire database, say, 99%.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ttacks use no linkage/external/auxiliary information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Rough Translation: there are “bad” databases, in which a sensitive binary attribute can be learned for all respondents, from, say, 2</a:t>
            </a:r>
            <a:r>
              <a:rPr b="0" lang="en-US" sz="2300" spc="-1" strike="noStrike">
                <a:solidFill>
                  <a:srgbClr val="464653"/>
                </a:solidFill>
                <a:latin typeface="Comic Sans MS"/>
              </a:rPr>
              <a:t>√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 degree-2 marginals, if per-cell errors are strictly less than </a:t>
            </a:r>
            <a:r>
              <a:rPr b="0" lang="en-US" sz="2300" spc="-1" strike="noStrike">
                <a:solidFill>
                  <a:srgbClr val="464653"/>
                </a:solidFill>
                <a:latin typeface="Comic Sans MS"/>
              </a:rPr>
              <a:t>√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“badness” relates to the distribution of the occurrence of th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nsensitiv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ttributes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Summary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troduced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ifferential Privac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Rigorous and ad omnia notion of priv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howed how to achieve differential privac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In general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In the special case of marginal release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imple!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cial attention paid to ensuring consistency among released marginal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er cell accuracy deteriorates with complexity of query and degree of privac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ted that accuracy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mus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deteriorate with complexity of quer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Release of Contingency Table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multaneously ensu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Consisten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ccur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ifferential Priv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Release of Contingency Table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multaneously ensu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Consisten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ccur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ifferential Priv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erms To Defin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eorgia"/>
              </a:rPr>
              <a:t>Contingency Table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eorgia"/>
              </a:rPr>
              <a:t>Marginal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eorgia"/>
              </a:rPr>
              <a:t>Consisten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eorgia"/>
              </a:rPr>
              <a:t>Accuracy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eorgia"/>
              </a:rPr>
              <a:t>Differential Priv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6361200" y="1916280"/>
            <a:ext cx="2554200" cy="22748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ontingency Tables and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Contingency Table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istogram / Table of Cou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Each respondent (member of data set)                              described by a vector of k (binary) attribute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Population in each of the 2</a:t>
            </a:r>
            <a:r>
              <a:rPr b="0" lang="en-US" sz="2300" spc="-1" strike="noStrike" baseline="30000">
                <a:solidFill>
                  <a:srgbClr val="464653"/>
                </a:solidFill>
                <a:latin typeface="Georgia"/>
              </a:rPr>
              <a:t>k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cells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One cell for each setting of the k attribu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71" name="Group 11"/>
          <p:cNvGrpSpPr/>
          <p:nvPr/>
        </p:nvGrpSpPr>
        <p:grpSpPr>
          <a:xfrm>
            <a:off x="6629400" y="1989000"/>
            <a:ext cx="2184480" cy="2125800"/>
            <a:chOff x="6629400" y="1989000"/>
            <a:chExt cx="2184480" cy="2125800"/>
          </a:xfrm>
        </p:grpSpPr>
        <p:sp>
          <p:nvSpPr>
            <p:cNvPr id="372" name="Oval 5"/>
            <p:cNvSpPr/>
            <p:nvPr/>
          </p:nvSpPr>
          <p:spPr>
            <a:xfrm>
              <a:off x="6770160" y="377496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>
              <a:off x="6629400" y="394488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>
              <a:off x="8532000" y="198900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5" name="Oval 8"/>
            <p:cNvSpPr/>
            <p:nvPr/>
          </p:nvSpPr>
          <p:spPr>
            <a:xfrm>
              <a:off x="8673120" y="224388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6" name="Oval 9"/>
            <p:cNvSpPr/>
            <p:nvPr/>
          </p:nvSpPr>
          <p:spPr>
            <a:xfrm>
              <a:off x="8461800" y="224388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7" name="Oval 10"/>
            <p:cNvSpPr/>
            <p:nvPr/>
          </p:nvSpPr>
          <p:spPr>
            <a:xfrm>
              <a:off x="7404480" y="215892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78" name="Oval 12"/>
          <p:cNvSpPr/>
          <p:nvPr/>
        </p:nvSpPr>
        <p:spPr>
          <a:xfrm>
            <a:off x="8621640" y="3429000"/>
            <a:ext cx="141480" cy="16992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79" name="Straight Arrow Connector 13"/>
          <p:cNvCxnSpPr/>
          <p:nvPr/>
        </p:nvCxnSpPr>
        <p:spPr>
          <a:xfrm>
            <a:off x="6600600" y="4382640"/>
            <a:ext cx="1269000" cy="25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0" name="Straight Arrow Connector 14"/>
          <p:cNvCxnSpPr/>
          <p:nvPr/>
        </p:nvCxnSpPr>
        <p:spPr>
          <a:xfrm flipV="1">
            <a:off x="6323040" y="2513880"/>
            <a:ext cx="2160" cy="13597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1" name="Straight Arrow Connector 15"/>
          <p:cNvCxnSpPr/>
          <p:nvPr/>
        </p:nvCxnSpPr>
        <p:spPr>
          <a:xfrm flipV="1">
            <a:off x="8432640" y="3789000"/>
            <a:ext cx="635760" cy="51048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382" name="TextBox 16"/>
          <p:cNvSpPr/>
          <p:nvPr/>
        </p:nvSpPr>
        <p:spPr>
          <a:xfrm>
            <a:off x="5806800" y="32781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6168960" y="4226040"/>
            <a:ext cx="5367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8610120" y="39718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6361200" y="1916280"/>
            <a:ext cx="2554200" cy="2274840"/>
          </a:xfrm>
          <a:prstGeom prst="rect">
            <a:avLst/>
          </a:prstGeom>
          <a:ln w="0">
            <a:noFill/>
          </a:ln>
        </p:spPr>
      </p:pic>
      <p:sp>
        <p:nvSpPr>
          <p:cNvPr id="386" name="Oval 17"/>
          <p:cNvSpPr/>
          <p:nvPr/>
        </p:nvSpPr>
        <p:spPr>
          <a:xfrm>
            <a:off x="8534520" y="1981080"/>
            <a:ext cx="304560" cy="38124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Oval 13"/>
          <p:cNvSpPr/>
          <p:nvPr/>
        </p:nvSpPr>
        <p:spPr>
          <a:xfrm>
            <a:off x="7391520" y="1981080"/>
            <a:ext cx="304560" cy="38124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ontingency Tables and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Contingency Table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istogram / Table of Cou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Each respondent (member of data set)                     described by a vector of k (binary) attribute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Population in each of the 2</a:t>
            </a:r>
            <a:r>
              <a:rPr b="0" lang="en-US" sz="2300" spc="-1" strike="noStrike" baseline="30000">
                <a:solidFill>
                  <a:srgbClr val="464653"/>
                </a:solidFill>
                <a:latin typeface="Georgia"/>
              </a:rPr>
              <a:t>k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cells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One cell for each setting of the k attribu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Marginal: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sub-tab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pecified by a set of j </a:t>
            </a:r>
            <a:r>
              <a:rPr b="0" lang="en-US" sz="2300" spc="-1" strike="noStrike">
                <a:solidFill>
                  <a:srgbClr val="464653"/>
                </a:solidFill>
                <a:latin typeface="Comic Sans MS"/>
              </a:rPr>
              <a:t>≤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k attributes, eg, j=1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Histogram of population in each of 2</a:t>
            </a:r>
            <a:r>
              <a:rPr b="0" lang="en-US" sz="2300" spc="-1" strike="noStrike" baseline="30000">
                <a:solidFill>
                  <a:srgbClr val="464653"/>
                </a:solidFill>
                <a:latin typeface="Georgia"/>
              </a:rPr>
              <a:t>j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                                  (eg, 2) cells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ne cell for each setting of the j selected attributes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= 0: 3, 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= 1: 4, so th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arginal is (3,4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Oval 11"/>
          <p:cNvSpPr/>
          <p:nvPr/>
        </p:nvSpPr>
        <p:spPr>
          <a:xfrm>
            <a:off x="6629400" y="3657600"/>
            <a:ext cx="304920" cy="3808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91" name="Group 11"/>
          <p:cNvGrpSpPr/>
          <p:nvPr/>
        </p:nvGrpSpPr>
        <p:grpSpPr>
          <a:xfrm>
            <a:off x="6629400" y="1913040"/>
            <a:ext cx="2184480" cy="2125440"/>
            <a:chOff x="6629400" y="1913040"/>
            <a:chExt cx="2184480" cy="2125440"/>
          </a:xfrm>
        </p:grpSpPr>
        <p:sp>
          <p:nvSpPr>
            <p:cNvPr id="392" name="Oval 5"/>
            <p:cNvSpPr/>
            <p:nvPr/>
          </p:nvSpPr>
          <p:spPr>
            <a:xfrm>
              <a:off x="6770160" y="369864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3" name="Oval 6"/>
            <p:cNvSpPr/>
            <p:nvPr/>
          </p:nvSpPr>
          <p:spPr>
            <a:xfrm>
              <a:off x="6629400" y="386856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4" name="Oval 7"/>
            <p:cNvSpPr/>
            <p:nvPr/>
          </p:nvSpPr>
          <p:spPr>
            <a:xfrm>
              <a:off x="8532000" y="191304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8673120" y="216792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8461800" y="216792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7404480" y="214164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98" name="Oval 12"/>
          <p:cNvSpPr/>
          <p:nvPr/>
        </p:nvSpPr>
        <p:spPr>
          <a:xfrm>
            <a:off x="7391520" y="3352680"/>
            <a:ext cx="304560" cy="38124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6629400" y="2362320"/>
            <a:ext cx="304920" cy="3808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Oval 15"/>
          <p:cNvSpPr/>
          <p:nvPr/>
        </p:nvSpPr>
        <p:spPr>
          <a:xfrm>
            <a:off x="7772400" y="2362320"/>
            <a:ext cx="304920" cy="38088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7772400" y="3733920"/>
            <a:ext cx="304920" cy="38088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8534520" y="3352680"/>
            <a:ext cx="304560" cy="38124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03" name="Straight Arrow Connector 20"/>
          <p:cNvCxnSpPr/>
          <p:nvPr/>
        </p:nvCxnSpPr>
        <p:spPr>
          <a:xfrm>
            <a:off x="6580080" y="4417560"/>
            <a:ext cx="1269360" cy="25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404" name="TextBox 21"/>
          <p:cNvSpPr/>
          <p:nvPr/>
        </p:nvSpPr>
        <p:spPr>
          <a:xfrm>
            <a:off x="6172200" y="4213080"/>
            <a:ext cx="53352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val 22"/>
          <p:cNvSpPr/>
          <p:nvPr/>
        </p:nvSpPr>
        <p:spPr>
          <a:xfrm>
            <a:off x="8621640" y="3429000"/>
            <a:ext cx="141480" cy="16992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All the Notation for the Entire Talk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the real data set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n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number of respondents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k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number of attributes 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T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= T(D) : the contingency table representing D (2</a:t>
            </a:r>
            <a:r>
              <a:rPr b="0" lang="en-US" sz="2100" spc="-1" strike="noStrike" baseline="30000">
                <a:solidFill>
                  <a:srgbClr val="464653"/>
                </a:solidFill>
                <a:latin typeface="Georgia"/>
              </a:rPr>
              <a:t>k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cells) 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T*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 contingency table of a fictional data set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M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= M(T): a collection of marginals  of T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Georgia"/>
              </a:rPr>
              <a:t>M3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: collection of all 3-way marginal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R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=R(M)=R(M(T)): reported  marginals 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ypically noisy, to protect privacy:  R(M(T)) ≠ M(T)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c 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= c(M): total number of cells in M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name of a marginal  (ie, a set of attributes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0000"/>
                </a:solidFill>
                <a:latin typeface="Georgia"/>
              </a:rPr>
              <a:t>ε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a privacy parameter   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Consistency</a:t>
            </a: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 Across Reported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re exists a fictional contingency table T* whose marginals equal the reported marginal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(T*) = R(M(T))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T*, M(T*) may have negative and/or non-integral count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eorgia"/>
              </a:rPr>
              <a:t>Who cares about consistency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ot we.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oftware?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Consistency</a:t>
            </a: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 Across Reported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re exists a fictional contingency table T* whose marginals equal the reported marginal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(T*) = R(M(T))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T*, M(T*) may have negative and/or non-integral count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eorgia"/>
              </a:rPr>
              <a:t>Who cares about integrality, non-negativity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ot we.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oftware? 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ee the paper.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6:56:23Z</dcterms:created>
  <dc:creator>Cynthia Dwork</dc:creator>
  <dc:description/>
  <dc:language>en-US</dc:language>
  <cp:lastModifiedBy>Cynthia Dwork</cp:lastModifiedBy>
  <dcterms:modified xsi:type="dcterms:W3CDTF">2007-12-03T07:30:42Z</dcterms:modified>
  <cp:revision>171</cp:revision>
  <dc:subject/>
  <dc:title>An Ad Omnia Approach to Defining and Achieving Private Data Analysis</dc:title>
</cp:coreProperties>
</file>