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DDD-A8F5-4520-A0E7-70CC6A55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B14-8378-4646-BC78-D6162FD5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CB0-F9EE-4EF0-B4E9-BE091818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F58-3CA5-46B5-B1FC-8CAC7157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2C1-39EF-4092-AAD1-2673971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98F-804B-41E2-B701-D42EE13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A65-9FE9-4471-B7D3-389C079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E6D-CC7D-4D24-94ED-40E10F4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DD8-A5CE-4908-AECA-4979CFE8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1E9-C7F0-4051-B554-45DECAA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BC5-C42A-4313-AE40-9DC4DBE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AB5-BFD2-4AF8-909B-3F5BFD6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328-B235-43E3-9024-5BAF8CEE4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sessing the Impact  of SDC Methods on Census Frequency T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3068640"/>
            <a:ext cx="4897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ampton Statistical Sciences Research Instit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of Southampt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F96-7529-4C94-914D-BB449CF396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determine output strategies and SDC togeth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-copy tables, non-flexible categories and geographies:  can control SDC methods to suit th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based tables and flexible categories and  geographies: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to add noise or round for every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 of high-risk cell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not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true zeros out of total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00536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urbed</m:t>
                                    </m:r>
                                    <m:f>
                                      <m:num>
                                        <m:m>
                                          <m:mr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or</m:t>
                                              </m:r>
                                              <m:m>
                                                <m:mr>
                                                  <m:e/>
                                                </m:mr>
                                              </m:m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mputed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</m:mr>
                                        </m:m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∪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76720" y="5157720"/>
                <a:ext cx="309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4D9-2B47-4B9E-9985-40C6EF48D9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620640"/>
            <a:ext cx="8713800" cy="63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204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metric  - distortion to distribution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matam and Karr, 20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cells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be a table for r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number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the cell frequency for c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e the margin,          the number of categories,         the number of persons in the            catego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500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20400">
              <a:spcBef>
                <a:spcPts val="1749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19280" y="3284640"/>
                <a:ext cx="5645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t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rig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03280" y="2349360"/>
          <a:ext cx="45720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57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28000" y="2349360"/>
          <a:ext cx="720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8000" y="2349360"/>
                    <a:ext cx="720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9876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0720" y="2349360"/>
                <a:ext cx="377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1159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76360" y="5805360"/>
                <a:ext cx="554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b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rt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b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rig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92360" y="458136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308720" y="4508640"/>
                <a:ext cx="5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851280" y="5084640"/>
                <a:ext cx="649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44B-0FE5-4BB8-B2A0-5A8F23975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0"/>
            <a:ext cx="89917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Tests for Independenc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mer’s V measure of  associ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      is the Pearson chi-square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utility measure for  entropy and the Pearson chi-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uare 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log linear analysis for multi-dimension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les, i.e. devianc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1052640"/>
                <a:ext cx="304812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19280" y="263700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79640" y="3429000"/>
          <a:ext cx="441972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429000"/>
                    <a:ext cx="4419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F62-CF72-4008-9535-1BA49CB303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0"/>
            <a:ext cx="8991720" cy="61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” Vari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be a target proportion for a ce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row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let                                       be the overall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ortion across all rows of the tab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“between” variance is defined as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utility measure is: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03280" y="1341360"/>
          <a:ext cx="75420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754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844640"/>
          <a:ext cx="1908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44640"/>
                    <a:ext cx="19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92360" y="170028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16360" y="3933720"/>
                <a:ext cx="4086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76360" y="5734080"/>
                <a:ext cx="5832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46D-22A1-4506-9F95-2BB6F505E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991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ce of Cell Cou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nce of the cell count for r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3716280"/>
                <a:ext cx="2927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4360" y="2565360"/>
            <a:ext cx="64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is the number of colum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variance across all r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92360" y="2565360"/>
                <a:ext cx="392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755640" y="4724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tility measur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79640" y="5373720"/>
                <a:ext cx="53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D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35280" y="1844640"/>
                <a:ext cx="461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449-A3BE-4144-8C51-143FB7BC2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77040" indent="-7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UK Census 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: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Areas (1,4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ctivity (9) * Sex (2)* Long-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Term Illness 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includes 317,064 persons between 16-74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53,532 intern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ell size: 5.92 although table is 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zeros: 17,915 (33.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small cells: 14,726 (27.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D71-FDAD-451E-89A9-C8806892B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260280"/>
          <a:ext cx="475308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47530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02080" y="2492280"/>
          <a:ext cx="4741920" cy="410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2080" y="2492280"/>
                    <a:ext cx="47419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D02-1A60-4EF5-9B1E-46E51902E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987640" y="3429000"/>
          <a:ext cx="615636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429000"/>
                    <a:ext cx="61563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8360" y="36360"/>
          <a:ext cx="5543640" cy="3463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360"/>
                    <a:ext cx="55436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289-E27A-4ABD-A60E-5E84C292F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332000" y="765000"/>
          <a:ext cx="6912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65000"/>
                    <a:ext cx="6912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51C-78FB-468F-8E1A-8DB6063F3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0920" y="115920"/>
          <a:ext cx="53290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53290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1640" y="3357720"/>
          <a:ext cx="6372360" cy="32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357720"/>
                    <a:ext cx="6372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ABB-67D9-4484-8295-F99EC540D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866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 for protecting Census frequency 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and data utilit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Utility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0FB-8233-4771-9082-427BF8B6B0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85800" y="793800"/>
          <a:ext cx="7558200" cy="50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93800"/>
                    <a:ext cx="7558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145-D4C2-4099-8750-53B305FE0C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 eliminates small cells but need to protect against disclosure by differencing and linking when random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adds more ambiguity into the zero coun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rounding to base 5 has greatest impact on distortions to distribution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controlled rounding has almost no effect on distortions to internal cells but has less distortion on marginal cell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controlled rounding  has less distortion to internal cells since it is similar to deterministic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suppression with simple imputation method has highest utility (no perturbation on large cells) but difficult to implement in a C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2E4-5E49-4E6D-A522-319380EAE1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cent of true small cells in record swapping and less ambiguity of zero cell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swapping has less distortion to internal cells than rounding which increases with  higher swapping rat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swapping has more distortion on internal cells than random swapping but has less impact on margin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margins of the table have no distortion  because of controls in swapp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record swapping with rounding results in more distortion but provides added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112-F709-4B9D-9C62-19121A41CD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353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swapping across geographies attenu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ss of association (moving towards independence)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unts “flattening”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proportions  moving to the overall proportio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 increases with higher swapping rates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geted record swapping has  less attenuation tha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andom sw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 introduces more zer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evels of association ar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ell counts “sharp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less severe for controlled round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g record swapping and rounding cancel out opposing effects depending on the direction and magnitude of each procedure separ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BFF-F986-4636-A360-136772B209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ce of SDC method depends on tolerable risk thresholds and demands for “fit for purpose” dat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ing and combining SDC methods (non-perturbative and perturbative methods) can produce higher utility, i.e. ABS developed microdata keys for consistency in round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ion of quality measures and guidance for carrying out statistical analysis on protected tab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output strategies based on flexible table generating software. More need for research into disclosure risk by differencing and linking (collaboration with CS community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setting, remote access and license agreements for highly disclosive Census outputs (sample microdata and origin-destination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52D-0587-4250-A479-D98E6BBBEB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alie Shlomo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Shlomo@So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68D-6299-4914-9FA1-E8B17EED66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 in Census tabl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protect many  tables from one dataset containing population counts which can be linked and differenc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sider output strategies for standard tables  and web based table generating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teract with users and develop  SDC framework with a focus on both disclosure risk and data util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89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557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5573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ttribute 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77336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D44-B961-4826-8598-88EA90E37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9280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 Census  t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’s and 2’s in cells are disclosive since thes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ells lead to identific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’s may be disclosive if there are only a  few non-zer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in a row or column  (attribute disclosure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tion of disclosure ri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 rules (minimum average cell size, ratio of small  cells to zer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 of high-risk cells (1 or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840" indent="-254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opy  (minimum of 0 if distribution has one non-zer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 and all others zero,  maximum of (log K) if all cells a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21E-429B-40AE-AE5A-80DCF5BD7C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34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56200" indent="-495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abular methods (special case of PR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1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ndom Record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1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ge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ensus context, geographical variables typically swapped to avoid edit failures and minimize bias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select p% of the 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a household matching on set of key variables (i.e. household size and broad sex-age distribution) and swap all geographical variab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rget  records for swapping that are in high-risk cells of size 1 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582-337F-4A17-B634-23FA4A239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98960" indent="-45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iased random rounding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are rounded up or down to a multiple of the  rounding base depending on pre-defined probabilities and a stochastic dra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or unbiased random rounding to base 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0  w.p  of  2/3                       1       3 w.p 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0  w.p  of  1/3                       2       3 w.p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ation of rounding is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s and internal cel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ounded separat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rounding: in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aggregated to obtain marg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3645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932360" y="4149720"/>
          <a:ext cx="3809880" cy="20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149720"/>
                    <a:ext cx="38098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E4A-9F2A-4A34-AF9E-0CC2DF706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834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27120" indent="-6271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controlled unbiased random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selection strategy for entries to round, i.e. use a “without replacement” strateg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alculate the expected number of entries to roun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raw an srswor sample from among the entrie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und up, the rest round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arried out per row/column to ensure consisten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otals on one dimension (key statistics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s extra variance as a result of the round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335-05B9-4549-907E-20E73C95A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655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464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ing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in Tau-Arg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zar-González, Bycroft and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aggemeier,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ear programming techniques to round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ntries up or down, results similar to determin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ll rounded entries add up to rounded margin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ethod not unbiased and entries can jump 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ED-FDB6-48F9-B3E8-3114E71EE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Methods for Protecting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5512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Cell Sup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ube  method 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essing, 200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in Tau-Argus and suited for larg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heuristic based on  suppressing corners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ercube formed by the primary suppressed cell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optimalit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ting suppressed cells for utilit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suppressed cell by the average inform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oss in each row/colum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uppressed cells in a row and known margin is 500. The total of non-suppressed cells is 400. Each cell is replaced with a value of 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E44-1F18-4823-BCDE-C7DBBD9C6F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ns4</cp:lastModifiedBy>
  <dcterms:modified xsi:type="dcterms:W3CDTF">2007-12-07T14:07:06Z</dcterms:modified>
  <cp:revision>161</cp:revision>
  <dc:subject/>
  <dc:title>מצגת של PowerPoint</dc:title>
</cp:coreProperties>
</file>