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BE1E-32D8-494D-BDA3-82C50869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733E-4B47-4001-A5E2-BF1B2F41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2466-1432-4B8F-A6B3-A86367385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3CD9-BF7C-48A9-8F45-6028CB481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4EF9-1781-406E-B012-9607B8DD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C240-CB88-47A2-A378-FAB6DFAB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24FE-F6DB-445B-89C1-F4EE4DDA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B977-4F5F-4FCD-8C34-EC5ECB47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07F5-2F8B-420F-8F34-3C6F7398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8AAB-E687-4400-A850-5FB0BF51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6D0A-E543-411F-9D0A-B5D6C096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7AE3-5BB2-4A05-9BF9-3CDF9999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5954-E426-4B03-AEDE-B8E16B25F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549360"/>
            <a:ext cx="7772400" cy="21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ssessing the Impact  of SDC Methods on Census Frequency Tab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3068640"/>
            <a:ext cx="48974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alie Shl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ampton Statistical Sciences Research Institu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iversity of Southampt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FEDC-7803-4EF0-A3B9-451A9D9F81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losure Risk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620640"/>
            <a:ext cx="89280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to determine output strategies and SDC togethe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-copy tables, non-flexible categories and geographies:  can control SDC methods to suit th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-based tables and flexible categories and  geographies: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ed to add noise or round for every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losure risk meas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rtion of high-risk cells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not pro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nt true zeros out of total z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403280" y="4005360"/>
                <a:ext cx="5040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1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∪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ot</m:t>
                              </m:r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erturbed</m:t>
                                    </m:r>
                                    <m:f>
                                      <m:num>
                                        <m:m>
                                          <m:mr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or</m:t>
                                              </m:r>
                                              <m:m>
                                                <m:mr>
                                                  <m:e/>
                                                </m:mr>
                                              </m:m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imputed</m:t>
                                              </m:r>
                                              <m:r>
                                                <m:t xml:space="preserve">)</m:t>
                                              </m:r>
                                            </m:e>
                                          </m:mr>
                                        </m:m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sSub>
                                              <m:e>
                                                <m:r>
                                                  <m:t xml:space="preserve">C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1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∪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C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2</m:t>
                                                </m:r>
                                              </m:sub>
                                            </m:sSub>
                                          </m:sub>
                                        </m:sSub>
                                      </m:den>
                                    </m:f>
                                  </m:e>
                                </m:mr>
                              </m:m>
                            </m:e>
                          </m:mr>
                        </m:m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076720" y="5157720"/>
                <a:ext cx="30974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rig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rig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pert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33F0-9322-4EFC-9034-449BFD83D6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620640"/>
            <a:ext cx="8713800" cy="63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2040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ance metric  - distortion to distributions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matam and Karr, 200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20400">
              <a:spcBef>
                <a:spcPts val="1749"/>
              </a:spcBef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 cells: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20400">
              <a:spcBef>
                <a:spcPts val="1500"/>
              </a:spcBef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be a table for row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,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 number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w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             the cell frequency for ce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20400">
              <a:spcBef>
                <a:spcPts val="1500"/>
              </a:spcBef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20400">
              <a:spcBef>
                <a:spcPts val="1749"/>
              </a:spcBef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gi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20400">
              <a:spcBef>
                <a:spcPts val="1500"/>
              </a:spcBef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be the margin,          the number of categories,         the number of persons in the            categor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20400">
              <a:spcBef>
                <a:spcPts val="1500"/>
              </a:spcBef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20400">
              <a:spcBef>
                <a:spcPts val="1749"/>
              </a:spcBef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813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619280" y="3284640"/>
                <a:ext cx="56451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ri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p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(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Sup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ert</m:t>
                                        </m:r>
                                      </m:sub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r>
                                      <m:t xml:space="preserve">c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rad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Sup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orig</m:t>
                                        </m:r>
                                      </m:sub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r>
                                      <m:t xml:space="preserve">c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rad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ra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44625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403280" y="2349360"/>
          <a:ext cx="457200" cy="3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349360"/>
                    <a:ext cx="4572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4367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8028000" y="2349360"/>
          <a:ext cx="720720" cy="4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28000" y="2349360"/>
                    <a:ext cx="72072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298764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500720" y="2349360"/>
                <a:ext cx="3776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250920" y="11592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tility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476360" y="5805360"/>
                <a:ext cx="55436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D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ri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sup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sSubSup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pert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l</m:t>
                                            </m:r>
                                          </m:sup>
                                        </m:sSubSup>
                                      </m:e>
                                    </m:rad>
                                    <m:r>
                                      <m:t xml:space="preserve">−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sSubSup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orig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l</m:t>
                                            </m:r>
                                          </m:sup>
                                        </m:sSubSup>
                                      </m:e>
                                    </m:ra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492360" y="4581360"/>
                <a:ext cx="432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308720" y="4508640"/>
                <a:ext cx="5050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851280" y="5084640"/>
                <a:ext cx="64944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46FE-77BB-4763-9AF7-2B4B275B67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280" y="0"/>
            <a:ext cx="899172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tility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act on Tests for Independence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mer’s V measure of  associat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re       is the Pearson chi-square stat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utility measure for  entropy and the Pearson chi-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quare 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act on log linear analysis for multi-dimensiona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bles, i.e. deviance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813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625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67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052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955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867280" y="1052640"/>
                <a:ext cx="304812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χ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619280" y="2637000"/>
                <a:ext cx="360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4952880" y="32004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979640" y="3429000"/>
          <a:ext cx="441972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3429000"/>
                    <a:ext cx="441972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DE17-6926-4D7B-9A32-68EF70A366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0"/>
            <a:ext cx="8991720" cy="61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tility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ween” Varian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           be a target proportion for a cel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row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let                                       be the overall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portion across all rows of the tabl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“between” variance is defined as: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utility measure is: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813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625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67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052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955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32004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6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5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03280" y="1341360"/>
          <a:ext cx="754200" cy="4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341360"/>
                    <a:ext cx="7542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24000" y="1844640"/>
          <a:ext cx="190800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1844640"/>
                    <a:ext cx="1908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492360" y="1700280"/>
                <a:ext cx="21700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ri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p>
                          <m:e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rig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p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rig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916360" y="3933720"/>
                <a:ext cx="408600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ri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rig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ri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476360" y="5734080"/>
                <a:ext cx="58323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ri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B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ri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ri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0F1F-8C90-4B03-8E52-C2D13AE00B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280" y="0"/>
            <a:ext cx="8991720" cy="17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tility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nce of Cell Count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riance of the cell count for row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813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625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67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052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955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32004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5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700360" y="3716280"/>
                <a:ext cx="292716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ri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rig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684360" y="2565360"/>
            <a:ext cx="6480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      is the number of colum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verage variance across all r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692360" y="2565360"/>
                <a:ext cx="392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755640" y="472428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tility measure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79640" y="5373720"/>
                <a:ext cx="5329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D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rig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rig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rig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835280" y="1844640"/>
                <a:ext cx="4611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rig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k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rig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rig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EB19-916F-49AE-BF18-F5E70301A0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ion of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136000" cy="18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77040" indent="-77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1 UK Census T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ws: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Areas (1,48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umns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 Activity (9) * Sex (2)* Long-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Term Illness (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includes 317,064 persons between 16-74 in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53,532 internal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cell size: 5.92 although table is skew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zeros: 17,915 (33.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small cells: 14,726 (27.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1EA2-656F-4F96-B3BD-64B0444A97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260280"/>
          <a:ext cx="4753080" cy="38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0280"/>
                    <a:ext cx="4753080" cy="38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402080" y="2492280"/>
          <a:ext cx="4741920" cy="4103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02080" y="2492280"/>
                    <a:ext cx="474192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47D0-5D4E-4559-97D3-BE3CE7DFBE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2987640" y="3429000"/>
          <a:ext cx="615636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3429000"/>
                    <a:ext cx="615636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68360" y="36360"/>
          <a:ext cx="5543640" cy="3463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36360"/>
                    <a:ext cx="5543640" cy="34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EF57-3570-4131-B4A9-876CA386F0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1332000" y="765000"/>
          <a:ext cx="6912000" cy="459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765000"/>
                    <a:ext cx="6912000" cy="45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9C6F-BA9B-45FB-97F3-9D3D0503AC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250920" y="115920"/>
          <a:ext cx="5329080" cy="331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5920"/>
                    <a:ext cx="532908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771640" y="3357720"/>
          <a:ext cx="6372360" cy="3240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3357720"/>
                    <a:ext cx="637236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5444-197E-49F9-B5A7-D5196E8C8B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866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151920" indent="-15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1920" indent="-15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losure risk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1920" indent="-15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C methods  for protecting Census frequency 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1920" indent="-15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losure risk and data utility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1920" indent="-15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ion of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1920" indent="-15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k-Utility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1920" indent="-15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Analysi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1920" indent="-15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ion and futur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D266-EB2F-473A-A9CE-725CB57D02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685800" y="793800"/>
          <a:ext cx="7558200" cy="501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93800"/>
                    <a:ext cx="7558200" cy="50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9CB0-A1A4-42D3-AA15-65A414D40D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nding  eliminates small cells but need to protect against disclosure by differencing and linking when random rounding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nding adds more ambiguity into the zero count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 rounding to base 5 has greatest impact on distortions to distribution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i-controlled rounding has almost no effect on distortions to internal cells but has less distortion on marginal cell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controlled rounding  has less distortion to internal cells since it is similar to deterministic rounding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 suppression with simple imputation method has highest utility (no perturbation on large cells) but difficult to implement in a Cens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A8B2-EBBF-43D7-AD42-14A256318F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percent of true small cells in record swapping and less ambiguity of zero cell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swapping has less distortion to internal cells than rounding which increases with  higher swapping rat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ed swapping has more distortion on internal cells than random swapping but has less impact on marginal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umn margins of the table have no distortion  because of controls in swapping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ing record swapping with rounding results in more distortion but provides added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2D8E-91CE-43E6-A508-A0A78EDDD2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549000"/>
            <a:ext cx="83534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swapping across geographies attenu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oss of association (moving towards independence) 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ounts “flattening”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proportions  moving to the overall proportio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nuation increases with higher swapping rates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rgeted record swapping has  less attenuation than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random sw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nding  introduces more zer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levels of association are hig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cell counts “sharp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s less severe for controlled roundi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g record swapping and rounding cancel out opposing effects depending on the direction and magnitude of each procedure separate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D857-7441-480E-B692-6A5773B128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7640" y="691920"/>
            <a:ext cx="8785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09520" indent="-209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ice of SDC method depends on tolerable risk thresholds and demands for “fit for purpose” data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9520" indent="-209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ying and combining SDC methods (non-perturbative and perturbative methods) can produce higher utility, i.e. ABS developed microdata keys for consistency in rounding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9520" indent="-209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semination of quality measures and guidance for carrying out statistical analysis on protected table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9520" indent="-209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output strategies based on flexible table generating software. More need for research into disclosure risk by differencing and linking (collaboration with CS community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9520" indent="-209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 setting, remote access and license agreements for highly disclosive Census outputs (sample microdata and origin-destination tab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FECB-F785-45F7-9524-1D7D4203CDA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2923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alie Shlomo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Shlomo@Soton.ac.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1FAB-36B4-4DAD-93B5-CA789B2673B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178560" indent="-178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losure risk in Census tables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8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8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8560" indent="-178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to protect many  tables from one dataset containing population counts which can be linked and difference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8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8560" indent="-178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to consider output strategies for standard tables  and web based table generating applic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8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8560" indent="-178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to interact with users and develop  SDC framework with a focus on both disclosure risk and data utilit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8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890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155736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3280" y="15573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 Attribute Discl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59280" y="177336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9F21-BC98-45B6-9382-AD8E058651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losure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620640"/>
            <a:ext cx="89280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 Census  tab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9840" indent="-254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’s and 2’s in cells are disclosive since these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cells lead to identifica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840" indent="-254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’s may be disclosive if there are only a  few non-zero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s in a row or column  (attribute disclosure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ation of disclosure ris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9840" indent="-254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shold rules (minimum average cell size, ratio of small  cells to zero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840" indent="-254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rtion of high-risk cells (1 or 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840" indent="-254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opy  (minimum of 0 if distribution has one non-zero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ell and all others zero,  maximum of (log K) if all cells are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equ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3A82-BC8C-4AAE-9AF5-067B5873A1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C Methods for Protecting Frequency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883440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56200" indent="-4957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tabular methods (special case of PRA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1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ndom Record Swa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1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rget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cord Swa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Census context, geographical variables typically swapped to avoid edit failures and minimize bias</a:t>
            </a:r>
            <a:br>
              <a:rPr sz="24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ly select p% of the househo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 a household matching on set of key variables (i.e. household size and broad sex-age distribution) and swap all geographical variable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target  records for swapping that are in high-risk cells of size 1 o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1668-A6AA-4CA3-9946-035805BE1F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C Methods for Protecting Frequency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7640" y="692280"/>
            <a:ext cx="878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498960" indent="-45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biased random rounding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ies are rounded up or down to a multiple of the  rounding base depending on pre-defined probabilities and a stochastic dra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For unbiased random rounding to base 3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  0  w.p  of  2/3                       1       3 w.p 1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     0  w.p  of  1/3                       2       3 w.p 2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ctation of rounding is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gins and internal cell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rounded separately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cell rounding: inter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s aggregated to obtain margi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71640" y="3645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400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364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48360" y="400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932360" y="4149720"/>
          <a:ext cx="3809880" cy="207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4149720"/>
                    <a:ext cx="3809880" cy="20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4E72-1B9A-4C0B-AD3D-7652984844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C Methods for Protecting Frequency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000" y="836280"/>
            <a:ext cx="883440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27120" indent="-6271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nding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i-controlled unbiased random ro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7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the selection strategy for entries to round, i.e. use a “without replacement” strategy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7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7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Calculate the expected number of entries to round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7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Draw an srswor sample from among the entries an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round up, the rest round 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7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7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carried out per row/column to ensure consisten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totals on one dimension (key statistics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7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minates extra variance as a result of the round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6D13-205A-4937-8E2B-0B15088700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C Methods for Protecting Frequency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655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7464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nding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74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led ro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74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in Tau-Argu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azar-González, Bycroft and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Staggemeier, 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7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linear programming techniques to round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entries up or down, results similar to deterministic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rou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7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All rounded entries add up to rounded margin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7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Method not unbiased and entries can jump a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7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0900-209A-4A93-9C14-F722726FE5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C Methods for Protecting Frequency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865512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60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Cell Sup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cube  method (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essing, 200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0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in Tau-Argus and suited for larg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0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heuristic based on  suppressing corners of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ypercube formed by the primary suppressed cell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optimality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uting suppressed cells for utility eval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0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suppressed cell by the average informa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loss in each row/colum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uppressed cells in a row and known margin is 500. The total of non-suppressed cells is 400. Each cell is replaced with a value of 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CA99-1158-4E03-AE7B-6FB986F9EE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07:48:25Z</dcterms:created>
  <dc:creator>לשכה מרכזית לסטטיסטיקה</dc:creator>
  <dc:description/>
  <dc:language>en-US</dc:language>
  <cp:lastModifiedBy>ns4</cp:lastModifiedBy>
  <dcterms:modified xsi:type="dcterms:W3CDTF">2007-12-07T14:07:06Z</dcterms:modified>
  <cp:revision>161</cp:revision>
  <dc:subject/>
  <dc:title>מצגת של PowerPoint</dc:title>
</cp:coreProperties>
</file>