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786CA-763A-4188-A179-BDDF6ECFC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ary Cell suppression has been used to protect sensitive tabular data for a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B45-74EF-418F-8356-0A1C1847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776-F36E-4E98-8C3B-E5DD0AE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EA4-2B1B-47FD-AF26-5554113E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A03-0E4B-407B-BCB8-66D6373C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C3C-7A63-4A38-80B4-069A8FBB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905-D096-4A8A-8B16-B7BC0B7F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495-E425-43CB-8A39-DECEE3B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5AE-A76F-4A82-A778-BFE360B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F87-D33B-4609-8C9C-77B247BC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385-CF08-4B37-81AE-BC363E1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8DF-A1B1-49CF-83B4-2F50EE7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833-263C-49AC-BBFE-58BA105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6E0-0B62-4A3E-8340-A44225E067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24C-8483-4ED6-A3F9-B1F6EE80D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arative Evaluation of Four Different Sensitive Tabular Data Protection Methods Using a Real Life Table Structure of Complex Hierarchies and Link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ed with Artificial Data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mesh A. Dandekar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nergy Information Administr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shington D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amesh.Dandekar@EIA.DOE.GOV) </a:t>
            </a:r>
            <a:br>
              <a:rPr sz="2000"/>
            </a:b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UNECE2007 – 17-19 December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C1D-4D47-4916-8906-22D1815973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Comparative Evaluation of Cell Suppress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al  Cell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94 Sup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nsitive Cells Fully Pro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Flow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79 Sup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nsitive Cells Fully Pro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 exact Disclosures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n-sensitive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425-FB29-4405-B097-66030725E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TA vs NOISE - TABULAR DATA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686800" cy="403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7400" y="266688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666880"/>
            <a:ext cx="609840" cy="8384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200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3124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6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048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91B-D834-468F-B4CD-FDFCEE60AC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8F4-2EED-4A1F-8929-58BD40D3EF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ACA-817D-4C45-AD9B-511DFED216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486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GoudyHandtooled BT"/>
              </a:rPr>
              <a:t>THANK  YOU!</a:t>
            </a:r>
            <a:br>
              <a:rPr sz="7200"/>
            </a:br>
            <a:br>
              <a:rPr sz="7200"/>
            </a:b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DDITIONAL INFORMATION FROM</a:t>
            </a:r>
            <a:br>
              <a:rPr sz="7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ttp://mysite.verizon.net/vze7w8v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684-1F7C-48D9-812B-6A1C5879D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Tabular Data Protection Methods</a:t>
            </a:r>
            <a:r>
              <a:rPr b="1" lang="en-US" sz="4000" spc="-1" strike="noStrike" baseline="30000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al LP Based Cell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Flow Based Cell Suppression (US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 Based Synthetic Tabular Data / CTA (Dandekar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cro Data Level Noise Addition (US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 = 10 % Rul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8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Uses Proprietary Research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BD3-5289-4106-883F-72D5E122A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wo Three Dimensional 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HYPOTHETICA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able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nked in Four Dimensional Spac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1st Table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“Volumes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by Grade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 Sales Type, PAD District, and State”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,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800000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Table: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“Volumes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by Formula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 Sales Type, PAD District, and State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EC0-E255-4463-BF08-9443E1AFC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871-C7BB-489D-9D27-739B37C7F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1</a:t>
            </a:r>
            <a:r>
              <a:rPr b="1" lang="en-US" sz="4000" spc="-1" strike="noStrike" u="sng" baseline="30000">
                <a:solidFill>
                  <a:srgbClr val="800000"/>
                </a:solidFill>
                <a:uFillTx/>
                <a:latin typeface="Times New Roman"/>
              </a:rPr>
              <a:t>st</a:t>
            </a: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 Table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2</a:t>
            </a:r>
            <a:r>
              <a:rPr b="1" lang="en-US" sz="4000" spc="-1" strike="noStrike" u="sng" baseline="30000">
                <a:solidFill>
                  <a:srgbClr val="cc3300"/>
                </a:solidFill>
                <a:uFillTx/>
                <a:latin typeface="Times New Roman"/>
              </a:rPr>
              <a:t>nd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 Table </a:t>
            </a:r>
            <a:br>
              <a:rPr sz="4000"/>
            </a:b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Grad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Form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id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e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otal All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67080" y="26665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v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xyge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for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otal All For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5D3-694D-4900-BE9C-63D6425C1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066680"/>
            <a:ext cx="3733560" cy="3048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066680"/>
            <a:ext cx="91440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4419720"/>
            <a:ext cx="37335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able  By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419720"/>
            <a:ext cx="9144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66880" y="4648320"/>
            <a:ext cx="32004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 rot="16200000">
            <a:off x="5516280" y="2408040"/>
            <a:ext cx="258768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00800" y="4572000"/>
            <a:ext cx="838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47640"/>
            <a:ext cx="32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247644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37920" y="24001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For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066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066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133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3048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507640" y="256752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2nd Table  By For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412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Four Layers: 1) DTW    2) Rack    3) Bulk    4) Total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rresponding to  each PAD,  State and US Level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422600">
            <a:off x="2372040" y="2302920"/>
            <a:ext cx="36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SSING 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E97-56FA-4582-9A4E-5676D7A5E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,000 Synthetic Micro Data Records Containing Six Variables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our Categori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51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Grad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Sal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  Formulation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 Magnitude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 Sample Weigh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452-B7E7-4260-A001-A8ADEBEB11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1536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019-DC73-43A9-B93F-CB3116CD6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, United Kingd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197-199A-4156-B68F-3872FD38BB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38:04Z</dcterms:created>
  <dc:creator>Ramesh Dandekar</dc:creator>
  <dc:description/>
  <dc:language>en-US</dc:language>
  <cp:lastModifiedBy>Ramesh Dandekar</cp:lastModifiedBy>
  <cp:lastPrinted>2005-01-28T14:28:23Z</cp:lastPrinted>
  <dcterms:modified xsi:type="dcterms:W3CDTF">2007-11-13T14:45:46Z</dcterms:modified>
  <cp:revision>184</cp:revision>
  <dc:subject/>
  <dc:title>PowerPoint Presentation</dc:title>
</cp:coreProperties>
</file>