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B4752-92DF-45F4-AB31-58FD9D626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ary Cell suppression has been used to protect sensitive tabular data for a long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AA1-BC7E-421F-9289-1FC2B4BA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5EA-D871-4C9C-B70B-3CE85F85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E77-3B72-42C4-A419-6E5D9178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DBB-BECC-48B1-AC6B-81BF4BE1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EF9-707B-4D71-B10C-D86AC083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9D3-540D-40F2-A6E6-CCFC6220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218-DE34-441E-BBA9-1B821E32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144-9DD6-4097-BBF8-B3E2D007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BC1-DF48-4857-A89D-82F0EEE3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1E9-3348-41AB-BFD3-A004F8EF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418-11BA-4747-B3C0-698231BA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CB7-DA06-41E6-9730-3CB5B2C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A3B1-C7FD-421C-840A-8CBF199A6F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8DE8-3B9A-4745-B334-C5A010884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mparative Evaluation of Four Different Sensitive Tabular Data Protection Methods Using a Real Life Table Structure of Complex Hierarchies and Link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ulated with Artificial Data</a:t>
            </a:r>
            <a:br>
              <a:rPr sz="3600"/>
            </a:br>
            <a:br>
              <a:rPr sz="20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mesh A. Dandekar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nergy Information Administratio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shington DC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Ramesh.Dandekar@EIA.DOE.GOV) </a:t>
            </a:r>
            <a:br>
              <a:rPr sz="2000"/>
            </a:b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UNECE2007 – 17-19 December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9B5-2AB9-40BE-8445-32E17AEEDE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Comparative Evaluation of Cell Suppression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ssical  Cell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94 Sup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ensitive Cells Fully Prot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twork Flow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479 Sup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ensitive Cells Fully Prot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3 exact Disclosures of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n-sensitive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BA1-4955-4561-A303-08B340C1AB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TA vs NOISE - TABULAR DATA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686800" cy="403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57400" y="2666880"/>
            <a:ext cx="685800" cy="7621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666880"/>
            <a:ext cx="609840" cy="8384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3200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4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3124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6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3048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23A-0A76-4CBD-BFD3-9E428B2662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B1B-8EA0-4A1E-8C89-BFE0F1BE3E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52D-FBDD-4E45-B57E-4E383C2A26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4864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GoudyHandtooled BT"/>
              </a:rPr>
              <a:t>THANK  YOU!</a:t>
            </a:r>
            <a:br>
              <a:rPr sz="7200"/>
            </a:br>
            <a:br>
              <a:rPr sz="7200"/>
            </a:b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ADDITIONAL INFORMATION FROM</a:t>
            </a:r>
            <a:br>
              <a:rPr sz="7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ttp://mysite.verizon.net/vze7w8v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FB8-F198-4B0B-B00B-1724526345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Tabular Data Protection Methods</a:t>
            </a:r>
            <a:r>
              <a:rPr b="1" lang="en-US" sz="4000" spc="-1" strike="noStrike" baseline="30000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ssical LP Based Cell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twork Flow Based Cell Suppression (USB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 Based Synthetic Tabular Data / CTA (Dandekar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cro Data Level Noise Addition (USB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 = 10 % Rul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8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Uses Proprietary Research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517-1140-4913-9D93-F47D2CE688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wo Three Dimensional 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HYPOTHETICA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ables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inked in Four Dimensional Spac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1st Table: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“Volumes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Times New Roman"/>
              </a:rPr>
              <a:t>by Grade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, Sales Type, PAD District, and State”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,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800000"/>
                </a:solidFill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Table: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“Volumes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Times New Roman"/>
              </a:rPr>
              <a:t>by Formula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, Sales Type, PAD District, and State”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E7B-0056-41B3-9D03-4DEA330A8A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647-71BA-4DB8-9DD3-FFA06578D5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1</a:t>
            </a:r>
            <a:r>
              <a:rPr b="1" lang="en-US" sz="4000" spc="-1" strike="noStrike" u="sng" baseline="30000">
                <a:solidFill>
                  <a:srgbClr val="800000"/>
                </a:solidFill>
                <a:uFillTx/>
                <a:latin typeface="Times New Roman"/>
              </a:rPr>
              <a:t>st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 Table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2</a:t>
            </a:r>
            <a:r>
              <a:rPr b="1" lang="en-US" sz="4000" spc="-1" strike="noStrike" u="sng" baseline="30000">
                <a:solidFill>
                  <a:srgbClr val="cc3300"/>
                </a:solidFill>
                <a:uFillTx/>
                <a:latin typeface="Times New Roman"/>
              </a:rPr>
              <a:t>nd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 Table </a:t>
            </a:r>
            <a:br>
              <a:rPr sz="4000"/>
            </a:br>
            <a:r>
              <a:rPr b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Grad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Form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Mid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rem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otal All Gr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67080" y="2666520"/>
            <a:ext cx="4191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onv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Oxyge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eform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otal All For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86D-1B99-4FB5-88EB-B3506FC8FC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1066680"/>
            <a:ext cx="3733560" cy="3048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1066680"/>
            <a:ext cx="914400" cy="3048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4419720"/>
            <a:ext cx="373356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Table  By Gr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4419720"/>
            <a:ext cx="9144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666880" y="4648320"/>
            <a:ext cx="320040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 rot="16200000">
            <a:off x="5516280" y="2408040"/>
            <a:ext cx="258768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400800" y="4572000"/>
            <a:ext cx="83808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647640"/>
            <a:ext cx="32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Gr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65240" y="247644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37920" y="24001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For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10666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0666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1337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30481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5507640" y="256752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2nd Table  By For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412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Four Layers: 1) DTW    2) Rack    3) Bulk    4) Total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rresponding to  each PAD,  State and US Level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422600">
            <a:off x="2372040" y="2302920"/>
            <a:ext cx="36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ISSING 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23B-EB1C-4BFD-A38B-65340F3EA8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,000 Synthetic Micro Data Records Containing Six Variables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Four Categori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51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  Grad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  Sal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  Formulation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ne Magnitude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ne Sample Weigh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39F-9622-4C81-B13C-D1BDCA7CB0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15364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120-CF13-48F8-B648-98C40B4AAF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B28-A232-40F7-A4CE-85613D5C81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23:38:04Z</dcterms:created>
  <dc:creator>Ramesh Dandekar</dc:creator>
  <dc:description/>
  <dc:language>en-US</dc:language>
  <cp:lastModifiedBy>Ramesh Dandekar</cp:lastModifiedBy>
  <cp:lastPrinted>2005-01-28T14:28:23Z</cp:lastPrinted>
  <dcterms:modified xsi:type="dcterms:W3CDTF">2007-11-13T14:45:46Z</dcterms:modified>
  <cp:revision>184</cp:revision>
  <dc:subject/>
  <dc:title>PowerPoint Presentation</dc:title>
</cp:coreProperties>
</file>