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957480" y="0"/>
            <a:ext cx="30276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61720" y="682200"/>
            <a:ext cx="4662360" cy="349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4408200"/>
            <a:ext cx="5124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15320"/>
            <a:ext cx="3027240" cy="4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957480" y="8815320"/>
            <a:ext cx="3027600" cy="4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6DBEB8-35C5-4559-99C9-20C4E6613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62080" y="682560"/>
            <a:ext cx="4662360" cy="34974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29880" y="4408200"/>
            <a:ext cx="5124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ise for Tabular Magnitude Data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ed with Re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62080" y="682560"/>
            <a:ext cx="4662360" cy="34974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29880" y="4408200"/>
            <a:ext cx="5124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ise for Tabular Magnitude Data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ed with Re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62080" y="682560"/>
            <a:ext cx="4662360" cy="34974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29880" y="4408200"/>
            <a:ext cx="5124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ise for Tabular Magnitude Data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ed with Re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62080" y="682560"/>
            <a:ext cx="4662360" cy="34974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29880" y="4408200"/>
            <a:ext cx="5124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ise for Tabular Magnitude Data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ed with Re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A636-077F-45E6-B833-E04F0A0BA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13B0B-6294-403C-B6ED-266AD9E7D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D0A2-71CC-4CA8-A800-8D6D93DDC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5E82-24BD-4EA3-A0F9-091CF6E06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6A3CC-D04A-4E61-A531-14856B8967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DEA75-0610-471F-9551-C4C043A1C5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67641-D7FA-4660-9448-CC44E5A1EB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FA0E1-B7CD-496B-A46B-6FEF70D2C6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B7063-8082-4F9C-B2F6-25FAD6CC56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EE10E-AECF-4F64-AACA-16B34DC844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34F67-02B9-43C8-91E1-8E51D9CD53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8238-5BE7-4F61-A3FE-61F47E193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E4247-7DED-46DC-BF86-8BB2A30A42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67C93-08FC-4217-BDFD-CDE06BCC19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1E9B8-D719-430D-A7E7-C90EE3F21D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2A236-06F9-4804-A9CA-A95CFC2E91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F7F8D-F414-4944-8714-1125C9369B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2A779-AB61-4567-966C-0C1A49CDB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F6D6-B10C-4819-89EB-0A2554EFD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BF45-D3FA-44D5-9A54-C1CA3F8E2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1F23-E209-44DE-AE3D-BFE91F0B34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3002-4C59-4988-BA8A-6EF614E66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F359-B166-49A6-B6AA-4680109B9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FF96C-6F2B-4F7D-AD5A-2DB611FF6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C532-FA1A-4B46-B438-6D784BCC99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457200" y="6326280"/>
            <a:ext cx="3276720" cy="2268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5333-E4C5-4773-9B52-C989699E94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6326280"/>
            <a:ext cx="3276720" cy="226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aura.zayatz@census.gov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New Implementations of 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Noise for Tabular Magnitude Data,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ynthetic Tabular Frequency and Microdata, 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and a Remote Microdata Analysis System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Laura Zayatz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U.S. Census Bureau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4600 Silver Hill Road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Washington, DC  20233-9100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301-763-4955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Fax 301-763-8399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ura.zayatz@census.gov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EA3D-C93F-44BD-ACA4-109BE4F19D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oise for Tabular Magnitude Data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How we Altered the Method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urrently testing various modifications to standard rounding technique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Options include rounding underlying microdata values and rounding tabulated cells value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Want to ensure standard rounding does not undo the protection provided by the noise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eiling/Floor techniques seem to work well, but results differ for different data product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7880-30EE-4FCC-B286-5E91DEC349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Noise for Tabular Magnitude Data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urrent Uses on Real Data Product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one: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Quarterly Workforce Indicator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Non-Employer Data Product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Near Future: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ommodity Flow Survey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ensus of Island Area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urvey of Business Owner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Under Study: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ounty Business Pattern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EB6A8-9156-4DEA-9653-9EFBFB9CB3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ynthetic Tabular Frequency and Microdata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ntroduction to the Method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Posterior predictive models generate synthetic data with many of the same statistical properties as the original data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quential regression imputation, one variable in one record at a time (blank and impute variables causing a disclosure risk for a given record)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ull or partial synthesis, demographic or economic, tables or microdata, one or more implicate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B6EF-28AD-452F-8C62-9457E9CD25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ynthetic Tabular Frequency and Microdata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What Happened with Real Data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Problems with relationships between variables within a data se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Records of households linked to records of all people within the household (father, mother, son, daughter, etc.)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tructurally missing (blank) values because of skip patterns in survey instrumen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Examples: people under age 15 cannot have income, a mother cannot be 6 years older than her child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0D9EF-DF1C-43F6-9BE0-AB8629298D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ynthetic Tabular Frequency and Microdata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How we Altered the Method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mpute some of the structurally missing values, but then restore them to missing for standard imputation and edit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or one product - additional layer of programming that became a nine-level collection of parent-child relationships to enforce all constraint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F1110-0452-417E-943C-74922DF2F9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ynthetic Tabular Frequency and Microdata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urrent Uses on Real Data Products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one: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SA Earnings and CB SIPP Data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On The Map”  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CS Group Quarters Data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Under Study: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CS Household Data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pecial Tabs for Veteran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79B0-082E-4886-9728-99CAF9D776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Remote Microdata Analysis System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Introduction to the Method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dvanced Query System allow users to generate tables from Census 2000 data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Request passes through 2 firewalls to previously swapped, recoded, and topcoded files; tables are generated and electronically reviewed for disclosure problems; if none are found the results are sent to the user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an we extend this to data from demographic surveys and other types of statistical analyses?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1DB6-C8A2-4652-81D4-40A78D9FFC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Remote Microdata Analysis System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hat Happened with Real Data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Enabled or disabled system?  We chose enabled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isabled is more flexible for the user but may require “babysitting”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Enabled is more restricted in types of analyses but can be available to more people without strict monitoring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Users choose from lists of data sets, geographic areas, universes, analyses, and variables (system writes the code)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8BE68-47AA-4F26-8632-3D7B3F464F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Remote Microdata Analysis System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How we Altered the Method 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n looking for disclosure problems, we first focused on the model statements, but later realized the need to look at the underlying data tables (marginal totals of size 1 in particular) in various types of analyse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Working on methods to best identify “cut points” in the detail of short, medium, and long lists of continuous variables that need to be categorized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0510-49B6-44FC-BBF2-BA726BDF0B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Remote Microdata Analysis System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urrent Uses on Real Data Product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one: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dvanced Query System available 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to Census Bureau State Data 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enters and Census Information 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enters and researchers who 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request an accoun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Under Study: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Extended Microdata Analysis 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ystem being tested with 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merican Community Survey 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nd Current Population Survey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786AA-0D9F-4C4E-8D3E-474FEB2F16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Legal Requirements and 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he Balancing Ac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Title 13, U.S. Code and the Confidential Information Protection and Statistical Efficiency Act (CIPSEA) of 2002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Publish as much valuable statistical information as possible without violating the confidentiality of respondent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Preserve data utility while avoiding disclosure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134CB-5ECE-4C59-8153-8F02BA1839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Many recent developments in disclosure avoidance at the US Census Bureau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Using the noise technique for several tabular magnitude data product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Releasing several products based on partially synthetic data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QS is being used widely and work continues on the MA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t takes time, but it is worth the effor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3DC5-FC39-420C-BEED-E64BCC606A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his Presentation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Noise for Tabular Magnitude Data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ynthetic Tabular Frequency and Microdata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Remote Microdata Analysis System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2562-99AF-4FF9-B231-CA2889B122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his Presentation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ntroduction to the method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What happened with real data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How we altered the method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urrent uses of the method on real data product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7B0D-1F9C-40F9-AB76-317ECF5F2C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oise for Tabular Magnitude Data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Introduction to the Method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Perturb each establishment’s underlying microdata by a small amount, e.g. 10%, randomly up or down prior to table creation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nsitive cells needing protection end up being changed by a large amoun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Non-sensitive cells end up being changed by a small amount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imple procedure, values can be shown for all cells, guarantees additivity, no coordination problems for related (overlapping) table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AF8D-8FCD-4A90-8124-7E7D312E1A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oise for Tabular Magnitude Data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Introduction to the Method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To perturb an establishment’s value by about 10%, multiply that value by a random number close to 1.1 or 0.9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istribution must be symmetric about 1 for no bia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ll establishments within the same company are perturbed in the same direction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an incorporate the increase in variance into published coefficients of variation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3EBF-EE0E-40D3-AE78-5E07E6D07D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oise for Tabular Magnitude Data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hat Happened with Real Data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Because of randomness, the method can occasionally add excessive amounts of noise to some non-sensitive cells (a problem that cell suppression avoids for non-suppressed cells and controlled tabular adjustment can minimize)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s there anything we can do to avoid this problem or at least improve results?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900D-7A5D-4BD9-B3EA-8A88C0637E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oise for Tabular Magnitude Data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hat Happened with Real Data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US Census Bureau magnitude data is almost always published in rounded form (integer form representing thousands or millions)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Noise changes individual response values by a small percentage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Rounding can remove the effect of noise on small response value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s that OK --- does rounding provide enough protection --- or should additional steps be taken to protect such small values?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BB49-EC55-40EB-B220-7E6BCFD55C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oise for Tabular Magnitude Data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How we Altered the Method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Balanced Noise  (See Massell and Funk)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Experiment and choose a table(s) --- quite often a lower level table (in the hierarchy) is a good choice and has a trickle up effec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Random noise for estabs in sensitive cells and in companies represented in more than 1 cel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or others, use a sort to choose noise directions to minimize change to non-sensitive cells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54A5-1D15-4B74-8739-1D929E65D7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4T18:31:30Z</dcterms:created>
  <dc:creator>masse003</dc:creator>
  <dc:description/>
  <dc:language>en-US</dc:language>
  <cp:lastModifiedBy>Laura</cp:lastModifiedBy>
  <dcterms:modified xsi:type="dcterms:W3CDTF">2007-10-18T23:25:58Z</dcterms:modified>
  <cp:revision>132</cp:revision>
  <dc:subject/>
  <dc:title>Optimization Models and Programs for Cell Suppression in Statistical Tables </dc:title>
</cp:coreProperties>
</file>