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1720" y="682200"/>
            <a:ext cx="466236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1532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57480" y="8815320"/>
            <a:ext cx="30276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C83A06-B586-4FC2-A470-522D945A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2080" y="682560"/>
            <a:ext cx="4662360" cy="3497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4408200"/>
            <a:ext cx="5124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for Tabular Magnitude Dat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ed with Re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8093-E680-41B7-A8E7-37D315362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3EE1-D6DF-49F1-B3E8-4786AE4A5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4786-88CC-403C-9A9F-1449C4D7D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CC9A-8CCF-4747-B8F8-F2DE95DEA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3B76-5E4D-41B3-8B40-EE52110C8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C655-2DC9-467D-A955-598757C41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8F1F-95B1-451A-A9D3-2195A10720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68D9-A464-4B81-B260-F9E6156FE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2477-4F97-4249-A514-0BEC42188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1B9F-40F4-42F3-9A8B-952DFD7F57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C1AF-8DB2-4374-8CF5-47C970DAE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69F8-C6E1-4AD7-AC69-00DDC6B5F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3CD4-A01D-40C3-BBD2-D919994DD1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3CCB-1C07-49B4-A06D-229B45BC7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C1DC-0CCD-4DB0-BA11-92EA7A533B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1CA6-0316-491D-9DFA-73D188F45B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BE21-FA58-49E7-B299-1018631A6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C5D7-EA7F-48B7-8403-C03670CBC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6B6C-A04D-4333-91D3-F10D9F5D5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CD9D-27FE-4035-849F-2C879276E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C23C-5024-4B9F-8AFE-997D75BEC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1E7E-5C68-4D65-A8B9-FF8AE3437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9B4A-D7B7-4A18-AE7E-FF80CFD2B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8490-E3C5-4EB0-A571-50D6D516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C524-98A6-451A-9EC1-CEB7B0C8F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BC9-7310-4650-AC66-5CA176916C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ura.zayatz@census.g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 Implementations of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oise for Tabular Magnitude Data,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ynthetic Tabular Frequency and Microdata,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d a Remote Microdata Analysis Syst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Laura Zayatz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.S. Census Bureau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4600 Silver Hill Roa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Washington, DC  20233-9100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301-763-4955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Fax 301-763-8399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a.zayatz@census.gov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B652-2EC4-427E-BA33-F2C18E277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urrently testing various modifications to standard rounding techniq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ptions include rounding underlying microdata values and rounding tabulated cells val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ant to ensure standard rounding does not undo the protection provided by the noise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iling/Floor techniques seem to work well, but results differ for different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9427-C511-4F2C-86EF-953C697C1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Quarterly Workforce Indicator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n-Employer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ear Futur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mmodity Flow Survey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sus of Island Are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urvey of Business Owner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ounty Business Patter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55B4-C6E4-4200-8D3B-334660ADF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osterior predictive models generate synthetic data with many of the same statistical properties as the original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quential regression imputation, one variable in one record at a time (blank and impute variables causing a disclosure risk for a given record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ull or partial synthesis, demographic or economic, tables or microdata, one or more implicat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B296-DEC3-41B9-911E-1C7C4CEA45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oblems with relationships between variables within a data se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cords of households linked to records of all people within the household (father, mother, son, daughter, etc.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tructurally missing (blank) values because of skip patterns in survey instrume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amples: people under age 15 cannot have income, a mother cannot be 6 years older than her chil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8108-1F2E-4810-9448-49DA0E0CB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ute some of the structurally missing values, but then restore them to missing for standard imputation and edi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one product - additional layer of programming that became a nine-level collection of parent-child relationships to enforce all constrain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D59F-664E-495F-8CD5-87C7AEB4D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ynthetic Tabular Frequency and Microdata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SA Earnings and CB SIPP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n The Map” 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CS Group Quarters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CS Household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pecial Tabs for Vetera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6966-1ED3-46F7-9A27-FDA2398B2D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dvanced Query System allow users to generate tables from Census 2000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quest passes through 2 firewalls to previously swapped, recoded, and topcoded files; tables are generated and electronically reviewed for disclosure problems; if none are found the results are sent to the user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an we extend this to data from demographic surveys and other types of statistical analys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B8B2-64A4-418F-960B-1643F1A5B8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nabled or disabled system?  We chose enable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sabled is more flexible for the user but may require “babysitting”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nabled is more restricted in types of analyses but can be available to more people without strict monitoring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ers choose from lists of data sets, geographic areas, universes, analyses, and variables (system writes the code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6969-0C41-48AA-8B94-F5E46E8BF1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looking for disclosure problems, we first focused on the model statements, but later realized the need to look at the underlying data tables (marginal totals of size 1 in particular) in various types of analys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orking on methods to best identify “cut points” in the detail of short, medium, and long lists of continuous variables that need to be categorized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C7C1-2BF0-42F0-AD1C-8B50B63670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ote Microdata Analysis System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urrent Uses on Real Data Produc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one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dvanced Query System available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o Census Bureau State Data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ters and Census Information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enters and researchers who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quest an accou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der Study: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tended Microdata Analysis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ystem being tested with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merican Community Survey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nd Current Population Survey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C2E8-A100-48F9-A82E-9825DC7F53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gal Requirements and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Balancing Ac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itle 13, U.S. Code and the Confidential Information Protection and Statistical Efficiency Act (CIPSEA) of 2002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ublish as much valuable statistical information as possible without violating the confidentiality of responden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reserve data utility while avoiding disclosure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756D-9E21-4520-BE01-FDDCD40FD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any recent developments in disclosure avoidance at the US Census Bureau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ing the noise technique for several tabular magnitude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leasing several products based on partially synthetic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QS is being used widely and work continues on the M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t takes time, but it is worth the effor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D67A-0055-423C-8563-320E5F875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Present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ise for Tabular Magnitude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ynthetic Tabular Frequency and Micro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mote Microdata Analysis System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B451-AF70-4883-98E9-A095A4A7C1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Present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troduction to the metho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What happened with real dat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ow we altered the method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urrent uses of the method on real data product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8F67-9CBB-4887-97CA-E529B2097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Perturb each establishment’s underlying microdata by a small amount, e.g. 10%, randomly up or down prior to table cre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nsitive cells needing protection end up being changed by a large amoun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n-sensitive cells end up being changed by a small amount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mple procedure, values can be shown for all cells, guarantees additivity, no coordination problems for related (overlapping) tabl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DB9C-BEF1-4591-9797-F0123E619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troduction to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o perturb an establishment’s value by about 10%, multiply that value by a random number close to 1.1 or 0.9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stribution must be symmetric about 1 for no bia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ll establishments within the same company are perturbed in the same direc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an incorporate the increase in variance into published coefficients of vari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0099-0129-40BC-AAFA-53416E803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ecause of randomness, the method can occasionally add excessive amounts of noise to some non-sensitive cells (a problem that cell suppression avoids for non-suppressed cells and controlled tabular adjustment can minimize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s there anything we can do to avoid this problem or at least improve result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1133-97B1-4D95-B7E0-85A0F22D7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Happened with Real Dat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 Census Bureau magnitude data is almost always published in rounded form (integer form representing thousands or millions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Noise changes individual response values by a small percentage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ounding can remove the effect of noise on small response valu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s that OK --- does rounding provide enough protection --- or should additional steps be taken to protect such small values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AF0E-0151-404B-8903-FE2B3CA42D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ise for Tabular Magnitude Data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we Altered the Method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alanced Noise  (See Massell and Funk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xperiment and choose a table(s) --- quite often a lower level table (in the hierarchy) is a good choice and has a trickle up effec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andom noise for estabs in sensitive cells and in companies represented in more than 1 cel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others, use a sort to choose noise directions to minimize change to non-sensitive cell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6231-92EF-46F9-98C0-30CC425DB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18:31:30Z</dcterms:created>
  <dc:creator>masse003</dc:creator>
  <dc:description/>
  <dc:language>en-US</dc:language>
  <cp:lastModifiedBy>Laura</cp:lastModifiedBy>
  <dcterms:modified xsi:type="dcterms:W3CDTF">2007-10-18T23:25:58Z</dcterms:modified>
  <cp:revision>132</cp:revision>
  <dc:subject/>
  <dc:title>Optimization Models and Programs for Cell Suppression in Statistical Tables </dc:title>
</cp:coreProperties>
</file>