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FBAC-E75E-432E-8CFB-2419CD20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67CF-6B91-4B1B-92E7-4F197BCD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9237-67DB-40EB-9035-B91CF41C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2AB3-5BAB-4A63-8D2C-1E572EFA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635F-C7FB-4235-BDA7-077044BD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E1BF-2693-4F1A-BB04-0790F0FC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9C7-F461-4D7E-B3C8-365F6C42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E798-72DB-4F7B-8627-790623FE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7E53-7763-4EBB-B950-7BE16D15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DB0B-B1E1-46BF-9CDC-64634404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212-44F5-4F22-82CD-325950B7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BD73-682B-4370-972E-9AEB48BE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7728-0652-49F1-ACF4-AB0F5DEA7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solidFill>
            <a:srgbClr val="9933ff"/>
          </a:solidFill>
          <a:ln w="3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90720" cy="91440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Mark.Elliot@manchester.ac.uk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The University of Manchester logo - Manchester Est. 1824"/>
          <p:cNvPicPr/>
          <p:nvPr/>
        </p:nvPicPr>
        <p:blipFill>
          <a:blip r:embed="rId1"/>
          <a:stretch/>
        </p:blipFill>
        <p:spPr>
          <a:xfrm>
            <a:off x="395280" y="476280"/>
            <a:ext cx="2133720" cy="1801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eorgia"/>
              </a:rPr>
              <a:t>Using Targeted Perturbation of Microdata to Protect Against Intelligent Linkage</a:t>
            </a: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42920" y="3886200"/>
            <a:ext cx="78501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rk Elliot, University of Manchest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Mark.Elliot@manchester.ac.u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thie Marsh Centre for Census and Survey Research, University of Manchester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2.74% correct match rate with PRE-SDC SAR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1.63% correct match rate with PRE-SDC SAR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116000" y="1170000"/>
          <a:ext cx="7772400" cy="5688000"/>
        </p:xfrm>
        <a:graphic>
          <a:graphicData uri="http://schemas.openxmlformats.org/drawingml/2006/table">
            <a:tbl>
              <a:tblPr/>
              <a:tblGrid>
                <a:gridCol w="1884240"/>
                <a:gridCol w="1473480"/>
                <a:gridCol w="1471320"/>
                <a:gridCol w="1471680"/>
                <a:gridCol w="1471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-SUDA 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lse mat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rect mat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corr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&gt;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-&gt;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-&gt;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-&gt;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-&gt;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-&gt;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-&gt;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755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Pre SDC-S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116000" y="1268280"/>
          <a:ext cx="7772400" cy="4114440"/>
        </p:xfrm>
        <a:graphic>
          <a:graphicData uri="http://schemas.openxmlformats.org/drawingml/2006/table">
            <a:tbl>
              <a:tblPr/>
              <a:tblGrid>
                <a:gridCol w="2325240"/>
                <a:gridCol w="1815840"/>
                <a:gridCol w="1815480"/>
                <a:gridCol w="1815840"/>
              </a:tblGrid>
              <a:tr h="74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-SUDA Thres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lse Match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rect mat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corr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Pre SDC-SAR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042920" y="1197000"/>
          <a:ext cx="7772400" cy="4403880"/>
        </p:xfrm>
        <a:graphic>
          <a:graphicData uri="http://schemas.openxmlformats.org/drawingml/2006/table">
            <a:tbl>
              <a:tblPr/>
              <a:tblGrid>
                <a:gridCol w="1884240"/>
                <a:gridCol w="1473480"/>
                <a:gridCol w="1471320"/>
                <a:gridCol w="1471680"/>
                <a:gridCol w="1471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-SUDA 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lse mat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rect mat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Corr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&gt;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-&gt;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-&gt;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-&gt;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-&gt;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-&gt;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-&gt;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Post SDC-SAR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Post SDC-SAR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116000" y="1341360"/>
          <a:ext cx="7772040" cy="4114440"/>
        </p:xfrm>
        <a:graphic>
          <a:graphicData uri="http://schemas.openxmlformats.org/drawingml/2006/table">
            <a:tbl>
              <a:tblPr/>
              <a:tblGrid>
                <a:gridCol w="1942920"/>
                <a:gridCol w="1942920"/>
                <a:gridCol w="1943280"/>
                <a:gridCol w="1942920"/>
              </a:tblGrid>
              <a:tr h="74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-SUDA Thres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lse Match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rect mat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corr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oncluding Remark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tudy provides evidence that disclosure control method use in the 2001 SARS provided protection against targeted intrusion. Caveats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ata divergence, coverage, secondary attack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ternative method for identifying risky recor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741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Linkage experiments using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ndividual microdata from the UK censu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microdata from the UK Labour Force Survey (LFS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Objectiv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o assess the disclosure risk impact of the statistical disclosure control methods on the used on the census microdata in 2001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ree datasets were used in this study: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pring 2001 quarter of the standard Labour Force Survey (LFS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tandard release version of the 2001 individual level SAR (post-SDC SAR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pre-SDC version of the 2001 individual level SAR (Pre-SDC SAR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2001 SARS were subject to extensive statistical disclosure risk assessment and targeted control methods. The risk assessment was carried through collaboration of Manchester University and ONS using a variety of approache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disclosure control was a mixture of global recoding and local suppression and reimputation based on a variant of the PRAM (post randomisation) method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1)  The variables were selected and then the codings of these variables on the different datasets were harmonised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2) The matching was conducted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3) The SUDA Software was run over the SARs to obtain DIS-SUDA scores for the matche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4) All the unique matches (one-to-one) were sent to ONS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5)  The matches were verified by ONS Census and LFS divisio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6) The matches were returned with an indicator placed on the match file indicating whether the match was true or fals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7) The proportion of correct matches was generated under several different assump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5640" y="1981080"/>
            <a:ext cx="734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ge (95 categories for the pre SDC SARS-LFS match, 44 categories for the post-SDC SARs-LFS mat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ex (2 Categori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Marital Status (5 Categori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Region of residence. (11 Categori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Number of Residents (7 categori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Primary economic status (9 categori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ountry of birth (14 Categori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Ethnic group (15 categori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enure (5 categori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Matching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6000" y="1981080"/>
            <a:ext cx="802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principle, we could have used fuzzy matching methods to allow for data divergenc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ever, the number of direct one to one matches was very large on both files and therefore this was deemed to cause an unnecessary administrative burden at the match verification stag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refore, a simple combine and sort algorithm was used for the matching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Matching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5640" y="19810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6085 one to one matches between the pre-SDC SAR and the LFS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3130 one to one matches between the released SAR and the LFS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tches sent to ONS for verification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Verification problem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 significant number of matches there was no address linkable to the LFS identifying variables.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affected 1602 matches (26.32%) against the pre-SDC SARS file and 895 matches (28.95%) against the post-SDC SARS fil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ever, no strong relationships with match key variabl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20:47:42Z</dcterms:created>
  <dc:creator>Anna Manning</dc:creator>
  <dc:description/>
  <dc:language>en-US</dc:language>
  <cp:lastModifiedBy>Mark Elliot</cp:lastModifiedBy>
  <dcterms:modified xsi:type="dcterms:W3CDTF">2007-12-18T14:35:37Z</dcterms:modified>
  <cp:revision>101</cp:revision>
  <dc:subject/>
  <dc:title>PowerPoint Presentation</dc:title>
</cp:coreProperties>
</file>