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statistical data confidentiality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, Manchester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chim@istat.it" TargetMode="External"/><Relationship Id="rId2" Type="http://schemas.openxmlformats.org/officeDocument/2006/relationships/hyperlink" Target="mailto:franconi@istat.it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81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00"/>
                </a:solidFill>
                <a:latin typeface="Arial"/>
              </a:rPr>
              <a:t>Disclosure scenario and risk assessment: </a:t>
            </a:r>
            <a:br>
              <a:rPr sz="4200"/>
            </a:br>
            <a:br>
              <a:rPr sz="4200"/>
            </a:br>
            <a:r>
              <a:rPr b="1" lang="it-IT" sz="4200" spc="-1" strike="noStrike">
                <a:solidFill>
                  <a:srgbClr val="000000"/>
                </a:solidFill>
                <a:latin typeface="Arial"/>
              </a:rPr>
              <a:t>Structure of Earnings Surve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3645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a Ichim, Luisa Franc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at – DCMT –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him@istat.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coni@istat.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2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nstrained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64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Controlle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turb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eighted total variation inferior to 0.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n be easily adapted to whatever stra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84360" y="1484280"/>
            <a:ext cx="77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to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key and confidential variables are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indicators (correlations, summary stat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609560" y="-4680"/>
          <a:ext cx="7499520" cy="6962760"/>
        </p:xfrm>
        <a:graphic>
          <a:graphicData uri="http://schemas.openxmlformats.org/drawingml/2006/table">
            <a:tbl>
              <a:tblPr/>
              <a:tblGrid>
                <a:gridCol w="582840"/>
                <a:gridCol w="1666800"/>
                <a:gridCol w="1000080"/>
                <a:gridCol w="750960"/>
                <a:gridCol w="2124000"/>
                <a:gridCol w="1374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raphical 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enter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gross hourly earnings in the representative 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economic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ross earnings for a representative 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 of economic and financial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nings related to over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ce of collective pay agre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payment for shift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umber of employe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ross annual earnings in the reference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prise sample weigh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eeks to which the gross annual earnings rel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annual bon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ee’s 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2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bonuses based on produ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u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paid hours during the representative 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ment position or supervisory po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overtime hours paid in the reference 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ays of abs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 of service in the enter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ays of holiday leav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-time or part-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3.5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iday entitlement or number of holiday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re of a full-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loyee sample weigh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contract of employ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4076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fidentiality ensured, minimize the information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1700280"/>
            <a:ext cx="68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sider the dissemination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sider the data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bjectives of the anony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isclosur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onfidentiality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nformation conten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84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34920" y="1628280"/>
            <a:ext cx="705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mination policy (Nace, Citizenship, Number of Employe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priority variable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CE, NUTS, 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level of detail (NACE 2digits, Nuts1, ISCO 2digits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ds of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ing the difference on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nual Earning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tween two categories of the regional detail (estimating differences between regional politics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totals var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322640" y="3064320"/>
            <a:ext cx="41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DATA FILE FOR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677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osure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63280" y="1341000"/>
            <a:ext cx="7201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c the intruder knowledge and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INTRUDER = RESEAR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xternal register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nosy colleague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322640" y="3064320"/>
            <a:ext cx="41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DATA FILE F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5300640"/>
            <a:ext cx="66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NLY SPONTANEOUS IDE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7451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nterprise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spontaneous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52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 variabl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CE, NUTS,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7280" y="3500280"/>
            <a:ext cx="7416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sampled enterprise is considered at ris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population and sample frequencies are simultaneously below the given thresho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03200" y="188640"/>
            <a:ext cx="806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erprise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27280" y="1052640"/>
            <a:ext cx="74167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uctural key variables are all categoric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ection is achieved by recoding classes of the categorical key variable with the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lowes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prior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. Nace 2-dig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. NUTS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.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789360"/>
            <a:ext cx="1727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27280" y="5013360"/>
            <a:ext cx="741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) Recoding with respect to the population frequencies generates a lower information l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) If needed, recode another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63280" y="2349360"/>
            <a:ext cx="7380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on the enterprise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u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 variable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emely high earnings related to large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331640" y="-360"/>
            <a:ext cx="80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ees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pontaneous identif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322640" y="3064320"/>
            <a:ext cx="41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DATA FILE FOR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mployees at risk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4000" spc="-1" strike="noStrike">
                <a:solidFill>
                  <a:srgbClr val="ff0000"/>
                </a:solidFill>
                <a:latin typeface="Arial"/>
              </a:rPr>
              <a:t>use the scenario!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777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nualEarnin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greater than the 99% quantile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combination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u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nEa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number of sampled employees with earnings greater tha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as coun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was a single employee with such characteristics, it was considered at risk of identif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63640" y="1846440"/>
            <a:ext cx="71294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ords of employe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ri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dentification ought to be perturbe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Only numerica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variables are pertur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368360" y="0"/>
            <a:ext cx="8028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mployees: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selective protect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1322640" y="3064320"/>
            <a:ext cx="41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DATA FILE F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59:06Z</dcterms:created>
  <dc:creator>istat</dc:creator>
  <dc:description/>
  <dc:language>en-US</dc:language>
  <cp:lastModifiedBy>istat</cp:lastModifiedBy>
  <dcterms:modified xsi:type="dcterms:W3CDTF">2007-12-03T09:43:41Z</dcterms:modified>
  <cp:revision>67</cp:revision>
  <dc:subject/>
  <dc:title>Diapositiva 1</dc:title>
</cp:coreProperties>
</file>