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EB5F1-51F9-4B3E-8DB7-3624BA94D410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undsätzlich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tte die Farbe für das Logo immer abwechseln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er eine Folie mit dem zweiten Mas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er eine Folie mit dem zweiten Mas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er eine Folie mit dem zweiten Mas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er eine Folie mit dem zweiten Mas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er eine Folie mit dem zweiten Mas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er eine Folie mit dem zweiten Mas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er eine Folie mit dem zweiten Mas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er eine Folie mit dem zweiten Mas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er eine Folie mit dem zweiten Mas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er eine Folie mit dem zweiten Mas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er eine Folie mit dem zweiten Mas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er eine Folie mit dem zweiten Mas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er eine Folie mit dem zweiten Mas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er eine Folie mit dem zweiten Mas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er eine Folie mit dem zweiten Mas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er eine Folie mit dem zweiten Mas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0F3498-9962-47DC-8031-C3EADA61DCC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01280" y="998280"/>
            <a:ext cx="733572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01280" y="1719000"/>
            <a:ext cx="733572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0">
              <a:lnSpc>
                <a:spcPct val="14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701280" y="3927240"/>
            <a:ext cx="733572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0">
              <a:lnSpc>
                <a:spcPct val="14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AD22BA-4CB1-4CD5-B14F-4F4410138AC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1280" y="998280"/>
            <a:ext cx="733572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01280" y="1719000"/>
            <a:ext cx="357948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0">
              <a:lnSpc>
                <a:spcPct val="14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60040" y="1719000"/>
            <a:ext cx="357948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0">
              <a:lnSpc>
                <a:spcPct val="14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701280" y="3927240"/>
            <a:ext cx="357948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0">
              <a:lnSpc>
                <a:spcPct val="14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460040" y="3927240"/>
            <a:ext cx="357948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0">
              <a:lnSpc>
                <a:spcPct val="14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4BBF97-1BBF-4F55-A8BA-28383F5924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01280" y="998280"/>
            <a:ext cx="733572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701280" y="1719000"/>
            <a:ext cx="23619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0">
              <a:lnSpc>
                <a:spcPct val="14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81680" y="1719000"/>
            <a:ext cx="23619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0">
              <a:lnSpc>
                <a:spcPct val="14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662080" y="1719000"/>
            <a:ext cx="23619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0">
              <a:lnSpc>
                <a:spcPct val="14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701280" y="3927240"/>
            <a:ext cx="23619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0">
              <a:lnSpc>
                <a:spcPct val="14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81680" y="3927240"/>
            <a:ext cx="23619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0">
              <a:lnSpc>
                <a:spcPct val="14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662080" y="3927240"/>
            <a:ext cx="23619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0">
              <a:lnSpc>
                <a:spcPct val="14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F4D5B5-92FA-4AB7-B4BD-A4C427BC959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5A37C1-72E6-4C0C-AED1-FB9C9EEC00B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01280" y="998280"/>
            <a:ext cx="733572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701280" y="1719000"/>
            <a:ext cx="7335720" cy="42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4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E5019B-9263-4B3B-9EDF-E3C8DA5A994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01280" y="998280"/>
            <a:ext cx="733572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701280" y="1719000"/>
            <a:ext cx="733572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0">
              <a:lnSpc>
                <a:spcPct val="14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18B462-3646-4477-A3FD-ADE8D83619B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1280" y="998280"/>
            <a:ext cx="733572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01280" y="1719000"/>
            <a:ext cx="357948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0">
              <a:lnSpc>
                <a:spcPct val="14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460040" y="1719000"/>
            <a:ext cx="357948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0">
              <a:lnSpc>
                <a:spcPct val="14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50A788-7136-4920-82BA-DC55C592F35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01280" y="998280"/>
            <a:ext cx="733572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1C9049-CF99-47A4-9C8C-CC7FE82A268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701280" y="998280"/>
            <a:ext cx="733572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A137FC-CB4C-4049-88AB-4434720BFC0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01280" y="998280"/>
            <a:ext cx="733572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01280" y="1719000"/>
            <a:ext cx="357948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0">
              <a:lnSpc>
                <a:spcPct val="14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460040" y="1719000"/>
            <a:ext cx="357948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0">
              <a:lnSpc>
                <a:spcPct val="14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701280" y="3927240"/>
            <a:ext cx="357948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0">
              <a:lnSpc>
                <a:spcPct val="14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B6F777-E416-4CD8-968D-669753A50E4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01280" y="998280"/>
            <a:ext cx="733572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701280" y="1719000"/>
            <a:ext cx="7335720" cy="42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4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787C81-050F-4063-81C2-A1EF85ED61B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1280" y="998280"/>
            <a:ext cx="733572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01280" y="1719000"/>
            <a:ext cx="357948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0">
              <a:lnSpc>
                <a:spcPct val="14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460040" y="1719000"/>
            <a:ext cx="357948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0">
              <a:lnSpc>
                <a:spcPct val="14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460040" y="3927240"/>
            <a:ext cx="357948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0">
              <a:lnSpc>
                <a:spcPct val="14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74CAB3-BCA3-451A-B64E-E170515B5F6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01280" y="998280"/>
            <a:ext cx="733572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01280" y="1719000"/>
            <a:ext cx="357948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0">
              <a:lnSpc>
                <a:spcPct val="14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460040" y="1719000"/>
            <a:ext cx="357948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0">
              <a:lnSpc>
                <a:spcPct val="14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01280" y="3927240"/>
            <a:ext cx="733572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0">
              <a:lnSpc>
                <a:spcPct val="14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BE5B2F-9027-4670-A714-7F6470176D1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01280" y="998280"/>
            <a:ext cx="733572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01280" y="1719000"/>
            <a:ext cx="733572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0">
              <a:lnSpc>
                <a:spcPct val="14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701280" y="3927240"/>
            <a:ext cx="733572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0">
              <a:lnSpc>
                <a:spcPct val="14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B9518E-59F6-472F-AE6C-A843F56BD47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01280" y="998280"/>
            <a:ext cx="733572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01280" y="1719000"/>
            <a:ext cx="357948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0">
              <a:lnSpc>
                <a:spcPct val="14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460040" y="1719000"/>
            <a:ext cx="357948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0">
              <a:lnSpc>
                <a:spcPct val="14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701280" y="3927240"/>
            <a:ext cx="357948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0">
              <a:lnSpc>
                <a:spcPct val="14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460040" y="3927240"/>
            <a:ext cx="357948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0">
              <a:lnSpc>
                <a:spcPct val="14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AD35AB-44FA-49CD-A8DF-5B480A2F6DE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01280" y="998280"/>
            <a:ext cx="733572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01280" y="1719000"/>
            <a:ext cx="23619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0">
              <a:lnSpc>
                <a:spcPct val="14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181680" y="1719000"/>
            <a:ext cx="23619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0">
              <a:lnSpc>
                <a:spcPct val="14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080" y="1719000"/>
            <a:ext cx="23619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0">
              <a:lnSpc>
                <a:spcPct val="14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701280" y="3927240"/>
            <a:ext cx="23619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0">
              <a:lnSpc>
                <a:spcPct val="14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181680" y="3927240"/>
            <a:ext cx="23619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0">
              <a:lnSpc>
                <a:spcPct val="14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62080" y="3927240"/>
            <a:ext cx="23619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0">
              <a:lnSpc>
                <a:spcPct val="14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5C83A9-A689-4E1E-BA02-27311968458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01280" y="998280"/>
            <a:ext cx="733572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01280" y="1719000"/>
            <a:ext cx="733572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0">
              <a:lnSpc>
                <a:spcPct val="14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97AFED-C87B-4310-85C4-D8AAB5BF6E9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01280" y="998280"/>
            <a:ext cx="733572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01280" y="1719000"/>
            <a:ext cx="357948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0">
              <a:lnSpc>
                <a:spcPct val="14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460040" y="1719000"/>
            <a:ext cx="357948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0">
              <a:lnSpc>
                <a:spcPct val="14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91EB86-BBEB-4B22-B996-F94ADB13C69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1280" y="998280"/>
            <a:ext cx="733572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643DD6-8A15-4F35-A062-33E8DD7EB4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701280" y="998280"/>
            <a:ext cx="733572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11F31B-CF78-4A57-902A-01AFB1E170B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01280" y="998280"/>
            <a:ext cx="733572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701280" y="1719000"/>
            <a:ext cx="357948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0">
              <a:lnSpc>
                <a:spcPct val="14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460040" y="1719000"/>
            <a:ext cx="357948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0">
              <a:lnSpc>
                <a:spcPct val="14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701280" y="3927240"/>
            <a:ext cx="357948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0">
              <a:lnSpc>
                <a:spcPct val="14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79AD43-FF56-4B7C-80DA-93A9B24B28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01280" y="998280"/>
            <a:ext cx="733572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01280" y="1719000"/>
            <a:ext cx="357948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0">
              <a:lnSpc>
                <a:spcPct val="14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460040" y="1719000"/>
            <a:ext cx="357948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0">
              <a:lnSpc>
                <a:spcPct val="14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460040" y="3927240"/>
            <a:ext cx="357948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0">
              <a:lnSpc>
                <a:spcPct val="14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AA6847-4C6D-47F5-9651-13453D3546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01280" y="998280"/>
            <a:ext cx="733572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01280" y="1719000"/>
            <a:ext cx="357948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0">
              <a:lnSpc>
                <a:spcPct val="14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460040" y="1719000"/>
            <a:ext cx="357948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0">
              <a:lnSpc>
                <a:spcPct val="14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701280" y="3927240"/>
            <a:ext cx="733572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0">
              <a:lnSpc>
                <a:spcPct val="14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509B77-63FB-4326-978D-146CFCAC24A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862760" y="5454720"/>
            <a:ext cx="432000" cy="41436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01280" y="998280"/>
            <a:ext cx="733572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1"/>
          </p:nvPr>
        </p:nvSpPr>
        <p:spPr>
          <a:xfrm>
            <a:off x="7812000" y="5555880"/>
            <a:ext cx="558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CC929-A375-47FB-9473-282ADE11534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701280" y="1719000"/>
            <a:ext cx="733572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265320">
              <a:lnSpc>
                <a:spcPct val="140000"/>
              </a:lnSpc>
              <a:spcBef>
                <a:spcPts val="1001"/>
              </a:spcBef>
              <a:buClr>
                <a:srgbClr val="000066"/>
              </a:buClr>
              <a:buSzPct val="130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2744640" indent="-228600">
              <a:lnSpc>
                <a:spcPct val="14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152880" indent="-228600">
              <a:lnSpc>
                <a:spcPct val="14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560760" indent="-228600">
              <a:lnSpc>
                <a:spcPct val="14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560760" indent="-228600">
              <a:lnSpc>
                <a:spcPct val="14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560760" indent="-228600">
              <a:lnSpc>
                <a:spcPct val="14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7862760" y="5454720"/>
            <a:ext cx="432000" cy="41436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01280" y="998280"/>
            <a:ext cx="733572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Num" idx="2"/>
          </p:nvPr>
        </p:nvSpPr>
        <p:spPr>
          <a:xfrm>
            <a:off x="7812000" y="5505120"/>
            <a:ext cx="558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5B24D-45C2-42E3-8F54-352FED55964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body"/>
          </p:nvPr>
        </p:nvSpPr>
        <p:spPr>
          <a:xfrm>
            <a:off x="701280" y="1719000"/>
            <a:ext cx="733572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0">
              <a:lnSpc>
                <a:spcPct val="1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66760" indent="-266760">
              <a:lnSpc>
                <a:spcPct val="140000"/>
              </a:lnSpc>
              <a:spcBef>
                <a:spcPts val="1001"/>
              </a:spcBef>
              <a:buClr>
                <a:srgbClr val="000066"/>
              </a:buClr>
              <a:buSzPct val="130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266760" indent="-266760">
              <a:lnSpc>
                <a:spcPct val="14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266760" indent="-266760">
              <a:lnSpc>
                <a:spcPct val="14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66760" indent="-266760">
              <a:lnSpc>
                <a:spcPct val="14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66760" indent="-266760">
              <a:lnSpc>
                <a:spcPct val="14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66760" indent="-266760">
              <a:lnSpc>
                <a:spcPct val="14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7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8.png"/><Relationship Id="rId6" Type="http://schemas.openxmlformats.org/officeDocument/2006/relationships/image" Target="../media/image2.jpeg"/><Relationship Id="rId7" Type="http://schemas.openxmlformats.org/officeDocument/2006/relationships/slideLayout" Target="../slideLayouts/slideLayout1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13064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2546280" y="4830840"/>
            <a:ext cx="5400720" cy="89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66"/>
                </a:solidFill>
                <a:latin typeface="Arial"/>
              </a:rPr>
              <a:t>UNECE Workshop on Confidentiality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ts val="1998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66"/>
                </a:solidFill>
                <a:latin typeface="Arial"/>
              </a:rPr>
              <a:t>Manchester, 17.-19. December 2007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467000" y="1763640"/>
            <a:ext cx="648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omparing Fully and Partially Synthetic Data Sets for Statistical Disclosure Control in the German IAB Establishment Pa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rcRect l="50055" t="0" r="0" b="234"/>
          <a:stretch/>
        </p:blipFill>
        <p:spPr>
          <a:xfrm>
            <a:off x="7812000" y="422280"/>
            <a:ext cx="900360" cy="84456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816280" y="3249720"/>
            <a:ext cx="5086440" cy="19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örg Drechsler, Stefan Bend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(Institute for Employment Research, Germany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&amp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sanne Räss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(University of Bamber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701280" y="394920"/>
            <a:ext cx="733572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Generating fully synthetic data sets for the IAB Establishment Panel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701280" y="1402920"/>
            <a:ext cx="715644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2080" indent="-262080">
              <a:lnSpc>
                <a:spcPct val="100000"/>
              </a:lnSpc>
              <a:spcBef>
                <a:spcPts val="675"/>
              </a:spcBef>
              <a:spcAft>
                <a:spcPts val="451"/>
              </a:spcAft>
              <a:buClr>
                <a:srgbClr val="000066"/>
              </a:buClr>
              <a:buSzPct val="130000"/>
              <a:buFont typeface="Wingdings" charset="2"/>
              <a:buChar char=""/>
              <a:tabLst>
                <a:tab algn="l" pos="1349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a synthetic data set for selected variables from the wave 1997 from the Establishment Pa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lnSpc>
                <a:spcPct val="100000"/>
              </a:lnSpc>
              <a:spcBef>
                <a:spcPts val="675"/>
              </a:spcBef>
              <a:spcAft>
                <a:spcPts val="451"/>
              </a:spcAft>
              <a:buClr>
                <a:srgbClr val="000066"/>
              </a:buClr>
              <a:buSzPct val="130000"/>
              <a:buFont typeface="Wingdings" charset="2"/>
              <a:buChar char=""/>
              <a:tabLst>
                <a:tab algn="l" pos="1349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aw 10 new sample from the Official Employment Statistics using the same sampling design as for the Establishment Panel (Stratification by industry, size, and reg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lnSpc>
                <a:spcPct val="100000"/>
              </a:lnSpc>
              <a:spcBef>
                <a:spcPts val="675"/>
              </a:spcBef>
              <a:spcAft>
                <a:spcPts val="451"/>
              </a:spcAft>
              <a:buClr>
                <a:srgbClr val="000066"/>
              </a:buClr>
              <a:buSzPct val="130000"/>
              <a:buFont typeface="Wingdings" charset="2"/>
              <a:buChar char=""/>
              <a:tabLst>
                <a:tab algn="l" pos="1349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number of observations in each sample equals the number of observations in the panel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=n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=73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lnSpc>
                <a:spcPct val="100000"/>
              </a:lnSpc>
              <a:spcBef>
                <a:spcPts val="675"/>
              </a:spcBef>
              <a:spcAft>
                <a:spcPts val="451"/>
              </a:spcAft>
              <a:buClr>
                <a:srgbClr val="000066"/>
              </a:buClr>
              <a:buSzPct val="130000"/>
              <a:buFont typeface="Wingdings" charset="2"/>
              <a:buChar char=""/>
              <a:tabLst>
                <a:tab algn="l" pos="1349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ery sample is imputed ten times using sequential regre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lnSpc>
                <a:spcPct val="100000"/>
              </a:lnSpc>
              <a:spcBef>
                <a:spcPts val="675"/>
              </a:spcBef>
              <a:spcAft>
                <a:spcPts val="451"/>
              </a:spcAft>
              <a:buClr>
                <a:srgbClr val="000066"/>
              </a:buClr>
              <a:buSzPct val="130000"/>
              <a:buFont typeface="Wingdings" charset="2"/>
              <a:buChar char=""/>
              <a:tabLst>
                <a:tab algn="l" pos="1349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 of variables from the establishment panel: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lnSpc>
                <a:spcPct val="100000"/>
              </a:lnSpc>
              <a:spcBef>
                <a:spcPts val="675"/>
              </a:spcBef>
              <a:spcAft>
                <a:spcPts val="451"/>
              </a:spcAft>
              <a:buClr>
                <a:srgbClr val="000066"/>
              </a:buClr>
              <a:buSzPct val="130000"/>
              <a:buFont typeface="Wingdings" charset="2"/>
              <a:buChar char=""/>
              <a:tabLst>
                <a:tab algn="l" pos="1349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utations are generated using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VEwar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y Raghunathan, Solenberger and Hoewyk (200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2080" indent="0">
              <a:lnSpc>
                <a:spcPct val="100000"/>
              </a:lnSpc>
              <a:spcBef>
                <a:spcPts val="675"/>
              </a:spcBef>
              <a:spcAft>
                <a:spcPts val="451"/>
              </a:spcAft>
              <a:buNone/>
              <a:tabLst>
                <a:tab algn="l" pos="1349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2080" indent="0">
              <a:lnSpc>
                <a:spcPct val="100000"/>
              </a:lnSpc>
              <a:spcBef>
                <a:spcPts val="675"/>
              </a:spcBef>
              <a:spcAft>
                <a:spcPts val="451"/>
              </a:spcAft>
              <a:buNone/>
              <a:tabLst>
                <a:tab algn="l" pos="1349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2080" indent="0">
              <a:lnSpc>
                <a:spcPct val="100000"/>
              </a:lnSpc>
              <a:spcBef>
                <a:spcPts val="675"/>
              </a:spcBef>
              <a:spcAft>
                <a:spcPts val="451"/>
              </a:spcAft>
              <a:buNone/>
              <a:tabLst>
                <a:tab algn="l" pos="1349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2080" indent="0">
              <a:lnSpc>
                <a:spcPct val="100000"/>
              </a:lnSpc>
              <a:spcBef>
                <a:spcPts val="675"/>
              </a:spcBef>
              <a:spcAft>
                <a:spcPts val="451"/>
              </a:spcAft>
              <a:buNone/>
              <a:tabLst>
                <a:tab algn="l" pos="1349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rcRect l="50055" t="0" r="0" b="234"/>
          <a:stretch/>
        </p:blipFill>
        <p:spPr>
          <a:xfrm>
            <a:off x="7812000" y="422280"/>
            <a:ext cx="900360" cy="844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BD20E9-24F6-46B4-B0B4-5B05C60911C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701280" y="585360"/>
            <a:ext cx="733572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Imputation procedure for partially synthetic data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701280" y="1403280"/>
            <a:ext cx="7156440" cy="45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66760">
              <a:lnSpc>
                <a:spcPct val="100000"/>
              </a:lnSpc>
              <a:spcBef>
                <a:spcPts val="2024"/>
              </a:spcBef>
              <a:buClr>
                <a:srgbClr val="000066"/>
              </a:buClr>
              <a:buSzPct val="130000"/>
              <a:buFont typeface="Wingdings" charset="2"/>
              <a:buChar char=""/>
              <a:tabLst>
                <a:tab algn="l" pos="262080"/>
                <a:tab algn="l" pos="1349280"/>
                <a:tab algn="l" pos="2147760"/>
                <a:tab algn="l" pos="3948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nly two variables are synthesized: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number of employe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0"/>
              </a:lnSpc>
              <a:spcBef>
                <a:spcPts val="2024"/>
              </a:spcBef>
              <a:spcAft>
                <a:spcPts val="451"/>
              </a:spcAft>
              <a:buNone/>
              <a:tabLst>
                <a:tab algn="l" pos="0"/>
                <a:tab algn="l" pos="262080"/>
                <a:tab algn="l" pos="1349280"/>
                <a:tab algn="l" pos="2147760"/>
                <a:tab algn="l" pos="3948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industry (16 catego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266760">
              <a:lnSpc>
                <a:spcPct val="100000"/>
              </a:lnSpc>
              <a:spcBef>
                <a:spcPts val="2024"/>
              </a:spcBef>
              <a:buClr>
                <a:srgbClr val="000066"/>
              </a:buClr>
              <a:buSzPct val="130000"/>
              <a:buFont typeface="Wingdings" charset="2"/>
              <a:buChar char=""/>
              <a:tabLst>
                <a:tab algn="l" pos="262080"/>
                <a:tab algn="l" pos="1349280"/>
                <a:tab algn="l" pos="2147760"/>
                <a:tab algn="l" pos="3948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ame variables for the imputation model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266760">
              <a:lnSpc>
                <a:spcPct val="100000"/>
              </a:lnSpc>
              <a:spcBef>
                <a:spcPts val="2024"/>
              </a:spcBef>
              <a:spcAft>
                <a:spcPts val="451"/>
              </a:spcAft>
              <a:buClr>
                <a:srgbClr val="000066"/>
              </a:buClr>
              <a:buSzPct val="130000"/>
              <a:buFont typeface="Wingdings" charset="2"/>
              <a:buChar char=""/>
              <a:tabLst>
                <a:tab algn="l" pos="262080"/>
                <a:tab algn="l" pos="1349280"/>
                <a:tab algn="l" pos="2147760"/>
                <a:tab algn="l" pos="3948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mputation by sequential regre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266760">
              <a:lnSpc>
                <a:spcPct val="90000"/>
              </a:lnSpc>
              <a:spcBef>
                <a:spcPts val="2024"/>
              </a:spcBef>
              <a:spcAft>
                <a:spcPts val="337"/>
              </a:spcAft>
              <a:buClr>
                <a:srgbClr val="000066"/>
              </a:buClr>
              <a:buSzPct val="130000"/>
              <a:buFont typeface="Wingdings" charset="2"/>
              <a:buChar char=""/>
              <a:tabLst>
                <a:tab algn="l" pos="262080"/>
                <a:tab algn="l" pos="1349280"/>
                <a:tab algn="l" pos="2147760"/>
                <a:tab algn="l" pos="3948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mputation model: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multinomial logit for the industry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337"/>
              </a:spcAft>
              <a:buNone/>
              <a:tabLst>
                <a:tab algn="l" pos="0"/>
                <a:tab algn="l" pos="262080"/>
                <a:tab algn="l" pos="1349280"/>
                <a:tab algn="l" pos="2147760"/>
                <a:tab algn="l" pos="3948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linear model for the cubic root of the nb of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employe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337"/>
              </a:spcAft>
              <a:buNone/>
              <a:tabLst>
                <a:tab algn="l" pos="0"/>
                <a:tab algn="l" pos="262080"/>
                <a:tab algn="l" pos="1349280"/>
                <a:tab algn="l" pos="2147760"/>
                <a:tab algn="l" pos="3948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4 independent linear models defined by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quartiles for the establishment siz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266760">
              <a:lnSpc>
                <a:spcPct val="100000"/>
              </a:lnSpc>
              <a:spcBef>
                <a:spcPts val="2024"/>
              </a:spcBef>
              <a:spcAft>
                <a:spcPts val="451"/>
              </a:spcAft>
              <a:buClr>
                <a:srgbClr val="000066"/>
              </a:buClr>
              <a:buSzPct val="130000"/>
              <a:buFont typeface="Wingdings" charset="2"/>
              <a:buChar char=""/>
              <a:tabLst>
                <a:tab algn="l" pos="262080"/>
                <a:tab algn="l" pos="1349280"/>
                <a:tab algn="l" pos="2147760"/>
                <a:tab algn="l" pos="3948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mputations based on own coding in 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024"/>
              </a:spcBef>
              <a:spcAft>
                <a:spcPts val="451"/>
              </a:spcAft>
              <a:buNone/>
              <a:tabLst>
                <a:tab algn="l" pos="262080"/>
                <a:tab algn="l" pos="1349280"/>
                <a:tab algn="l" pos="2147760"/>
                <a:tab algn="l" pos="3948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rcRect l="50055" t="0" r="0" b="234"/>
          <a:stretch/>
        </p:blipFill>
        <p:spPr>
          <a:xfrm>
            <a:off x="7812000" y="422280"/>
            <a:ext cx="900360" cy="844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6E7D8F-93B2-4949-8585-FA2E6F14E71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701280" y="585360"/>
            <a:ext cx="733572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Overview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701280" y="1402920"/>
            <a:ext cx="715644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66760">
              <a:lnSpc>
                <a:spcPct val="100000"/>
              </a:lnSpc>
              <a:spcBef>
                <a:spcPts val="2500"/>
              </a:spcBef>
              <a:buClr>
                <a:srgbClr val="000066"/>
              </a:buClr>
              <a:buSzPct val="130000"/>
              <a:buFont typeface="Wingdings" charset="2"/>
              <a:buChar char=""/>
              <a:tabLst>
                <a:tab algn="l" pos="1973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ltiple Imputation for Statistical Disclosure Contr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266760">
              <a:lnSpc>
                <a:spcPct val="100000"/>
              </a:lnSpc>
              <a:spcBef>
                <a:spcPts val="2500"/>
              </a:spcBef>
              <a:buClr>
                <a:srgbClr val="000066"/>
              </a:buClr>
              <a:buSzPct val="130000"/>
              <a:buFont typeface="Wingdings" charset="2"/>
              <a:buChar char=""/>
              <a:tabLst>
                <a:tab algn="l" pos="1973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IAB Establishment Pan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266760">
              <a:lnSpc>
                <a:spcPct val="100000"/>
              </a:lnSpc>
              <a:spcBef>
                <a:spcPts val="2500"/>
              </a:spcBef>
              <a:buClr>
                <a:srgbClr val="000066"/>
              </a:buClr>
              <a:buSzPct val="130000"/>
              <a:buFont typeface="Wingdings" charset="2"/>
              <a:buChar char=""/>
              <a:tabLst>
                <a:tab algn="l" pos="1973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of The Two Approach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266760">
              <a:lnSpc>
                <a:spcPct val="100000"/>
              </a:lnSpc>
              <a:spcBef>
                <a:spcPts val="2500"/>
              </a:spcBef>
              <a:buClr>
                <a:srgbClr val="000066"/>
              </a:buClr>
              <a:buSzPct val="130000"/>
              <a:buFont typeface="Wingdings" charset="2"/>
              <a:buChar char=""/>
              <a:tabLst>
                <a:tab algn="l" pos="1973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Comparison of the Resul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266760">
              <a:lnSpc>
                <a:spcPct val="100000"/>
              </a:lnSpc>
              <a:spcBef>
                <a:spcPts val="2500"/>
              </a:spcBef>
              <a:buClr>
                <a:srgbClr val="000066"/>
              </a:buClr>
              <a:buSzPct val="130000"/>
              <a:buFont typeface="Wingdings" charset="2"/>
              <a:buChar char=""/>
              <a:tabLst>
                <a:tab algn="l" pos="1973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rcRect l="50055" t="0" r="0" b="234"/>
          <a:stretch/>
        </p:blipFill>
        <p:spPr>
          <a:xfrm>
            <a:off x="7812000" y="422280"/>
            <a:ext cx="900360" cy="844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554AFF-BF90-4877-B0FC-A12D47CE43B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701280" y="585360"/>
            <a:ext cx="733572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nalytical validity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701280" y="1222200"/>
            <a:ext cx="7156440" cy="45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258480">
              <a:lnSpc>
                <a:spcPct val="100000"/>
              </a:lnSpc>
              <a:spcBef>
                <a:spcPts val="675"/>
              </a:spcBef>
              <a:spcAft>
                <a:spcPts val="451"/>
              </a:spcAft>
              <a:buClr>
                <a:srgbClr val="000066"/>
              </a:buClr>
              <a:buSzPct val="130000"/>
              <a:buFont typeface="Wingdings" charset="2"/>
              <a:buChar char=""/>
              <a:tabLst>
                <a:tab algn="l" pos="262080"/>
                <a:tab algn="l" pos="812880"/>
                <a:tab algn="l" pos="1973160"/>
                <a:tab algn="l" pos="3584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mpare regression results from the original data with results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rom the synthetic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258480">
              <a:lnSpc>
                <a:spcPct val="100000"/>
              </a:lnSpc>
              <a:spcBef>
                <a:spcPts val="675"/>
              </a:spcBef>
              <a:spcAft>
                <a:spcPts val="451"/>
              </a:spcAft>
              <a:buClr>
                <a:srgbClr val="000066"/>
              </a:buClr>
              <a:buSzPct val="130000"/>
              <a:buFont typeface="Wingdings" charset="2"/>
              <a:buChar char=""/>
              <a:tabLst>
                <a:tab algn="l" pos="262080"/>
                <a:tab algn="l" pos="812880"/>
                <a:tab algn="l" pos="1973160"/>
                <a:tab algn="l" pos="3584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First regress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3440" indent="-270720">
              <a:lnSpc>
                <a:spcPct val="90000"/>
              </a:lnSpc>
              <a:spcBef>
                <a:spcPts val="400"/>
              </a:spcBef>
              <a:spcAft>
                <a:spcPts val="201"/>
              </a:spcAft>
              <a:buClr>
                <a:srgbClr val="000066"/>
              </a:buClr>
              <a:buSzPct val="130000"/>
              <a:buFont typeface="Wingdings" charset="2"/>
              <a:buChar char=""/>
              <a:tabLst>
                <a:tab algn="l" pos="262080"/>
                <a:tab algn="l" pos="812880"/>
                <a:tab algn="l" pos="1973160"/>
                <a:tab algn="l" pos="3584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Zwick (2005) analyses the productivity effects of different continuing vocational training forms in German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03440" indent="-270720">
              <a:lnSpc>
                <a:spcPct val="90000"/>
              </a:lnSpc>
              <a:spcBef>
                <a:spcPts val="400"/>
              </a:spcBef>
              <a:spcAft>
                <a:spcPts val="201"/>
              </a:spcAft>
              <a:buClr>
                <a:srgbClr val="000066"/>
              </a:buClr>
              <a:buSzPct val="130000"/>
              <a:buFont typeface="Wingdings" charset="2"/>
              <a:buChar char=""/>
              <a:tabLst>
                <a:tab algn="l" pos="262080"/>
                <a:tab algn="l" pos="812880"/>
                <a:tab algn="l" pos="1973160"/>
                <a:tab algn="l" pos="3584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bit regression to explain, why firms offer vocational trai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03440" indent="-270720">
              <a:lnSpc>
                <a:spcPct val="90000"/>
              </a:lnSpc>
              <a:spcBef>
                <a:spcPts val="400"/>
              </a:spcBef>
              <a:spcAft>
                <a:spcPts val="201"/>
              </a:spcAft>
              <a:buClr>
                <a:srgbClr val="000066"/>
              </a:buClr>
              <a:buSzPct val="130000"/>
              <a:buFont typeface="Wingdings" charset="2"/>
              <a:buChar char=""/>
              <a:tabLst>
                <a:tab algn="l" pos="262080"/>
                <a:tab algn="l" pos="812880"/>
                <a:tab algn="l" pos="1973160"/>
                <a:tab algn="l" pos="3584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3 Explanatory variables including: Share of qualified employees, establishment size, industry, collective wage agreement,  high qualification needs expected…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258480">
              <a:lnSpc>
                <a:spcPct val="100000"/>
              </a:lnSpc>
              <a:spcBef>
                <a:spcPts val="675"/>
              </a:spcBef>
              <a:spcAft>
                <a:spcPts val="451"/>
              </a:spcAft>
              <a:buClr>
                <a:srgbClr val="000066"/>
              </a:buClr>
              <a:buSzPct val="130000"/>
              <a:buFont typeface="Wingdings" charset="2"/>
              <a:buChar char=""/>
              <a:tabLst>
                <a:tab algn="l" pos="262080"/>
                <a:tab algn="l" pos="812880"/>
                <a:tab algn="l" pos="1973160"/>
                <a:tab algn="l" pos="3584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regress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3440" indent="-270720">
              <a:lnSpc>
                <a:spcPct val="90000"/>
              </a:lnSpc>
              <a:spcBef>
                <a:spcPts val="400"/>
              </a:spcBef>
              <a:spcAft>
                <a:spcPts val="201"/>
              </a:spcAft>
              <a:buClr>
                <a:srgbClr val="000066"/>
              </a:buClr>
              <a:buSzPct val="130000"/>
              <a:buFont typeface="Wingdings" charset="2"/>
              <a:buChar char=""/>
              <a:tabLst>
                <a:tab algn="l" pos="262080"/>
                <a:tab algn="l" pos="812880"/>
                <a:tab algn="l" pos="1973160"/>
                <a:tab algn="l" pos="3584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g(number of employees) on 15 industry dumm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258480">
              <a:lnSpc>
                <a:spcPct val="100000"/>
              </a:lnSpc>
              <a:spcBef>
                <a:spcPts val="1349"/>
              </a:spcBef>
              <a:buClr>
                <a:srgbClr val="000066"/>
              </a:buClr>
              <a:buSzPct val="130000"/>
              <a:buFont typeface="Wingdings" charset="2"/>
              <a:buChar char=""/>
              <a:tabLst>
                <a:tab algn="l" pos="262080"/>
                <a:tab algn="l" pos="812880"/>
                <a:tab algn="l" pos="1973160"/>
                <a:tab algn="l" pos="3584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wo data utility measur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224"/>
              </a:spcAft>
              <a:buNone/>
              <a:tabLst>
                <a:tab algn="l" pos="0"/>
                <a:tab algn="l" pos="262080"/>
                <a:tab algn="l" pos="812880"/>
                <a:tab algn="l" pos="1973160"/>
                <a:tab algn="l" pos="3584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Comparison of the beta coefficients from the original data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set and the synthetic data s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262080"/>
                <a:tab algn="l" pos="812880"/>
                <a:tab algn="l" pos="1973160"/>
                <a:tab algn="l" pos="3584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confidence interval overl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rcRect l="50055" t="0" r="0" b="234"/>
          <a:stretch/>
        </p:blipFill>
        <p:spPr>
          <a:xfrm>
            <a:off x="7812000" y="422280"/>
            <a:ext cx="900360" cy="844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BAAEF7-C00F-4248-B9C2-4CD2790C67A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701280" y="585360"/>
            <a:ext cx="733572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onfidence interval overlap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701280" y="1221840"/>
            <a:ext cx="7156440" cy="18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258480">
              <a:lnSpc>
                <a:spcPct val="100000"/>
              </a:lnSpc>
              <a:spcBef>
                <a:spcPts val="675"/>
              </a:spcBef>
              <a:spcAft>
                <a:spcPts val="451"/>
              </a:spcAft>
              <a:buClr>
                <a:srgbClr val="000066"/>
              </a:buClr>
              <a:buSzPct val="130000"/>
              <a:buFont typeface="Wingdings" charset="2"/>
              <a:buChar char=""/>
              <a:tabLst>
                <a:tab algn="l" pos="262080"/>
                <a:tab algn="l" pos="812880"/>
                <a:tab algn="l" pos="1973160"/>
                <a:tab algn="l" pos="3584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ggested by Karr et al. (200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258480">
              <a:lnSpc>
                <a:spcPct val="100000"/>
              </a:lnSpc>
              <a:spcBef>
                <a:spcPts val="675"/>
              </a:spcBef>
              <a:spcAft>
                <a:spcPts val="451"/>
              </a:spcAft>
              <a:buClr>
                <a:srgbClr val="000066"/>
              </a:buClr>
              <a:buSzPct val="130000"/>
              <a:buFont typeface="Wingdings" charset="2"/>
              <a:buChar char=""/>
              <a:tabLst>
                <a:tab algn="l" pos="262080"/>
                <a:tab algn="l" pos="812880"/>
                <a:tab algn="l" pos="1973160"/>
                <a:tab algn="l" pos="3584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easure the overlap of CIs from the original data and CIs from the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ynthetic data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258480">
              <a:lnSpc>
                <a:spcPct val="100000"/>
              </a:lnSpc>
              <a:spcBef>
                <a:spcPts val="675"/>
              </a:spcBef>
              <a:spcAft>
                <a:spcPts val="451"/>
              </a:spcAft>
              <a:buClr>
                <a:srgbClr val="000066"/>
              </a:buClr>
              <a:buSzPct val="130000"/>
              <a:buFont typeface="Wingdings" charset="2"/>
              <a:buChar char=""/>
              <a:tabLst>
                <a:tab algn="l" pos="262080"/>
                <a:tab algn="l" pos="812880"/>
                <a:tab algn="l" pos="1973160"/>
                <a:tab algn="l" pos="3584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higher the overlap, the higher the data ut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258480">
              <a:lnSpc>
                <a:spcPct val="100000"/>
              </a:lnSpc>
              <a:spcBef>
                <a:spcPts val="675"/>
              </a:spcBef>
              <a:spcAft>
                <a:spcPts val="451"/>
              </a:spcAft>
              <a:buClr>
                <a:srgbClr val="000066"/>
              </a:buClr>
              <a:buSzPct val="130000"/>
              <a:buFont typeface="Wingdings" charset="2"/>
              <a:buChar char=""/>
              <a:tabLst>
                <a:tab algn="l" pos="262080"/>
                <a:tab algn="l" pos="812880"/>
                <a:tab algn="l" pos="1973160"/>
                <a:tab algn="l" pos="3584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ute the average relative CI overlap for an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spcAft>
                <a:spcPts val="451"/>
              </a:spcAft>
              <a:buNone/>
              <a:tabLst>
                <a:tab algn="l" pos="262080"/>
                <a:tab algn="l" pos="812880"/>
                <a:tab algn="l" pos="1973160"/>
                <a:tab algn="l" pos="3584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rcRect l="50055" t="0" r="0" b="234"/>
          <a:stretch/>
        </p:blipFill>
        <p:spPr>
          <a:xfrm>
            <a:off x="7812000" y="422280"/>
            <a:ext cx="900360" cy="8445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92" name=""/>
              <p:cNvSpPr txBox="1"/>
              <p:nvPr/>
            </p:nvSpPr>
            <p:spPr>
              <a:xfrm>
                <a:off x="5925960" y="2747880"/>
                <a:ext cx="35568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2006640" y="3262320"/>
                <a:ext cx="4545000" cy="88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J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over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over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orig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orig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over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over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syn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syn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3968640" y="4927680"/>
            <a:ext cx="279108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205080" y="5241960"/>
            <a:ext cx="188928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205080" y="5062680"/>
            <a:ext cx="0" cy="40464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094360" y="4748040"/>
            <a:ext cx="0" cy="67500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968640" y="5241960"/>
            <a:ext cx="1125720" cy="0"/>
          </a:xfrm>
          <a:prstGeom prst="line">
            <a:avLst/>
          </a:prstGeom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968640" y="4927680"/>
            <a:ext cx="1125720" cy="0"/>
          </a:xfrm>
          <a:prstGeom prst="line">
            <a:avLst/>
          </a:prstGeom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4915080" y="4464000"/>
                <a:ext cx="453960" cy="28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ver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1" name=""/>
              <p:cNvSpPr txBox="1"/>
              <p:nvPr/>
            </p:nvSpPr>
            <p:spPr>
              <a:xfrm>
                <a:off x="3776760" y="4464000"/>
                <a:ext cx="417240" cy="28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ver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02" name=""/>
          <p:cNvSpPr/>
          <p:nvPr/>
        </p:nvSpPr>
        <p:spPr>
          <a:xfrm>
            <a:off x="6773760" y="4716360"/>
            <a:ext cx="0" cy="40500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954600" y="4748040"/>
            <a:ext cx="0" cy="67500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4" name=""/>
              <p:cNvSpPr txBox="1"/>
              <p:nvPr/>
            </p:nvSpPr>
            <p:spPr>
              <a:xfrm>
                <a:off x="3040200" y="5402160"/>
                <a:ext cx="417240" cy="32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rig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" name=""/>
              <p:cNvSpPr txBox="1"/>
              <p:nvPr/>
            </p:nvSpPr>
            <p:spPr>
              <a:xfrm>
                <a:off x="3774960" y="5345280"/>
                <a:ext cx="362160" cy="32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y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" name=""/>
              <p:cNvSpPr txBox="1"/>
              <p:nvPr/>
            </p:nvSpPr>
            <p:spPr>
              <a:xfrm>
                <a:off x="4881600" y="5343480"/>
                <a:ext cx="434880" cy="32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rig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" name=""/>
              <p:cNvSpPr txBox="1"/>
              <p:nvPr/>
            </p:nvSpPr>
            <p:spPr>
              <a:xfrm>
                <a:off x="6546960" y="5041800"/>
                <a:ext cx="396720" cy="32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y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08" name=""/>
          <p:cNvSpPr/>
          <p:nvPr/>
        </p:nvSpPr>
        <p:spPr>
          <a:xfrm>
            <a:off x="1584360" y="4772160"/>
            <a:ext cx="21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I for the synthetic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015920" y="5073480"/>
            <a:ext cx="21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I for the original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B668D8-4F2C-4285-9E7D-78766AEADBF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0" name=""/>
          <p:cNvGraphicFramePr/>
          <p:nvPr/>
        </p:nvGraphicFramePr>
        <p:xfrm>
          <a:off x="480960" y="1254240"/>
          <a:ext cx="7331040" cy="4875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0960" y="1254240"/>
                    <a:ext cx="7331040" cy="487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12" name=""/>
          <p:cNvGrpSpPr/>
          <p:nvPr/>
        </p:nvGrpSpPr>
        <p:grpSpPr>
          <a:xfrm>
            <a:off x="900000" y="6094440"/>
            <a:ext cx="6445440" cy="261360"/>
            <a:chOff x="900000" y="6094440"/>
            <a:chExt cx="6445440" cy="261360"/>
          </a:xfrm>
        </p:grpSpPr>
        <p:sp>
          <p:nvSpPr>
            <p:cNvPr id="213" name=""/>
            <p:cNvSpPr/>
            <p:nvPr/>
          </p:nvSpPr>
          <p:spPr>
            <a:xfrm>
              <a:off x="900000" y="6194520"/>
              <a:ext cx="216000" cy="727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077840" y="6094440"/>
              <a:ext cx="20163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100" spc="-1" strike="noStrike">
                  <a:solidFill>
                    <a:srgbClr val="000000"/>
                  </a:solidFill>
                  <a:latin typeface="Arial"/>
                </a:rPr>
                <a:t>Significant at the 0,1 % level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098880" y="6194520"/>
              <a:ext cx="216000" cy="7272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276720" y="6094440"/>
              <a:ext cx="201600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100" spc="-1" strike="noStrike">
                  <a:solidFill>
                    <a:srgbClr val="000000"/>
                  </a:solidFill>
                  <a:latin typeface="Arial"/>
                </a:rPr>
                <a:t>Significant at the 1 % level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151600" y="6194520"/>
              <a:ext cx="215640" cy="7272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329080" y="6094440"/>
              <a:ext cx="20163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100" spc="-1" strike="noStrike">
                  <a:solidFill>
                    <a:srgbClr val="000000"/>
                  </a:solidFill>
                  <a:latin typeface="Arial"/>
                </a:rPr>
                <a:t>Significant at the 5 % level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9" name=""/>
          <p:cNvSpPr/>
          <p:nvPr/>
        </p:nvSpPr>
        <p:spPr>
          <a:xfrm>
            <a:off x="700560" y="585720"/>
            <a:ext cx="679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Results from the first regression (Zwick 200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5"/>
          <a:srcRect l="50055" t="0" r="0" b="234"/>
          <a:stretch/>
        </p:blipFill>
        <p:spPr>
          <a:xfrm>
            <a:off x="7812000" y="422280"/>
            <a:ext cx="900360" cy="8445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FD23FF-66BE-4FD3-9908-98A7C5553AB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1" name=""/>
          <p:cNvGraphicFramePr/>
          <p:nvPr/>
        </p:nvGraphicFramePr>
        <p:xfrm>
          <a:off x="0" y="1322280"/>
          <a:ext cx="7858080" cy="5073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322280"/>
                    <a:ext cx="7858080" cy="507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3" name=""/>
          <p:cNvSpPr/>
          <p:nvPr/>
        </p:nvSpPr>
        <p:spPr>
          <a:xfrm>
            <a:off x="7137360" y="1224000"/>
            <a:ext cx="0" cy="4860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848640" y="6219720"/>
            <a:ext cx="12952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Average overlap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6958080" y="6039000"/>
            <a:ext cx="576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0,808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407360" y="6039000"/>
            <a:ext cx="576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0,926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27200" y="414360"/>
            <a:ext cx="713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verage confidence interval (CI) overlap 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for the estimates from the first regr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7586640" y="1224000"/>
            <a:ext cx="0" cy="4860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3"/>
          <a:srcRect l="50055" t="0" r="0" b="234"/>
          <a:stretch/>
        </p:blipFill>
        <p:spPr>
          <a:xfrm>
            <a:off x="7812000" y="422280"/>
            <a:ext cx="900360" cy="8445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6E11C3-3A89-4E6F-A4E7-1A6881AD489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341280" y="6458040"/>
            <a:ext cx="115920" cy="69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19120" y="6357960"/>
            <a:ext cx="21621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= Significant at the 0,1 % leve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47800" y="6458040"/>
            <a:ext cx="123840" cy="69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735280" y="6357960"/>
            <a:ext cx="2016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= Significant at the 1 % leve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751280" y="6458040"/>
            <a:ext cx="141480" cy="698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29120" y="6357960"/>
            <a:ext cx="2016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= Significant at the 5 % leve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01640" y="414360"/>
            <a:ext cx="7410600" cy="7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Results from the second regress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(log(nb. of employees) on industr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821640" y="6464160"/>
            <a:ext cx="141120" cy="698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6999120" y="6364440"/>
            <a:ext cx="2016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= insignifican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9" name=""/>
          <p:cNvGraphicFramePr/>
          <p:nvPr/>
        </p:nvGraphicFramePr>
        <p:xfrm>
          <a:off x="873000" y="1268280"/>
          <a:ext cx="6985080" cy="499608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24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73000" y="1268280"/>
                    <a:ext cx="6985080" cy="499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41" name="" descr=""/>
          <p:cNvPicPr/>
          <p:nvPr/>
        </p:nvPicPr>
        <p:blipFill>
          <a:blip r:embed="rId6"/>
          <a:srcRect l="50055" t="0" r="0" b="234"/>
          <a:stretch/>
        </p:blipFill>
        <p:spPr>
          <a:xfrm>
            <a:off x="7812000" y="422280"/>
            <a:ext cx="900360" cy="8445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3943AF-702B-4425-A730-FC75C8DCD03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2" name=""/>
          <p:cNvGraphicFramePr/>
          <p:nvPr/>
        </p:nvGraphicFramePr>
        <p:xfrm>
          <a:off x="917640" y="1457280"/>
          <a:ext cx="6940440" cy="4942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7640" y="1457280"/>
                    <a:ext cx="6940440" cy="494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4" name=""/>
          <p:cNvSpPr/>
          <p:nvPr/>
        </p:nvSpPr>
        <p:spPr>
          <a:xfrm>
            <a:off x="6192720" y="1449360"/>
            <a:ext cx="0" cy="4635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058080" y="6219720"/>
            <a:ext cx="12952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Average overlap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002280" y="6039000"/>
            <a:ext cx="576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0,699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838920" y="6039000"/>
            <a:ext cx="576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0,839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701640" y="414360"/>
            <a:ext cx="7156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Arial"/>
              </a:rPr>
              <a:t>Average confidence interval (CI) overlap </a:t>
            </a:r>
            <a:br>
              <a:rPr sz="2400"/>
            </a:br>
            <a:r>
              <a:rPr b="1" lang="de-DE" sz="2400" spc="-1" strike="noStrike">
                <a:solidFill>
                  <a:srgbClr val="000066"/>
                </a:solidFill>
                <a:latin typeface="Arial"/>
              </a:rPr>
              <a:t>for the estimates from the second regr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flipH="1">
            <a:off x="7036920" y="1449360"/>
            <a:ext cx="9720" cy="4635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3"/>
          <a:srcRect l="50055" t="0" r="0" b="234"/>
          <a:stretch/>
        </p:blipFill>
        <p:spPr>
          <a:xfrm>
            <a:off x="7812000" y="422280"/>
            <a:ext cx="900360" cy="8445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C939A0-EBEE-4385-BB29-46C544E5F2F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701280" y="585360"/>
            <a:ext cx="733572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Disclosure risk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701280" y="1403280"/>
            <a:ext cx="7156440" cy="45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66760">
              <a:lnSpc>
                <a:spcPct val="90000"/>
              </a:lnSpc>
              <a:spcBef>
                <a:spcPts val="675"/>
              </a:spcBef>
              <a:spcAft>
                <a:spcPts val="451"/>
              </a:spcAft>
              <a:buClr>
                <a:srgbClr val="000066"/>
              </a:buClr>
              <a:buSzPct val="130000"/>
              <a:buFont typeface="Wingdings" charset="2"/>
              <a:buChar char=""/>
              <a:tabLst>
                <a:tab algn="l" pos="262080"/>
                <a:tab algn="l" pos="812880"/>
                <a:tab algn="l" pos="1973160"/>
                <a:tab algn="l" pos="3584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ifficult to compare between partially and fully synthetic data s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266760">
              <a:lnSpc>
                <a:spcPct val="90000"/>
              </a:lnSpc>
              <a:spcBef>
                <a:spcPts val="675"/>
              </a:spcBef>
              <a:spcAft>
                <a:spcPts val="451"/>
              </a:spcAft>
              <a:buClr>
                <a:srgbClr val="000066"/>
              </a:buClr>
              <a:buSzPct val="130000"/>
              <a:buFont typeface="Wingdings" charset="2"/>
              <a:buChar char=""/>
              <a:tabLst>
                <a:tab algn="l" pos="262080"/>
                <a:tab algn="l" pos="812880"/>
                <a:tab algn="l" pos="1973160"/>
                <a:tab algn="l" pos="3584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isclosure risk is low for fully synthetic data sets, although not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er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266760">
              <a:lnSpc>
                <a:spcPct val="90000"/>
              </a:lnSpc>
              <a:spcBef>
                <a:spcPts val="675"/>
              </a:spcBef>
              <a:spcAft>
                <a:spcPts val="451"/>
              </a:spcAft>
              <a:buClr>
                <a:srgbClr val="000066"/>
              </a:buClr>
              <a:buSzPct val="130000"/>
              <a:buFont typeface="Wingdings" charset="2"/>
              <a:buChar char=""/>
              <a:tabLst>
                <a:tab algn="l" pos="262080"/>
                <a:tab algn="l" pos="812880"/>
                <a:tab algn="l" pos="1973160"/>
                <a:tab algn="l" pos="3584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 is higher for partially synthetic data sets, becau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2516040">
              <a:lnSpc>
                <a:spcPct val="90000"/>
              </a:lnSpc>
              <a:spcBef>
                <a:spcPts val="675"/>
              </a:spcBef>
              <a:spcAft>
                <a:spcPts val="451"/>
              </a:spcAft>
              <a:buClr>
                <a:srgbClr val="031977"/>
              </a:buClr>
              <a:buFont typeface="Arial"/>
              <a:buChar char="•"/>
              <a:tabLst>
                <a:tab algn="l" pos="262080"/>
                <a:tab algn="l" pos="812880"/>
                <a:tab algn="l" pos="1973160"/>
                <a:tab algn="l" pos="3584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ue values remain in the data 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2516040">
              <a:lnSpc>
                <a:spcPct val="90000"/>
              </a:lnSpc>
              <a:spcBef>
                <a:spcPts val="675"/>
              </a:spcBef>
              <a:spcAft>
                <a:spcPts val="451"/>
              </a:spcAft>
              <a:buClr>
                <a:srgbClr val="031977"/>
              </a:buClr>
              <a:buFont typeface="Arial"/>
              <a:buChar char="•"/>
              <a:tabLst>
                <a:tab algn="l" pos="262080"/>
                <a:tab algn="l" pos="812880"/>
                <a:tab algn="l" pos="1973160"/>
                <a:tab algn="l" pos="3584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y survey respondents are inclu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spcAft>
                <a:spcPts val="451"/>
              </a:spcAft>
              <a:buNone/>
              <a:tabLst>
                <a:tab algn="l" pos="262080"/>
                <a:tab algn="l" pos="812880"/>
                <a:tab algn="l" pos="1973160"/>
                <a:tab algn="l" pos="3584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266760">
              <a:lnSpc>
                <a:spcPct val="90000"/>
              </a:lnSpc>
              <a:spcBef>
                <a:spcPts val="675"/>
              </a:spcBef>
              <a:spcAft>
                <a:spcPts val="451"/>
              </a:spcAft>
              <a:buClr>
                <a:srgbClr val="000066"/>
              </a:buClr>
              <a:buSzPct val="130000"/>
              <a:buFont typeface="Wingdings" charset="2"/>
              <a:buChar char=""/>
              <a:tabLst>
                <a:tab algn="l" pos="262080"/>
                <a:tab algn="l" pos="812880"/>
                <a:tab algn="l" pos="1973160"/>
                <a:tab algn="l" pos="3584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partially synthetic data sets a careful disclosure risk evaluatio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necess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1"/>
          <a:srcRect l="50055" t="0" r="0" b="234"/>
          <a:stretch/>
        </p:blipFill>
        <p:spPr>
          <a:xfrm>
            <a:off x="7812000" y="422280"/>
            <a:ext cx="900360" cy="844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655181-41B5-4F4F-8422-18F4573A129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01280" y="585360"/>
            <a:ext cx="733572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Overview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01280" y="1402920"/>
            <a:ext cx="715644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66760">
              <a:lnSpc>
                <a:spcPct val="100000"/>
              </a:lnSpc>
              <a:spcBef>
                <a:spcPts val="2500"/>
              </a:spcBef>
              <a:buClr>
                <a:srgbClr val="000066"/>
              </a:buClr>
              <a:buSzPct val="130000"/>
              <a:buFont typeface="Wingdings" charset="2"/>
              <a:buChar char=""/>
              <a:tabLst>
                <a:tab algn="l" pos="1973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ltiple Imputation for Statistical Disclosure Contr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266760">
              <a:lnSpc>
                <a:spcPct val="100000"/>
              </a:lnSpc>
              <a:spcBef>
                <a:spcPts val="2500"/>
              </a:spcBef>
              <a:buClr>
                <a:srgbClr val="000066"/>
              </a:buClr>
              <a:buSzPct val="130000"/>
              <a:buFont typeface="Wingdings" charset="2"/>
              <a:buChar char=""/>
              <a:tabLst>
                <a:tab algn="l" pos="1973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IAB Establishment Pan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266760">
              <a:lnSpc>
                <a:spcPct val="100000"/>
              </a:lnSpc>
              <a:spcBef>
                <a:spcPts val="2500"/>
              </a:spcBef>
              <a:buClr>
                <a:srgbClr val="000066"/>
              </a:buClr>
              <a:buSzPct val="130000"/>
              <a:buFont typeface="Wingdings" charset="2"/>
              <a:buChar char=""/>
              <a:tabLst>
                <a:tab algn="l" pos="1973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of The Two Approach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266760">
              <a:lnSpc>
                <a:spcPct val="100000"/>
              </a:lnSpc>
              <a:spcBef>
                <a:spcPts val="2500"/>
              </a:spcBef>
              <a:buClr>
                <a:srgbClr val="000066"/>
              </a:buClr>
              <a:buSzPct val="130000"/>
              <a:buFont typeface="Wingdings" charset="2"/>
              <a:buChar char=""/>
              <a:tabLst>
                <a:tab algn="l" pos="1973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arison of The Resul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266760">
              <a:lnSpc>
                <a:spcPct val="100000"/>
              </a:lnSpc>
              <a:spcBef>
                <a:spcPts val="2500"/>
              </a:spcBef>
              <a:buClr>
                <a:srgbClr val="000066"/>
              </a:buClr>
              <a:buSzPct val="130000"/>
              <a:buFont typeface="Wingdings" charset="2"/>
              <a:buChar char=""/>
              <a:tabLst>
                <a:tab algn="l" pos="1973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rcRect l="50055" t="0" r="0" b="234"/>
          <a:stretch/>
        </p:blipFill>
        <p:spPr>
          <a:xfrm>
            <a:off x="7812000" y="422280"/>
            <a:ext cx="900360" cy="844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40A476-C5DA-429C-8721-EB18CD8B482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701280" y="585360"/>
            <a:ext cx="733572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Overview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701280" y="1402920"/>
            <a:ext cx="715644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66760">
              <a:lnSpc>
                <a:spcPct val="100000"/>
              </a:lnSpc>
              <a:spcBef>
                <a:spcPts val="2500"/>
              </a:spcBef>
              <a:buClr>
                <a:srgbClr val="000066"/>
              </a:buClr>
              <a:buSzPct val="130000"/>
              <a:buFont typeface="Wingdings" charset="2"/>
              <a:buChar char=""/>
              <a:tabLst>
                <a:tab algn="l" pos="1973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ltiple Imputation for Statistical Disclosure Contr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266760">
              <a:lnSpc>
                <a:spcPct val="100000"/>
              </a:lnSpc>
              <a:spcBef>
                <a:spcPts val="2500"/>
              </a:spcBef>
              <a:buClr>
                <a:srgbClr val="000066"/>
              </a:buClr>
              <a:buSzPct val="130000"/>
              <a:buFont typeface="Wingdings" charset="2"/>
              <a:buChar char=""/>
              <a:tabLst>
                <a:tab algn="l" pos="1973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IAB Establishment Pan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266760">
              <a:lnSpc>
                <a:spcPct val="100000"/>
              </a:lnSpc>
              <a:spcBef>
                <a:spcPts val="2500"/>
              </a:spcBef>
              <a:buClr>
                <a:srgbClr val="000066"/>
              </a:buClr>
              <a:buSzPct val="130000"/>
              <a:buFont typeface="Wingdings" charset="2"/>
              <a:buChar char=""/>
              <a:tabLst>
                <a:tab algn="l" pos="1973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of The Two Approach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266760">
              <a:lnSpc>
                <a:spcPct val="100000"/>
              </a:lnSpc>
              <a:spcBef>
                <a:spcPts val="2500"/>
              </a:spcBef>
              <a:buClr>
                <a:srgbClr val="000066"/>
              </a:buClr>
              <a:buSzPct val="130000"/>
              <a:buFont typeface="Wingdings" charset="2"/>
              <a:buChar char=""/>
              <a:tabLst>
                <a:tab algn="l" pos="1973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arison of the Resul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266760">
              <a:lnSpc>
                <a:spcPct val="100000"/>
              </a:lnSpc>
              <a:spcBef>
                <a:spcPts val="2500"/>
              </a:spcBef>
              <a:buClr>
                <a:srgbClr val="000066"/>
              </a:buClr>
              <a:buSzPct val="130000"/>
              <a:buFont typeface="Wingdings" charset="2"/>
              <a:buChar char=""/>
              <a:tabLst>
                <a:tab algn="l" pos="1973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Conclu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1"/>
          <a:srcRect l="50055" t="0" r="0" b="234"/>
          <a:stretch/>
        </p:blipFill>
        <p:spPr>
          <a:xfrm>
            <a:off x="7812000" y="422280"/>
            <a:ext cx="900360" cy="844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7F1F50-3266-4055-9095-DAECE3833CF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701280" y="585360"/>
            <a:ext cx="733572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onclusion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701280" y="1403280"/>
            <a:ext cx="7156440" cy="45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66760">
              <a:lnSpc>
                <a:spcPct val="100000"/>
              </a:lnSpc>
              <a:spcBef>
                <a:spcPts val="675"/>
              </a:spcBef>
              <a:spcAft>
                <a:spcPts val="451"/>
              </a:spcAft>
              <a:buClr>
                <a:srgbClr val="000066"/>
              </a:buClr>
              <a:buSzPct val="130000"/>
              <a:buFont typeface="Wingdings" charset="2"/>
              <a:buChar char=""/>
              <a:tabLst>
                <a:tab algn="l" pos="262080"/>
                <a:tab algn="l" pos="812880"/>
                <a:tab algn="l" pos="1973160"/>
                <a:tab algn="l" pos="2684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enerating synthetic data sets can be a useful method for SD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spcAft>
                <a:spcPts val="451"/>
              </a:spcAft>
              <a:buNone/>
              <a:tabLst>
                <a:tab algn="l" pos="262080"/>
                <a:tab algn="l" pos="812880"/>
                <a:tab algn="l" pos="1973160"/>
                <a:tab algn="l" pos="2684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266760">
              <a:lnSpc>
                <a:spcPct val="100000"/>
              </a:lnSpc>
              <a:spcBef>
                <a:spcPts val="675"/>
              </a:spcBef>
              <a:spcAft>
                <a:spcPts val="451"/>
              </a:spcAft>
              <a:buClr>
                <a:srgbClr val="000066"/>
              </a:buClr>
              <a:buSzPct val="130000"/>
              <a:buFont typeface="Wingdings" charset="2"/>
              <a:buChar char=""/>
              <a:tabLst>
                <a:tab algn="l" pos="262080"/>
                <a:tab algn="l" pos="812880"/>
                <a:tab algn="l" pos="1973160"/>
                <a:tab algn="l" pos="2684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dvantages for partially synthetic data se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251604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262080"/>
                <a:tab algn="l" pos="812880"/>
                <a:tab algn="l" pos="1973160"/>
                <a:tab algn="l" pos="2684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igher data valid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251604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262080"/>
                <a:tab algn="l" pos="812880"/>
                <a:tab algn="l" pos="1973160"/>
                <a:tab algn="l" pos="2684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mputation models easier to set 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251604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262080"/>
                <a:tab algn="l" pos="812880"/>
                <a:tab algn="l" pos="1973160"/>
                <a:tab algn="l" pos="2684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wer risk of biased imput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266760">
              <a:lnSpc>
                <a:spcPct val="100000"/>
              </a:lnSpc>
              <a:spcBef>
                <a:spcPts val="675"/>
              </a:spcBef>
              <a:spcAft>
                <a:spcPts val="451"/>
              </a:spcAft>
              <a:buClr>
                <a:srgbClr val="000066"/>
              </a:buClr>
              <a:buSzPct val="130000"/>
              <a:buFont typeface="Wingdings" charset="2"/>
              <a:buChar char=""/>
              <a:tabLst>
                <a:tab algn="l" pos="262080"/>
                <a:tab algn="l" pos="812880"/>
                <a:tab algn="l" pos="1973160"/>
                <a:tab algn="l" pos="2684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advantages for partially synthetic data se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2516040">
              <a:spcBef>
                <a:spcPts val="224"/>
              </a:spcBef>
              <a:buClr>
                <a:srgbClr val="031977"/>
              </a:buClr>
              <a:buFont typeface="Arial"/>
              <a:buChar char="•"/>
              <a:tabLst>
                <a:tab algn="l" pos="262080"/>
                <a:tab algn="l" pos="812880"/>
                <a:tab algn="l" pos="1973160"/>
                <a:tab algn="l" pos="2684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er risk of disclos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2516040">
              <a:spcBef>
                <a:spcPts val="224"/>
              </a:spcBef>
              <a:buClr>
                <a:srgbClr val="031977"/>
              </a:buClr>
              <a:buFont typeface="Arial"/>
              <a:buChar char="•"/>
              <a:tabLst>
                <a:tab algn="l" pos="262080"/>
                <a:tab algn="l" pos="812880"/>
                <a:tab algn="l" pos="1973160"/>
                <a:tab algn="l" pos="2684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reful disclosure risk evaluatio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cess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262080"/>
                <a:tab algn="l" pos="812880"/>
                <a:tab algn="l" pos="1973160"/>
                <a:tab algn="l" pos="2684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266760">
              <a:lnSpc>
                <a:spcPct val="100000"/>
              </a:lnSpc>
              <a:buClr>
                <a:srgbClr val="000066"/>
              </a:buClr>
              <a:buSzPct val="130000"/>
              <a:buFont typeface="Wingdings" charset="2"/>
              <a:buChar char=""/>
              <a:tabLst>
                <a:tab algn="l" pos="262080"/>
                <a:tab algn="l" pos="812880"/>
                <a:tab algn="l" pos="1973160"/>
                <a:tab algn="l" pos="2684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gencies will have to decide depending on the complexity of th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rvey and the expected risk of disclos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1"/>
          <a:srcRect l="50055" t="0" r="0" b="234"/>
          <a:stretch/>
        </p:blipFill>
        <p:spPr>
          <a:xfrm>
            <a:off x="7812000" y="422280"/>
            <a:ext cx="900360" cy="844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F55497-93BA-4AD6-902D-8C4F8EE0368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89640" cy="6858000"/>
          </a:xfrm>
          <a:prstGeom prst="rect">
            <a:avLst/>
          </a:prstGeom>
          <a:ln w="0">
            <a:noFill/>
          </a:ln>
        </p:spPr>
      </p:pic>
      <p:sp>
        <p:nvSpPr>
          <p:cNvPr id="261" name=""/>
          <p:cNvSpPr/>
          <p:nvPr/>
        </p:nvSpPr>
        <p:spPr>
          <a:xfrm>
            <a:off x="1654200" y="1763640"/>
            <a:ext cx="62485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ank you for your att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2"/>
          <a:srcRect l="50055" t="0" r="0" b="234"/>
          <a:stretch/>
        </p:blipFill>
        <p:spPr>
          <a:xfrm>
            <a:off x="7812000" y="422280"/>
            <a:ext cx="900360" cy="8445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13F5E3-08C9-4B38-957B-2E8B73C7C27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"/>
          <p:cNvGrpSpPr/>
          <p:nvPr/>
        </p:nvGrpSpPr>
        <p:grpSpPr>
          <a:xfrm>
            <a:off x="2854080" y="1268280"/>
            <a:ext cx="2458800" cy="2592360"/>
            <a:chOff x="2854080" y="1268280"/>
            <a:chExt cx="2458800" cy="2592360"/>
          </a:xfrm>
        </p:grpSpPr>
        <p:sp>
          <p:nvSpPr>
            <p:cNvPr id="96" name=""/>
            <p:cNvSpPr/>
            <p:nvPr/>
          </p:nvSpPr>
          <p:spPr>
            <a:xfrm>
              <a:off x="3379680" y="3500280"/>
              <a:ext cx="1933200" cy="360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876400" y="1268280"/>
              <a:ext cx="526680" cy="2592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04880" y="1268280"/>
              <a:ext cx="1900080" cy="22320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 rot="5400000">
              <a:off x="1820880" y="2302560"/>
              <a:ext cx="2590920" cy="52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 rot="10800000">
              <a:no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3403440" y="2668680"/>
            <a:ext cx="1900440" cy="360360"/>
          </a:xfrm>
          <a:prstGeom prst="rect">
            <a:avLst/>
          </a:prstGeom>
          <a:solidFill>
            <a:srgbClr val="dfdf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6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i="1" lang="de-DE" sz="1600" spc="-1" strike="noStrike" baseline="-25000">
                <a:solidFill>
                  <a:srgbClr val="000000"/>
                </a:solidFill>
                <a:latin typeface="Tahoma"/>
              </a:rPr>
              <a:t>synthetis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2787480" y="1312920"/>
            <a:ext cx="2459160" cy="2592360"/>
            <a:chOff x="2787480" y="1312920"/>
            <a:chExt cx="2459160" cy="2592360"/>
          </a:xfrm>
        </p:grpSpPr>
        <p:sp>
          <p:nvSpPr>
            <p:cNvPr id="102" name=""/>
            <p:cNvSpPr/>
            <p:nvPr/>
          </p:nvSpPr>
          <p:spPr>
            <a:xfrm>
              <a:off x="3313080" y="3544920"/>
              <a:ext cx="1933560" cy="360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809800" y="1312920"/>
              <a:ext cx="527040" cy="2592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338640" y="1312920"/>
              <a:ext cx="1900080" cy="22320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5400000">
              <a:off x="1754640" y="2346840"/>
              <a:ext cx="2590560" cy="52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 rot="10800000">
              <a:no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" name=""/>
          <p:cNvSpPr/>
          <p:nvPr/>
        </p:nvSpPr>
        <p:spPr>
          <a:xfrm>
            <a:off x="3336840" y="2712960"/>
            <a:ext cx="1900440" cy="360360"/>
          </a:xfrm>
          <a:prstGeom prst="rect">
            <a:avLst/>
          </a:prstGeom>
          <a:solidFill>
            <a:srgbClr val="dfdf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6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i="1" lang="de-DE" sz="1600" spc="-1" strike="noStrike" baseline="-25000">
                <a:solidFill>
                  <a:srgbClr val="000000"/>
                </a:solidFill>
                <a:latin typeface="Tahoma"/>
              </a:rPr>
              <a:t>synthetis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2727360" y="1376280"/>
            <a:ext cx="2459160" cy="2592360"/>
            <a:chOff x="2727360" y="1376280"/>
            <a:chExt cx="2459160" cy="2592360"/>
          </a:xfrm>
        </p:grpSpPr>
        <p:sp>
          <p:nvSpPr>
            <p:cNvPr id="108" name=""/>
            <p:cNvSpPr/>
            <p:nvPr/>
          </p:nvSpPr>
          <p:spPr>
            <a:xfrm>
              <a:off x="3252960" y="3608280"/>
              <a:ext cx="1933560" cy="360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749680" y="1376280"/>
              <a:ext cx="527040" cy="2592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78160" y="1376280"/>
              <a:ext cx="1900440" cy="22320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 rot="5400000">
              <a:off x="1694520" y="2410200"/>
              <a:ext cx="2590920" cy="52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 rot="10800000">
              <a:no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3276720" y="2776680"/>
            <a:ext cx="1900080" cy="360360"/>
          </a:xfrm>
          <a:prstGeom prst="rect">
            <a:avLst/>
          </a:prstGeom>
          <a:solidFill>
            <a:srgbClr val="dfdf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6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i="1" lang="de-DE" sz="1600" spc="-1" strike="noStrike" baseline="-25000">
                <a:solidFill>
                  <a:srgbClr val="000000"/>
                </a:solidFill>
                <a:latin typeface="Tahoma"/>
              </a:rPr>
              <a:t>synthetis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2652480" y="1447920"/>
            <a:ext cx="2458800" cy="2592360"/>
            <a:chOff x="2652480" y="1447920"/>
            <a:chExt cx="2458800" cy="2592360"/>
          </a:xfrm>
        </p:grpSpPr>
        <p:sp>
          <p:nvSpPr>
            <p:cNvPr id="114" name=""/>
            <p:cNvSpPr/>
            <p:nvPr/>
          </p:nvSpPr>
          <p:spPr>
            <a:xfrm>
              <a:off x="3178080" y="3679920"/>
              <a:ext cx="1933200" cy="360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674800" y="1447920"/>
              <a:ext cx="526680" cy="2592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203640" y="1447920"/>
              <a:ext cx="1899720" cy="22320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5400000">
              <a:off x="1619280" y="2482200"/>
              <a:ext cx="2590920" cy="52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 rot="10800000">
              <a:no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"/>
          <p:cNvSpPr/>
          <p:nvPr/>
        </p:nvSpPr>
        <p:spPr>
          <a:xfrm>
            <a:off x="3201840" y="2847960"/>
            <a:ext cx="1900440" cy="360360"/>
          </a:xfrm>
          <a:prstGeom prst="rect">
            <a:avLst/>
          </a:prstGeom>
          <a:solidFill>
            <a:srgbClr val="dfdf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6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i="1" lang="de-DE" sz="1600" spc="-1" strike="noStrike" baseline="-25000">
                <a:solidFill>
                  <a:srgbClr val="000000"/>
                </a:solidFill>
                <a:latin typeface="Tahoma"/>
              </a:rPr>
              <a:t>synthetis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01280" y="585360"/>
            <a:ext cx="733572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Fully synthetic data sets (Rubin 1993)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701280" y="4149360"/>
            <a:ext cx="7156440" cy="17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259200">
              <a:lnSpc>
                <a:spcPct val="100000"/>
              </a:lnSpc>
              <a:spcBef>
                <a:spcPts val="400"/>
              </a:spcBef>
              <a:buClr>
                <a:srgbClr val="000066"/>
              </a:buClr>
              <a:buSzPct val="130000"/>
              <a:buFont typeface="Wingdings" charset="2"/>
              <a:buChar char=""/>
              <a:tabLst>
                <a:tab algn="l" pos="1887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vantages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data are fully synthet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87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re-identification of single units almost impos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87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all variables are still fully avail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259200">
              <a:lnSpc>
                <a:spcPct val="130000"/>
              </a:lnSpc>
              <a:spcBef>
                <a:spcPts val="1400"/>
              </a:spcBef>
              <a:buClr>
                <a:srgbClr val="000066"/>
              </a:buClr>
              <a:buSzPct val="130000"/>
              <a:buFont typeface="Wingdings" charset="2"/>
              <a:buChar char=""/>
              <a:tabLst>
                <a:tab algn="l" pos="1887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advantages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strong dependence on the imputation mod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87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setting up a model might be difficult/impos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081240" y="3770280"/>
            <a:ext cx="19335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6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i="1" lang="de-DE" sz="1600" spc="-1" strike="noStrike" baseline="-25000">
                <a:solidFill>
                  <a:srgbClr val="000000"/>
                </a:solidFill>
                <a:latin typeface="Tahoma"/>
              </a:rPr>
              <a:t>obser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577960" y="1538280"/>
            <a:ext cx="527040" cy="259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089160" y="1538280"/>
            <a:ext cx="1932120" cy="2232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441600" y="2570040"/>
            <a:ext cx="12225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Arial"/>
              </a:rPr>
              <a:t>not obser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090960" y="2938320"/>
            <a:ext cx="1914480" cy="360360"/>
          </a:xfrm>
          <a:prstGeom prst="rect">
            <a:avLst/>
          </a:prstGeom>
          <a:solidFill>
            <a:srgbClr val="dfdf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6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i="1" lang="de-DE" sz="1600" spc="-1" strike="noStrike" baseline="-25000">
                <a:solidFill>
                  <a:srgbClr val="000000"/>
                </a:solidFill>
                <a:latin typeface="Tahoma"/>
              </a:rPr>
              <a:t>synthet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rcRect l="50055" t="0" r="0" b="234"/>
          <a:stretch/>
        </p:blipFill>
        <p:spPr>
          <a:xfrm>
            <a:off x="7812000" y="422280"/>
            <a:ext cx="900360" cy="844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D4185A-5CCC-42B4-8F67-0B4720C3951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500"/>
                            </p:stCondLst>
                            <p:childTnLst>
                              <p:par>
                                <p:cTn id="3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000"/>
                            </p:stCondLst>
                            <p:childTnLst>
                              <p:par>
                                <p:cTn id="3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500"/>
                            </p:stCondLst>
                            <p:childTnLst>
                              <p:par>
                                <p:cTn id="4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01280" y="585360"/>
            <a:ext cx="733572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Partially synthetic data sets (Little 1993)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rcRect l="50055" t="0" r="0" b="234"/>
          <a:stretch/>
        </p:blipFill>
        <p:spPr>
          <a:xfrm>
            <a:off x="7812000" y="422280"/>
            <a:ext cx="900360" cy="84456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701280" y="1221840"/>
            <a:ext cx="715644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40000"/>
              </a:lnSpc>
              <a:spcBef>
                <a:spcPts val="901"/>
              </a:spcBef>
              <a:buClr>
                <a:srgbClr val="000066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y potentially identifying or sensitive variables are replac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537240" y="3502080"/>
            <a:ext cx="136440" cy="80964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957480" y="3502080"/>
            <a:ext cx="136800" cy="809640"/>
          </a:xfrm>
          <a:prstGeom prst="rect">
            <a:avLst/>
          </a:prstGeom>
          <a:solidFill>
            <a:srgbClr val="1c74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187280" y="3505320"/>
            <a:ext cx="136800" cy="809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971880" y="2367000"/>
            <a:ext cx="900000" cy="809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181160" y="3498840"/>
            <a:ext cx="900000" cy="809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48120" y="3498840"/>
            <a:ext cx="900000" cy="809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537240" y="3498840"/>
            <a:ext cx="900360" cy="809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H="1">
            <a:off x="1811160" y="3127320"/>
            <a:ext cx="1936800" cy="316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467240" y="3218040"/>
            <a:ext cx="0" cy="269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916520" y="3127320"/>
            <a:ext cx="2070000" cy="316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E25C93-F955-426F-9A49-32F08FA7139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01280" y="585360"/>
            <a:ext cx="733572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Partially synthetic data sets (Little 1993)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50055" t="0" r="0" b="234"/>
          <a:stretch/>
        </p:blipFill>
        <p:spPr>
          <a:xfrm>
            <a:off x="7812000" y="422280"/>
            <a:ext cx="900360" cy="84456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701280" y="1223640"/>
            <a:ext cx="715644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40000"/>
              </a:lnSpc>
              <a:spcBef>
                <a:spcPts val="901"/>
              </a:spcBef>
              <a:buClr>
                <a:srgbClr val="000066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y potentially identifying or sensitive variables are replac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537240" y="3503520"/>
            <a:ext cx="449280" cy="80964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957480" y="3503520"/>
            <a:ext cx="449280" cy="809640"/>
          </a:xfrm>
          <a:prstGeom prst="rect">
            <a:avLst/>
          </a:prstGeom>
          <a:solidFill>
            <a:srgbClr val="1c74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187280" y="3506760"/>
            <a:ext cx="449280" cy="809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971880" y="2367000"/>
            <a:ext cx="900000" cy="809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181160" y="3500280"/>
            <a:ext cx="900000" cy="809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948120" y="3500280"/>
            <a:ext cx="900000" cy="809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537240" y="3500280"/>
            <a:ext cx="900360" cy="809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1811160" y="3129120"/>
            <a:ext cx="1936800" cy="315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467240" y="3219480"/>
            <a:ext cx="0" cy="270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916520" y="3129120"/>
            <a:ext cx="2070000" cy="315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6160AB-359A-4F76-936E-1AA0870CC15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701280" y="585360"/>
            <a:ext cx="733572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Partially synthetic data sets (Little 1993)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rcRect l="50055" t="0" r="0" b="234"/>
          <a:stretch/>
        </p:blipFill>
        <p:spPr>
          <a:xfrm>
            <a:off x="7812000" y="422280"/>
            <a:ext cx="900360" cy="84456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701280" y="1223640"/>
            <a:ext cx="715644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40000"/>
              </a:lnSpc>
              <a:spcBef>
                <a:spcPts val="901"/>
              </a:spcBef>
              <a:buClr>
                <a:srgbClr val="000066"/>
              </a:buClr>
              <a:buSzPct val="130000"/>
              <a:buFont typeface="Wingdings" charset="2"/>
              <a:buChar char="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y potentially identifying or sensitive variables are replac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537240" y="3508200"/>
            <a:ext cx="136440" cy="2700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957480" y="3508200"/>
            <a:ext cx="136800" cy="270000"/>
          </a:xfrm>
          <a:prstGeom prst="rect">
            <a:avLst/>
          </a:prstGeom>
          <a:solidFill>
            <a:srgbClr val="1c74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87280" y="3511440"/>
            <a:ext cx="136800" cy="270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971880" y="2368440"/>
            <a:ext cx="900000" cy="809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81160" y="3505320"/>
            <a:ext cx="900000" cy="809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948120" y="3505320"/>
            <a:ext cx="900000" cy="809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537240" y="3505320"/>
            <a:ext cx="900360" cy="809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811160" y="3133800"/>
            <a:ext cx="1936800" cy="315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467240" y="3224160"/>
            <a:ext cx="0" cy="270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916520" y="3133800"/>
            <a:ext cx="2070000" cy="315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792000" y="4643280"/>
            <a:ext cx="684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01640" y="4464000"/>
            <a:ext cx="7156440" cy="17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indent="262080">
              <a:lnSpc>
                <a:spcPct val="100000"/>
              </a:lnSpc>
              <a:spcBef>
                <a:spcPts val="400"/>
              </a:spcBef>
              <a:buClr>
                <a:srgbClr val="000066"/>
              </a:buClr>
              <a:buSzPct val="130000"/>
              <a:buFont typeface="Wingdings" charset="2"/>
              <a:buChar char=""/>
              <a:tabLst>
                <a:tab algn="l" pos="1887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vantages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model dependence decrea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887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models are easier to set u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262080">
              <a:lnSpc>
                <a:spcPct val="130000"/>
              </a:lnSpc>
              <a:spcBef>
                <a:spcPts val="1400"/>
              </a:spcBef>
              <a:buClr>
                <a:srgbClr val="000066"/>
              </a:buClr>
              <a:buSzPct val="130000"/>
              <a:buFont typeface="Wingdings" charset="2"/>
              <a:buChar char=""/>
              <a:tabLst>
                <a:tab algn="l" pos="1887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advantages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true values remain in the data s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887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disclosure might still be pos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F02731-61CD-41B0-B3ED-220D5F68015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01280" y="585360"/>
            <a:ext cx="733572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Overview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701280" y="1402920"/>
            <a:ext cx="715644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66760">
              <a:lnSpc>
                <a:spcPct val="100000"/>
              </a:lnSpc>
              <a:spcBef>
                <a:spcPts val="2500"/>
              </a:spcBef>
              <a:buClr>
                <a:srgbClr val="000066"/>
              </a:buClr>
              <a:buSzPct val="130000"/>
              <a:buFont typeface="Wingdings" charset="2"/>
              <a:buChar char=""/>
              <a:tabLst>
                <a:tab algn="l" pos="1973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ltiple Imputation for Statistical Disclosure Contr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266760">
              <a:lnSpc>
                <a:spcPct val="100000"/>
              </a:lnSpc>
              <a:spcBef>
                <a:spcPts val="2500"/>
              </a:spcBef>
              <a:buClr>
                <a:srgbClr val="000066"/>
              </a:buClr>
              <a:buSzPct val="130000"/>
              <a:buFont typeface="Wingdings" charset="2"/>
              <a:buChar char=""/>
              <a:tabLst>
                <a:tab algn="l" pos="1973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The IAB Establishment Pan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266760">
              <a:lnSpc>
                <a:spcPct val="100000"/>
              </a:lnSpc>
              <a:spcBef>
                <a:spcPts val="2500"/>
              </a:spcBef>
              <a:buClr>
                <a:srgbClr val="000066"/>
              </a:buClr>
              <a:buSzPct val="130000"/>
              <a:buFont typeface="Wingdings" charset="2"/>
              <a:buChar char=""/>
              <a:tabLst>
                <a:tab algn="l" pos="1973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of The Two Approach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266760">
              <a:lnSpc>
                <a:spcPct val="100000"/>
              </a:lnSpc>
              <a:spcBef>
                <a:spcPts val="2500"/>
              </a:spcBef>
              <a:buClr>
                <a:srgbClr val="000066"/>
              </a:buClr>
              <a:buSzPct val="130000"/>
              <a:buFont typeface="Wingdings" charset="2"/>
              <a:buChar char=""/>
              <a:tabLst>
                <a:tab algn="l" pos="1973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arison of the Resul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266760">
              <a:lnSpc>
                <a:spcPct val="100000"/>
              </a:lnSpc>
              <a:spcBef>
                <a:spcPts val="2500"/>
              </a:spcBef>
              <a:buClr>
                <a:srgbClr val="000066"/>
              </a:buClr>
              <a:buSzPct val="130000"/>
              <a:buFont typeface="Wingdings" charset="2"/>
              <a:buChar char=""/>
              <a:tabLst>
                <a:tab algn="l" pos="1973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rcRect l="50055" t="0" r="0" b="234"/>
          <a:stretch/>
        </p:blipFill>
        <p:spPr>
          <a:xfrm>
            <a:off x="7812000" y="422280"/>
            <a:ext cx="900360" cy="844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5E7D03-8767-472B-9FAF-7E897702B0F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701280" y="585360"/>
            <a:ext cx="733572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e IAB Establishment Panel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701280" y="1403280"/>
            <a:ext cx="7156440" cy="454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indent="261360">
              <a:lnSpc>
                <a:spcPct val="100000"/>
              </a:lnSpc>
              <a:spcBef>
                <a:spcPts val="1125"/>
              </a:spcBef>
              <a:spcAft>
                <a:spcPts val="451"/>
              </a:spcAft>
              <a:buClr>
                <a:srgbClr val="000066"/>
              </a:buClr>
              <a:buSzPct val="130000"/>
              <a:buFont typeface="Wingdings" charset="2"/>
              <a:buChar char=""/>
              <a:tabLst>
                <a:tab algn="l" pos="262080"/>
                <a:tab algn="l" pos="1436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nnually conducted Establishment Surv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261360">
              <a:lnSpc>
                <a:spcPct val="100000"/>
              </a:lnSpc>
              <a:spcBef>
                <a:spcPts val="1125"/>
              </a:spcBef>
              <a:spcAft>
                <a:spcPts val="451"/>
              </a:spcAft>
              <a:buClr>
                <a:srgbClr val="000066"/>
              </a:buClr>
              <a:buSzPct val="130000"/>
              <a:buFont typeface="Wingdings" charset="2"/>
              <a:buChar char=""/>
              <a:tabLst>
                <a:tab algn="l" pos="262080"/>
                <a:tab algn="l" pos="1436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ce 1993 in Western Germany, since 1996 in Eastern Germ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261360">
              <a:lnSpc>
                <a:spcPct val="90000"/>
              </a:lnSpc>
              <a:spcBef>
                <a:spcPts val="1125"/>
              </a:spcBef>
              <a:spcAft>
                <a:spcPts val="451"/>
              </a:spcAft>
              <a:buClr>
                <a:srgbClr val="000066"/>
              </a:buClr>
              <a:buSzPct val="130000"/>
              <a:buFont typeface="Wingdings" charset="2"/>
              <a:buChar char=""/>
              <a:tabLst>
                <a:tab algn="l" pos="262080"/>
                <a:tab algn="l" pos="1436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Population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: All establishments with at least one employee covered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y social securi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261360">
              <a:lnSpc>
                <a:spcPct val="100000"/>
              </a:lnSpc>
              <a:spcBef>
                <a:spcPts val="1125"/>
              </a:spcBef>
              <a:spcAft>
                <a:spcPts val="451"/>
              </a:spcAft>
              <a:buClr>
                <a:srgbClr val="000066"/>
              </a:buClr>
              <a:buSzPct val="130000"/>
              <a:buFont typeface="Wingdings" charset="2"/>
              <a:buChar char=""/>
              <a:tabLst>
                <a:tab algn="l" pos="262080"/>
                <a:tab algn="l" pos="1436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Sourc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fficial Employment Statis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261360">
              <a:lnSpc>
                <a:spcPct val="100000"/>
              </a:lnSpc>
              <a:spcBef>
                <a:spcPts val="1125"/>
              </a:spcBef>
              <a:spcAft>
                <a:spcPts val="451"/>
              </a:spcAft>
              <a:buClr>
                <a:srgbClr val="000066"/>
              </a:buClr>
              <a:buSzPct val="130000"/>
              <a:buFont typeface="Wingdings" charset="2"/>
              <a:buChar char=""/>
              <a:tabLst>
                <a:tab algn="l" pos="262080"/>
                <a:tab algn="l" pos="1436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sponse rate of repeatedly interviewed establishments more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an 8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261360">
              <a:lnSpc>
                <a:spcPct val="100000"/>
              </a:lnSpc>
              <a:spcBef>
                <a:spcPts val="1125"/>
              </a:spcBef>
              <a:spcAft>
                <a:spcPts val="451"/>
              </a:spcAft>
              <a:buClr>
                <a:srgbClr val="000066"/>
              </a:buClr>
              <a:buSzPct val="130000"/>
              <a:buFont typeface="Wingdings" charset="2"/>
              <a:buChar char=""/>
              <a:tabLst>
                <a:tab algn="l" pos="262080"/>
                <a:tab algn="l" pos="1436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ample of more than 16.000 establishments in the last wav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261360">
              <a:lnSpc>
                <a:spcPct val="90000"/>
              </a:lnSpc>
              <a:spcBef>
                <a:spcPts val="1125"/>
              </a:spcBef>
              <a:spcAft>
                <a:spcPts val="451"/>
              </a:spcAft>
              <a:buClr>
                <a:srgbClr val="000066"/>
              </a:buClr>
              <a:buSzPct val="130000"/>
              <a:buFont typeface="Wingdings" charset="2"/>
              <a:buChar char=""/>
              <a:tabLst>
                <a:tab algn="l" pos="262080"/>
                <a:tab algn="l" pos="1436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Content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mployment structure, changes in employment,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usiness policies, investment, training, remuneration,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orking hours, collective wage agreements, works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unci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spcAft>
                <a:spcPts val="451"/>
              </a:spcAft>
              <a:buNone/>
              <a:tabLst>
                <a:tab algn="l" pos="262080"/>
                <a:tab algn="l" pos="1436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50055" t="0" r="0" b="234"/>
          <a:stretch/>
        </p:blipFill>
        <p:spPr>
          <a:xfrm>
            <a:off x="7812000" y="422280"/>
            <a:ext cx="900360" cy="844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7A6CAC-FEB2-47E8-A9D6-9CE45A5ADFB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01280" y="585360"/>
            <a:ext cx="733572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Overview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701280" y="1402920"/>
            <a:ext cx="715644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66760">
              <a:lnSpc>
                <a:spcPct val="100000"/>
              </a:lnSpc>
              <a:spcBef>
                <a:spcPts val="2500"/>
              </a:spcBef>
              <a:buClr>
                <a:srgbClr val="000066"/>
              </a:buClr>
              <a:buSzPct val="130000"/>
              <a:buFont typeface="Wingdings" charset="2"/>
              <a:buChar char=""/>
              <a:tabLst>
                <a:tab algn="l" pos="1973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ltiple Imputation for Statistical Disclosure Contr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266760">
              <a:lnSpc>
                <a:spcPct val="100000"/>
              </a:lnSpc>
              <a:spcBef>
                <a:spcPts val="2500"/>
              </a:spcBef>
              <a:buClr>
                <a:srgbClr val="000066"/>
              </a:buClr>
              <a:buSzPct val="130000"/>
              <a:buFont typeface="Wingdings" charset="2"/>
              <a:buChar char=""/>
              <a:tabLst>
                <a:tab algn="l" pos="1973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IAB Establishment Pan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266760">
              <a:lnSpc>
                <a:spcPct val="100000"/>
              </a:lnSpc>
              <a:spcBef>
                <a:spcPts val="2500"/>
              </a:spcBef>
              <a:buClr>
                <a:srgbClr val="000066"/>
              </a:buClr>
              <a:buSzPct val="130000"/>
              <a:buFont typeface="Wingdings" charset="2"/>
              <a:buChar char=""/>
              <a:tabLst>
                <a:tab algn="l" pos="1973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Application of the Two Approach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266760">
              <a:lnSpc>
                <a:spcPct val="100000"/>
              </a:lnSpc>
              <a:spcBef>
                <a:spcPts val="2500"/>
              </a:spcBef>
              <a:buClr>
                <a:srgbClr val="000066"/>
              </a:buClr>
              <a:buSzPct val="130000"/>
              <a:buFont typeface="Wingdings" charset="2"/>
              <a:buChar char=""/>
              <a:tabLst>
                <a:tab algn="l" pos="1973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arison of the Resul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266760">
              <a:lnSpc>
                <a:spcPct val="100000"/>
              </a:lnSpc>
              <a:spcBef>
                <a:spcPts val="2500"/>
              </a:spcBef>
              <a:buClr>
                <a:srgbClr val="000066"/>
              </a:buClr>
              <a:buSzPct val="130000"/>
              <a:buFont typeface="Wingdings" charset="2"/>
              <a:buChar char=""/>
              <a:tabLst>
                <a:tab algn="l" pos="1973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rcRect l="50055" t="0" r="0" b="234"/>
          <a:stretch/>
        </p:blipFill>
        <p:spPr>
          <a:xfrm>
            <a:off x="7812000" y="422280"/>
            <a:ext cx="900360" cy="844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BF7EAD-0E6E-4469-855E-6BB9D8E5775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2T09:11:09Z</dcterms:created>
  <dc:creator>WaglerPetra</dc:creator>
  <dc:description/>
  <dc:language>en-US</dc:language>
  <cp:lastModifiedBy>Drechsler Jörg</cp:lastModifiedBy>
  <dcterms:modified xsi:type="dcterms:W3CDTF">2007-12-07T09:47:27Z</dcterms:modified>
  <cp:revision>156</cp:revision>
  <dc:subject/>
  <dc:title>Foli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286716292</vt:r8>
  </property>
  <property fmtid="{D5CDD505-2E9C-101B-9397-08002B2CF9AE}" pid="3" name="_AuthorEmail">
    <vt:lpwstr>Joerg.Drechsler@iab.de</vt:lpwstr>
  </property>
  <property fmtid="{D5CDD505-2E9C-101B-9397-08002B2CF9AE}" pid="4" name="_AuthorEmailDisplayName">
    <vt:lpwstr>Drechsler Jörg</vt:lpwstr>
  </property>
  <property fmtid="{D5CDD505-2E9C-101B-9397-08002B2CF9AE}" pid="5" name="_EmailSubject">
    <vt:lpwstr>My slides for the workshop in Manchester</vt:lpwstr>
  </property>
</Properties>
</file>