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3725-DBB3-4C89-8BF0-CBE23030371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undsätzlich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 die Farbe für das Logo immer abwechsel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 eine Folie mit dem zweiten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BC5E-232C-4F03-8483-8CA672027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7335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1280" y="3927240"/>
            <a:ext cx="7335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C812-98B8-416D-B6EA-210B2E5A0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0128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6004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513D-841E-43EC-9A0E-212F7A5E7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1680" y="171900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080" y="171900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01280" y="392724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1680" y="392724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62080" y="392724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3497-31CF-4EC1-AC9B-5D922FD64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C7E0-AEAC-44E9-BE61-8F294E501D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01280" y="1719000"/>
            <a:ext cx="733572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F40A-58EE-46F7-ACCF-E948DC7A68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7335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19C5-7B31-4CBE-B769-7E24F23500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8288D-9167-4AFB-ACC9-48A048690A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E134-3AD6-48F6-8E40-FD8FD61213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01280" y="998280"/>
            <a:ext cx="73357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D88B-FE2F-4A60-8B00-4B0EF1879E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0128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8880-01E0-4D9F-B5C2-345A6B898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01280" y="1719000"/>
            <a:ext cx="733572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4B01-88A5-4905-84F4-8F9F2E708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6004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6B715-3168-4E69-AD75-F5462A819A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01280" y="3927240"/>
            <a:ext cx="7335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BDFA-DB01-4DF6-8C69-4D55BA27B7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7335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01280" y="3927240"/>
            <a:ext cx="7335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A2DB-75C2-40B8-B07C-A85D8BA154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0128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6004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D361-2513-4BDE-95CF-BD049C987D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1680" y="171900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080" y="171900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01280" y="392724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1680" y="392724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62080" y="3927240"/>
            <a:ext cx="2361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DCF0-CF38-420D-A68A-94B50C648F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7335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F558-61A8-449D-9C41-8923AE2C6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B9D8-5AD2-4B3C-BA42-3E85F4EC0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5AF3-787C-49F1-A819-D67352BA9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1280" y="998280"/>
            <a:ext cx="73357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E2A8-D640-46D5-8221-531F8A0DF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0128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80F3-F81A-4C53-B075-C7FBB6AB9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60040" y="392724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736C-6CF4-42DA-9ABC-716971FEB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0128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60040" y="1719000"/>
            <a:ext cx="3579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01280" y="3927240"/>
            <a:ext cx="7335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2D61-B765-4CE3-A56E-BF3D9DD1B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62760" y="5454720"/>
            <a:ext cx="432000" cy="414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812000" y="5555880"/>
            <a:ext cx="55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A255-A81F-4823-A121-AC4F589622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01280" y="1719000"/>
            <a:ext cx="7335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lnSpc>
                <a:spcPct val="140000"/>
              </a:lnSpc>
              <a:spcBef>
                <a:spcPts val="1001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744640" indent="-22860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152880" indent="-22860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560760" indent="-22860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560760" indent="-22860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560760" indent="-22860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862760" y="5454720"/>
            <a:ext cx="432000" cy="414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1280" y="99828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812000" y="5505120"/>
            <a:ext cx="55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CC51-BACA-4C24-B09D-1710CC0E98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701280" y="1719000"/>
            <a:ext cx="7335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40000"/>
              </a:lnSpc>
              <a:spcBef>
                <a:spcPts val="1001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66760" indent="-26676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66760" indent="-26676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66760" indent="-26676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66760" indent="-26676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66760" indent="-26676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8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306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546280" y="4830840"/>
            <a:ext cx="5400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UNECE Workshop on Confidential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998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Manchester, 17.-19. December 200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7000" y="1763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ng Fully and Partially Synthetic Data Sets for Statistical Disclosure Control in the German IAB Establishment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16280" y="3249720"/>
            <a:ext cx="508644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rg Drechsler, Stefan Be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nstitute for Employment Research, German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anne Räss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University of Bambe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1280" y="39492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ting fully synthetic data sets for the IAB Establishment Pan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01280" y="1402920"/>
            <a:ext cx="71564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ynthetic data set for selected variables from the wave 1997 from the Establishmen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10 new sample from the Official Employment Statistics using the same sampling design as for the Establishment Panel (Stratification by industry, size, and reg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observations in each sample equals the number of observations in the pane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73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sample is imputed ten times using sequential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variables from the establishment panel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utations are generated u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VEw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Raghunathan, Solenberger and Hoewyk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3A67-BCD1-4883-8F98-FA9CDA8212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utation procedure for partially synthetic dat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01280" y="1403280"/>
            <a:ext cx="715644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2024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two variables are synthesized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number of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0"/>
              </a:lnSpc>
              <a:spcBef>
                <a:spcPts val="2024"/>
              </a:spcBef>
              <a:spcAft>
                <a:spcPts val="451"/>
              </a:spcAft>
              <a:buNone/>
              <a:tabLst>
                <a:tab algn="l" pos="0"/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dustry (16 catego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024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e variables for the imputation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024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utation by sequential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90000"/>
              </a:lnSpc>
              <a:spcBef>
                <a:spcPts val="2024"/>
              </a:spcBef>
              <a:spcAft>
                <a:spcPts val="337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utation model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multinomial logit for the indust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37"/>
              </a:spcAft>
              <a:buNone/>
              <a:tabLst>
                <a:tab algn="l" pos="0"/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linear model for the cubic root of the nb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37"/>
              </a:spcAft>
              <a:buNone/>
              <a:tabLst>
                <a:tab algn="l" pos="0"/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4 independent linear models defined b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quartiles for the establishment 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024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utations based on own coding 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spcAft>
                <a:spcPts val="451"/>
              </a:spcAft>
              <a:buNone/>
              <a:tabLst>
                <a:tab algn="l" pos="262080"/>
                <a:tab algn="l" pos="13492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4703-DD9D-47D7-997A-B3A7A34170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01280" y="1402920"/>
            <a:ext cx="71564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mputation for Statistical Disclosur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AB Establishment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f The Two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omparison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CB74-AC84-40A2-89E7-1FA3D2FA6B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alytical validit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01280" y="1222200"/>
            <a:ext cx="715644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regression results from the original data with resul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the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rst regre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07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wick (2005) analyses the productivity effects of different continuing vocational training forms in Germ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07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it regression to explain, why firms offer vocational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07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 Explanatory variables including: Share of qualified employees, establishment size, industry, collective wage agreement,  high qualification needs expected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regre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07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(number of employees) on 15 industry dum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84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ata utility meas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mparison of the beta coefficients from the original da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et and the synthetic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nfidence interval 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F1A2-BCD9-41FE-BE4B-788742F459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fidence interval overla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01280" y="1221840"/>
            <a:ext cx="715644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ggested by Karr et al.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 the overlap of CIs from the original data and CIs from 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hetic da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gher the overlap, the higher the data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848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average relative CI overlap for 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925960" y="2747880"/>
                <a:ext cx="355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006640" y="3262320"/>
                <a:ext cx="4545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ve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ve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rig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rig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ve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ve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68640" y="4927680"/>
            <a:ext cx="2791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5080" y="5241960"/>
            <a:ext cx="1889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5080" y="5062680"/>
            <a:ext cx="0" cy="404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94360" y="4748040"/>
            <a:ext cx="0" cy="675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8640" y="5241960"/>
            <a:ext cx="112572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8640" y="4927680"/>
            <a:ext cx="112572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915080" y="4464000"/>
                <a:ext cx="4539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776760" y="4464000"/>
                <a:ext cx="4172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6773760" y="4716360"/>
            <a:ext cx="0" cy="405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4600" y="4748040"/>
            <a:ext cx="0" cy="675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040200" y="5402160"/>
                <a:ext cx="417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774960" y="5345280"/>
                <a:ext cx="362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881600" y="5343480"/>
                <a:ext cx="4348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546960" y="5041800"/>
                <a:ext cx="3967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584360" y="4772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for the synthet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15920" y="50734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for the origi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D3E21-D634-4361-9061-F4285687BA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80960" y="1254240"/>
          <a:ext cx="7331040" cy="48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1254240"/>
                    <a:ext cx="733104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900000" y="6094440"/>
            <a:ext cx="6445440" cy="261360"/>
            <a:chOff x="900000" y="6094440"/>
            <a:chExt cx="6445440" cy="261360"/>
          </a:xfrm>
        </p:grpSpPr>
        <p:sp>
          <p:nvSpPr>
            <p:cNvPr id="213" name=""/>
            <p:cNvSpPr/>
            <p:nvPr/>
          </p:nvSpPr>
          <p:spPr>
            <a:xfrm>
              <a:off x="900000" y="6194520"/>
              <a:ext cx="216000" cy="7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7840" y="6094440"/>
              <a:ext cx="2016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ignificant at the 0,1 % lev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98880" y="6194520"/>
              <a:ext cx="216000" cy="72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76720" y="6094440"/>
              <a:ext cx="201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ignificant at the 1 % lev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51600" y="6194520"/>
              <a:ext cx="215640" cy="72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29080" y="6094440"/>
              <a:ext cx="2016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ignificant at the 5 % lev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00560" y="585720"/>
            <a:ext cx="67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s from the first regression (Zwick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DB18-8E62-4711-AF32-ECFC0627F8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0" y="1322280"/>
          <a:ext cx="7858080" cy="50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2280"/>
                    <a:ext cx="7858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7137360" y="1224000"/>
            <a:ext cx="0" cy="486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8640" y="621972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verage overl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58080" y="603900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,8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07360" y="6039000"/>
            <a:ext cx="57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,9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7200" y="414360"/>
            <a:ext cx="71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verage confidence interval (CI) overlap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the estimates from the first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86640" y="1224000"/>
            <a:ext cx="0" cy="486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12A0-1C75-44CB-A132-E057B16FDE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41280" y="6458040"/>
            <a:ext cx="115920" cy="6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9120" y="6357960"/>
            <a:ext cx="216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= Significant at the 0,1 %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47800" y="6458040"/>
            <a:ext cx="123840" cy="6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35280" y="6357960"/>
            <a:ext cx="201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= Significant at the 1 %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51280" y="6458040"/>
            <a:ext cx="141480" cy="69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29120" y="635796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= Significant at the 5 %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1640" y="414360"/>
            <a:ext cx="7410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s from the second reg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log(nb. of employees) o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21640" y="6464160"/>
            <a:ext cx="141120" cy="69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99120" y="63644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= insignific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3000" y="1268280"/>
          <a:ext cx="6985080" cy="4996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3000" y="1268280"/>
                    <a:ext cx="6985080" cy="49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6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D751-EC7D-42C7-8DA9-0BFC6DC2C7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917640" y="1457280"/>
          <a:ext cx="6940440" cy="49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1457280"/>
                    <a:ext cx="694044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6192720" y="1449360"/>
            <a:ext cx="0" cy="46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58080" y="621972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verage overl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02280" y="603900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,69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38920" y="603900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,8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1640" y="414360"/>
            <a:ext cx="71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verage confidence interval (CI) overlap </a:t>
            </a:r>
            <a:br>
              <a:rPr sz="2400"/>
            </a:b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for the estimates from the second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036920" y="1449360"/>
            <a:ext cx="9720" cy="46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6FE2-113D-4DCC-BA8F-701D3309E1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sclosure ris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01280" y="1403280"/>
            <a:ext cx="715644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icult to compare between partially and fully synthetic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losure risk is low for fully synthetic data sets, although no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 is higher for partially synthetic data sets, bec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31977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values remain in the data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31977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urvey respondents ar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artially synthetic data sets a careful disclosure risk evalu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23DC-D4F0-422E-B80E-E83591FC15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1280" y="1402920"/>
            <a:ext cx="71564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mputation for Statistical Disclosur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AB Establishment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f The Two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B382-7375-4628-9943-7FDB1796EA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01280" y="1402920"/>
            <a:ext cx="71564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mputation for Statistical Disclosur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AB Establishment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f The Two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DF07-81B4-4898-85BC-CAD83EDA3B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01280" y="1403280"/>
            <a:ext cx="715644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ing synthetic data sets can be a useful method for S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s for partially synthetic data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er data 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utation models easier to set 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risk of biased imp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s for partially synthetic data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spcBef>
                <a:spcPts val="224"/>
              </a:spcBef>
              <a:buClr>
                <a:srgbClr val="031977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risk of dis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6040">
              <a:spcBef>
                <a:spcPts val="224"/>
              </a:spcBef>
              <a:buClr>
                <a:srgbClr val="031977"/>
              </a:buClr>
              <a:buFont typeface="Arial"/>
              <a:buChar char="•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ful disclosure risk evalu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812880"/>
                <a:tab algn="l" pos="19731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ies will have to decide depending on the complexity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and the expected risk of dis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5317-234F-4227-8960-7D005BA2AD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964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654200" y="17636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BDEB-8FC4-44BA-ADC3-A24D19E8F8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854080" y="1268280"/>
            <a:ext cx="2458800" cy="2592360"/>
            <a:chOff x="2854080" y="1268280"/>
            <a:chExt cx="2458800" cy="2592360"/>
          </a:xfrm>
        </p:grpSpPr>
        <p:sp>
          <p:nvSpPr>
            <p:cNvPr id="96" name=""/>
            <p:cNvSpPr/>
            <p:nvPr/>
          </p:nvSpPr>
          <p:spPr>
            <a:xfrm>
              <a:off x="3379680" y="3500280"/>
              <a:ext cx="19332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6400" y="1268280"/>
              <a:ext cx="52668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04880" y="1268280"/>
              <a:ext cx="1900080" cy="22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1820880" y="2302560"/>
              <a:ext cx="259092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403440" y="2668680"/>
            <a:ext cx="1900440" cy="360360"/>
          </a:xfrm>
          <a:prstGeom prst="rect">
            <a:avLst/>
          </a:prstGeom>
          <a:solidFill>
            <a:srgbClr val="dfd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Tahoma"/>
              </a:rPr>
              <a:t>syntheti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787480" y="1312920"/>
            <a:ext cx="2459160" cy="2592360"/>
            <a:chOff x="2787480" y="1312920"/>
            <a:chExt cx="2459160" cy="2592360"/>
          </a:xfrm>
        </p:grpSpPr>
        <p:sp>
          <p:nvSpPr>
            <p:cNvPr id="102" name=""/>
            <p:cNvSpPr/>
            <p:nvPr/>
          </p:nvSpPr>
          <p:spPr>
            <a:xfrm>
              <a:off x="3313080" y="3544920"/>
              <a:ext cx="193356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09800" y="1312920"/>
              <a:ext cx="52704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38640" y="1312920"/>
              <a:ext cx="1900080" cy="22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754640" y="2346840"/>
              <a:ext cx="259056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336840" y="2712960"/>
            <a:ext cx="1900440" cy="360360"/>
          </a:xfrm>
          <a:prstGeom prst="rect">
            <a:avLst/>
          </a:prstGeom>
          <a:solidFill>
            <a:srgbClr val="dfd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Tahoma"/>
              </a:rPr>
              <a:t>syntheti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727360" y="1376280"/>
            <a:ext cx="2459160" cy="2592360"/>
            <a:chOff x="2727360" y="1376280"/>
            <a:chExt cx="2459160" cy="2592360"/>
          </a:xfrm>
        </p:grpSpPr>
        <p:sp>
          <p:nvSpPr>
            <p:cNvPr id="108" name=""/>
            <p:cNvSpPr/>
            <p:nvPr/>
          </p:nvSpPr>
          <p:spPr>
            <a:xfrm>
              <a:off x="3252960" y="3608280"/>
              <a:ext cx="1933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9680" y="1376280"/>
              <a:ext cx="52704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8160" y="1376280"/>
              <a:ext cx="1900440" cy="22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1694520" y="2410200"/>
              <a:ext cx="25909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276720" y="2776680"/>
            <a:ext cx="1900080" cy="360360"/>
          </a:xfrm>
          <a:prstGeom prst="rect">
            <a:avLst/>
          </a:prstGeom>
          <a:solidFill>
            <a:srgbClr val="dfd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Tahoma"/>
              </a:rPr>
              <a:t>syntheti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652480" y="1447920"/>
            <a:ext cx="2458800" cy="2592360"/>
            <a:chOff x="2652480" y="1447920"/>
            <a:chExt cx="2458800" cy="2592360"/>
          </a:xfrm>
        </p:grpSpPr>
        <p:sp>
          <p:nvSpPr>
            <p:cNvPr id="114" name=""/>
            <p:cNvSpPr/>
            <p:nvPr/>
          </p:nvSpPr>
          <p:spPr>
            <a:xfrm>
              <a:off x="3178080" y="3679920"/>
              <a:ext cx="19332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74800" y="1447920"/>
              <a:ext cx="52668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3640" y="1447920"/>
              <a:ext cx="1899720" cy="22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1619280" y="2482200"/>
              <a:ext cx="259092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201840" y="2847960"/>
            <a:ext cx="1900440" cy="360360"/>
          </a:xfrm>
          <a:prstGeom prst="rect">
            <a:avLst/>
          </a:prstGeom>
          <a:solidFill>
            <a:srgbClr val="dfd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Tahoma"/>
              </a:rPr>
              <a:t>syntheti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lly synthetic data sets (Rubin 1993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01280" y="4149360"/>
            <a:ext cx="715644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259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ata are fully synth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-identification of single units almost im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 variables are still fully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9200">
              <a:lnSpc>
                <a:spcPct val="130000"/>
              </a:lnSpc>
              <a:spcBef>
                <a:spcPts val="14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dvantage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rong dependence on the imputatio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ting up a model might be difficult/im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81240" y="3770280"/>
            <a:ext cx="1933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Tahoma"/>
              </a:rPr>
              <a:t>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77960" y="1538280"/>
            <a:ext cx="5270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89160" y="1538280"/>
            <a:ext cx="1932120" cy="22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41600" y="2570040"/>
            <a:ext cx="1222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not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90960" y="2938320"/>
            <a:ext cx="1914480" cy="360360"/>
          </a:xfrm>
          <a:prstGeom prst="rect">
            <a:avLst/>
          </a:prstGeom>
          <a:solidFill>
            <a:srgbClr val="dfd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de-DE" sz="1600" spc="-1" strike="noStrike" baseline="-25000">
                <a:solidFill>
                  <a:srgbClr val="000000"/>
                </a:solidFill>
                <a:latin typeface="Tahoma"/>
              </a:rPr>
              <a:t>synth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FF4BE-ADEA-48CF-B986-315F970DDD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tially synthetic data sets (Little 1993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01280" y="1221840"/>
            <a:ext cx="71564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901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otentially identifying or sensitive variables are repla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37240" y="3502080"/>
            <a:ext cx="136440" cy="809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7480" y="3502080"/>
            <a:ext cx="136800" cy="809640"/>
          </a:xfrm>
          <a:prstGeom prst="rect">
            <a:avLst/>
          </a:prstGeom>
          <a:solidFill>
            <a:srgbClr val="1c7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3505320"/>
            <a:ext cx="136800" cy="80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71880" y="236700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1160" y="349884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48120" y="349884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37240" y="3498840"/>
            <a:ext cx="90036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811160" y="3127320"/>
            <a:ext cx="1936800" cy="31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67240" y="3218040"/>
            <a:ext cx="0" cy="26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16520" y="3127320"/>
            <a:ext cx="2070000" cy="31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8E7E-0212-4E96-8156-5C966100C5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tially synthetic data sets (Little 1993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01280" y="1223640"/>
            <a:ext cx="71564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901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otentially identifying or sensitive variables are repla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37240" y="3503520"/>
            <a:ext cx="449280" cy="809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7480" y="3503520"/>
            <a:ext cx="449280" cy="809640"/>
          </a:xfrm>
          <a:prstGeom prst="rect">
            <a:avLst/>
          </a:prstGeom>
          <a:solidFill>
            <a:srgbClr val="1c7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3506760"/>
            <a:ext cx="449280" cy="80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71880" y="236700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1160" y="350028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48120" y="350028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37240" y="3500280"/>
            <a:ext cx="90036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11160" y="3129120"/>
            <a:ext cx="1936800" cy="31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67240" y="3219480"/>
            <a:ext cx="0" cy="27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16520" y="3129120"/>
            <a:ext cx="2070000" cy="31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89E2-1E91-4A5E-82FD-5AF2320B36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tially synthetic data sets (Little 1993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01280" y="1223640"/>
            <a:ext cx="71564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901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otentially identifying or sensitive variables are repla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37240" y="3508200"/>
            <a:ext cx="136440" cy="270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7480" y="3508200"/>
            <a:ext cx="136800" cy="270000"/>
          </a:xfrm>
          <a:prstGeom prst="rect">
            <a:avLst/>
          </a:prstGeom>
          <a:solidFill>
            <a:srgbClr val="1c7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3511440"/>
            <a:ext cx="136800" cy="27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71880" y="236844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1160" y="350532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48120" y="3505320"/>
            <a:ext cx="90000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37240" y="3505320"/>
            <a:ext cx="90036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811160" y="3133800"/>
            <a:ext cx="1936800" cy="31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67240" y="3224160"/>
            <a:ext cx="0" cy="27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16520" y="3133800"/>
            <a:ext cx="2070000" cy="31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2000" y="46432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640" y="4464000"/>
            <a:ext cx="71564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262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odel dependence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odels are easier to se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130000"/>
              </a:lnSpc>
              <a:spcBef>
                <a:spcPts val="14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dvantage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ue values remain in the data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isclosure might still be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2D62-C933-4957-86C5-8A5E389748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01280" y="1402920"/>
            <a:ext cx="71564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mputation for Statistical Disclosur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IAB Establishment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f The Two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0FDBB-D04A-487A-8456-0F845796D3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IAB Establishment Pan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01280" y="1403280"/>
            <a:ext cx="7156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26136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ually conducted Establishmen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136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1993 in Western Germany, since 1996 in Eastern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136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ll establishments with at least one employee covere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social secu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136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icial Employment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136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se rate of repeatedly interviewed establishments mor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n 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136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ple of more than 16.000 establishments in the last w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136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t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ployment structure, changes in employment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policies, investment, training, remuneration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ing hours, collective wage agreements, work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c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26208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A79E-6929-4943-876C-637B3A3899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73357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01280" y="1402920"/>
            <a:ext cx="71564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mputation for Statistical Disclosur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AB Establishment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pplication of the Two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spcBef>
                <a:spcPts val="25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50055" t="0" r="0" b="234"/>
          <a:stretch/>
        </p:blipFill>
        <p:spPr>
          <a:xfrm>
            <a:off x="7812000" y="422280"/>
            <a:ext cx="90036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CDCF-770D-4B60-B9AF-CCDA5784A1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9:11:09Z</dcterms:created>
  <dc:creator>WaglerPetra</dc:creator>
  <dc:description/>
  <dc:language>en-US</dc:language>
  <cp:lastModifiedBy>Drechsler Jörg</cp:lastModifiedBy>
  <dcterms:modified xsi:type="dcterms:W3CDTF">2007-12-07T09:47:27Z</dcterms:modified>
  <cp:revision>156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86716292</vt:r8>
  </property>
  <property fmtid="{D5CDD505-2E9C-101B-9397-08002B2CF9AE}" pid="3" name="_AuthorEmail">
    <vt:lpwstr>Joerg.Drechsler@iab.de</vt:lpwstr>
  </property>
  <property fmtid="{D5CDD505-2E9C-101B-9397-08002B2CF9AE}" pid="4" name="_AuthorEmailDisplayName">
    <vt:lpwstr>Drechsler Jörg</vt:lpwstr>
  </property>
  <property fmtid="{D5CDD505-2E9C-101B-9397-08002B2CF9AE}" pid="5" name="_EmailSubject">
    <vt:lpwstr>My slides for the workshop in Manchester</vt:lpwstr>
  </property>
</Properties>
</file>