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1D09-0087-4AB0-8794-E7453A0D7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200120"/>
            <a:ext cx="73659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BA10-2708-4E5E-AD39-92D5F9788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20012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0560" y="420012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3BF5-025C-4983-B853-371C4203F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6800" y="220968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7640" y="220968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20012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6800" y="420012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7640" y="420012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3869-DD38-4729-AD40-AC062A92D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3765-537B-4788-8B0E-D63DCA6F0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788C-1CAE-424B-8B5F-83A018506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0CFF-903A-4EE0-89D1-F1ACB2EC1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58CA-9B3A-447C-B768-4395946C2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761760"/>
            <a:ext cx="7365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357F-DEEB-4D35-B3D0-89307E68F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20012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CB26-32EB-407B-A135-D4A8B20F2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0560" y="420012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C20E-F610-405E-B36A-B2DE2256E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200120"/>
            <a:ext cx="73659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BC6B-320D-4B3D-95A6-9DB948A14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30120">
              <a:spcBef>
                <a:spcPts val="1125"/>
              </a:spcBef>
              <a:buClr>
                <a:srgbClr val="000000"/>
              </a:buClr>
              <a:buSzPct val="8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73400" indent="-2286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9244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9244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9244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66680" y="6172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6748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686F968-D9FD-406A-981A-C6B1816B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495760" y="460440"/>
            <a:ext cx="2936880" cy="60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1440" y="2082960"/>
            <a:ext cx="662940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Linked Employ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mployee Datasets using the example of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German Structure of Earnings Surve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09360" y="3726000"/>
            <a:ext cx="6604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ns-Peter Hafner and Rainer L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Data Centre of the Statistical Offices of the L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Applied Sciences Ma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ECE Work Session on Statistical Data Confidenti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chester, 17 Decem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711760"/>
            <a:ext cx="1523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rman Structure of Earnings Survey: Anonym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arsening of economic sectors (around 40 groups) and regional information (5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roaggregation of the number of employees, if the company has  500 and more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0A5D-5182-4414-A0AB-8774A4D8B3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374920" y="1108080"/>
          <a:ext cx="513540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1108080"/>
                    <a:ext cx="51354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81C2-D991-4204-9737-115BE81B56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rman Structure of Earnings Survey: Anonym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8200" y="2357280"/>
          <a:ext cx="3689280" cy="213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57280"/>
                    <a:ext cx="3689280" cy="21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091040" y="2374920"/>
          <a:ext cx="4444920" cy="18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1040" y="2374920"/>
                    <a:ext cx="44449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040" y="5254560"/>
            <a:ext cx="46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racteristic Occup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8C21-1C6E-4D83-B5B5-9A92C79AE8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dure looks prom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rther test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ture perspective: Automatization of th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7C99-0583-41C8-ACD0-BFF598D5A7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66320" y="2655360"/>
            <a:ext cx="736596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earch Data Centre of the Statistical Offices of the Lä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s-Peter Haf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hafner@statistik-hessen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versity of Applied Sciences Mainz, Dept.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iner L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iner.lenz@fh-mainz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.forschungsdatenzentrum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1480" y="1752480"/>
            <a:ext cx="736596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3D96-D274-4912-B3B5-9A13D86264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ked Employer Employee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onymisation of the Employ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man Structure of Earnings Survey: Methodology and Anonym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0F1F-02FB-4C4A-BB18-58E37DE98E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0600" y="100152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: Linked Employer Employee Dataset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d effects can be split in fractions dependent of employer and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onymisation is difficul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4EA2-C394-4F96-92A6-ABA429B245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r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7400" y="2752560"/>
            <a:ext cx="620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19200"/>
            <a:ext cx="60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9080" y="2336760"/>
            <a:ext cx="6176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9933"/>
              </a:buClr>
              <a:buFont typeface="Times New Roman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knowledge from commercial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tching experiments for risk est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 0.5 is accepted as the upper b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-identificatio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minimisation: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variables: Combining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 variables: Microag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CBA3-F3C9-4E24-9334-8D74EE50D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55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632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-identification risk for employees is 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632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: The information about the employee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re-identification risk for the corresponding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359A-C164-469B-A578-600F4B6D5B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 employer characteristic, T employee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.l.o.g.: S and T categ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ong Association between S and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 is anonymised (coarsening of catego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intruder knows the marginal distribution of T for every category of th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FFAE-D1A4-4CB9-BB45-C77CF0B736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intruder compares the distribution of T (of a certain company) with the marginal distributions of the possible categories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racteristical category d of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6520">
              <a:lnSpc>
                <a:spcPct val="90000"/>
              </a:lnSpc>
              <a:spcBef>
                <a:spcPts val="612"/>
              </a:spcBef>
              <a:buClr>
                <a:srgbClr val="ff99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distribution of a possible category x of S: Fraction of d exceeds a value 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6520">
              <a:lnSpc>
                <a:spcPct val="90000"/>
              </a:lnSpc>
              <a:spcBef>
                <a:spcPts val="612"/>
              </a:spcBef>
              <a:buClr>
                <a:srgbClr val="ff99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stribution of d over the categories of S: Fraction of d in category x exceeds some thresho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6520">
              <a:lnSpc>
                <a:spcPct val="90000"/>
              </a:lnSpc>
              <a:spcBef>
                <a:spcPts val="612"/>
              </a:spcBef>
              <a:buClr>
                <a:srgbClr val="ff99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s of d not nearly equal for all possible categories of 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tribution differences of the characteristical categories are very in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F159-5DC2-4ECE-81CE-2CE2AE46B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ction of correct assignments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w risk estimation for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-identification risk too high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bine characteristical  categori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95360" y="35607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2840" y="467820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B425-2738-43BA-83C6-5C9618FE46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rman Structure of Earnings Survey: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ple survey in industry and services; every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 about earnings and activities of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urvey is conducted in all EU contries for comparable  information all over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the year 2001 in Germany about 22.000 companies with data on over 845.000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8403-6A7B-4B19-9C4B-242708DFE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8:22:11Z</dcterms:created>
  <dc:creator>lfstad-xpi2</dc:creator>
  <dc:description/>
  <dc:language>en-US</dc:language>
  <cp:lastModifiedBy>HHafner</cp:lastModifiedBy>
  <dcterms:modified xsi:type="dcterms:W3CDTF">2007-12-10T09:21:54Z</dcterms:modified>
  <cp:revision>68</cp:revision>
  <dc:subject/>
  <dc:title>Titel</dc:title>
</cp:coreProperties>
</file>