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A6EB-6449-41AB-A406-F10305A88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20012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170C-6D54-4DDC-8C36-E7E8931A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056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9EFB-E045-47D2-BBD5-831372FD5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80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7640" y="220968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80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7640" y="4200120"/>
            <a:ext cx="23716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12C2-EB10-4FE7-9140-0A53766E0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2F49-9F60-4D9E-A352-FC16E4FE7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9CCD-03E9-4095-A7D3-C4D3B6403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6175-C4F5-4D69-AA3A-0A3323A9E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5A8F-1DB8-4898-B7EE-08872B08A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36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ADD1-23E3-4B47-8280-48DDC93A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DBA7-4AA3-4672-8FE3-E4E389270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0560" y="420012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472A-948D-4BE7-8528-ADCDBF062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0560" y="2209680"/>
            <a:ext cx="35942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00120"/>
            <a:ext cx="73659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8BA4-719B-47BA-93EB-15595BE14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30120">
              <a:spcBef>
                <a:spcPts val="1125"/>
              </a:spcBef>
              <a:buClr>
                <a:srgbClr val="000000"/>
              </a:buClr>
              <a:buSzPct val="8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73400" indent="-22860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9244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66680" y="6172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6748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BA2409A-5711-4774-B129-6B3D1F943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495760" y="460440"/>
            <a:ext cx="293688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1440" y="2082960"/>
            <a:ext cx="662940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Linked Employ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mployee Datasets using the example of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German Structure of Earnings Surve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09360" y="3726000"/>
            <a:ext cx="6604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ns-Peter Hafner and Rainer L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Data Centre of the Statistical Offices of the L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Applied Sciences Ma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ECE Work Session on Statistical Data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chester, 17 Decem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711760"/>
            <a:ext cx="1523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Anonym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arsening of economic sectors (around 40 groups) and regional information (5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aggregation of the number of employees, if the company has  500 and mor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AD61-D9C8-45C6-8E67-FF0B20B081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374920" y="1108080"/>
          <a:ext cx="51354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1108080"/>
                    <a:ext cx="51354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5ADA-4593-4183-8F75-9984A359B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Anonym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8200" y="2357280"/>
          <a:ext cx="3689280" cy="213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57280"/>
                    <a:ext cx="3689280" cy="21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091040" y="2374920"/>
          <a:ext cx="4444920" cy="18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1040" y="2374920"/>
                    <a:ext cx="44449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040" y="5254560"/>
            <a:ext cx="46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acteristic Occup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5023-6B08-4B7A-83EA-37BEE1787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dure looks prom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rther test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ure perspective: Automatization of th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1EC7-934B-474D-A416-CB965B668D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320" y="2655360"/>
            <a:ext cx="736596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earch Data Centre of the Statistical Offices of the Lä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s-Peter Haf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hafner@statistik-hessen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ity of Applied Sciences Mainz, Dept.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iner L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iner.lenz@fh-mainz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forschungsdatenzentrum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1480" y="1752480"/>
            <a:ext cx="73659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F84B-7DE7-411F-A41F-B264B8E2A5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ed Employer Employee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of the Employ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man Structure of Earnings Survey: Methodology and Anonym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8660-B8EB-404E-8453-4B8B841E4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0600" y="100152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: Linked Employer Employee Dataset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d effects can be split in fractions dependent of employer and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onymisation is difficu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33FF-5717-4889-B887-95B8F71F8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r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7400" y="2752560"/>
            <a:ext cx="620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19200"/>
            <a:ext cx="60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9080" y="2336760"/>
            <a:ext cx="6176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9933"/>
              </a:buClr>
              <a:buFont typeface="Times New Roman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knowledge from commercial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ching experiments for risk est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 0.5 is accepted as the upper 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identificatio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minimisation: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variables: Combining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variables: Microag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FD72-BAD0-4349-96C9-91BE279C3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55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632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-identification risk for employees is 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632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The information about the employee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re-identification risk for the correspond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BFA2-068C-4D0F-81F7-4C66AEB08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employer characteristic, T employee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.l.o.g.: S and T categ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ong Association between S an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is anonymised (coarsening of categ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intruder knows the marginal distribution of T for every category of th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0235-608D-42EC-B3F5-2FBC8DB8C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intruder compares the distribution of T (of a certain company) with the marginal distributions of the possible categories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acteristical category d of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distribution of a possible category x of S: Fraction of d exceeds a value 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stribution of d over the categories of S: Fraction of d in category x exceeds some thresho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6520">
              <a:lnSpc>
                <a:spcPct val="90000"/>
              </a:lnSpc>
              <a:spcBef>
                <a:spcPts val="612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s of d not nearly equal for all possible categories of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tribution differences of the characteristical categories are very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247E-0E71-408E-BAAD-226812182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onymisation of the Employe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ction of correct assignments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 risk estimation fo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-identification risk too high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bine characteristical  categori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95360" y="35607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2840" y="467820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A746-3CBF-4551-BEF8-394BBDE26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man Structure of Earnings Survey: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365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 survey in industry and services; every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 about earnings and activities of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urvey is conducted in all EU contries for comparable  information all ove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the year 2001 in Germany about 22.000 companies with data on over 845.00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tatistische Ämter der Länder, Forschungsdatenzent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B333-EC44-4EC8-BDDE-9A0412589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8:22:11Z</dcterms:created>
  <dc:creator>lfstad-xpi2</dc:creator>
  <dc:description/>
  <dc:language>en-US</dc:language>
  <cp:lastModifiedBy>HHafner</cp:lastModifiedBy>
  <dcterms:modified xsi:type="dcterms:W3CDTF">2007-12-10T09:21:54Z</dcterms:modified>
  <cp:revision>68</cp:revision>
  <dc:subject/>
  <dc:title>Titel</dc:title>
</cp:coreProperties>
</file>