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283-25F2-4736-A918-60A0A6A6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5F1-1616-4552-8C2E-BAC81FC8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0A9-83E4-4B14-9611-5CEFB6E1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766-81C1-4777-9059-C37649ED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4D8D-2225-4710-A87E-B97DC9EB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1DBB-47E0-4394-B0FD-1301A211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6F96-60AA-4507-ACC4-6FD19A0C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9E00-EB0D-4CC0-96A5-0F93000C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D1E-3629-4EDD-9B03-398B4231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B37A-4BBD-4B2C-8101-2974FAC7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B22B-8071-4C8A-B281-2C065357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39A-0597-48FA-BCD2-0A5FBE64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7614-46A4-4580-959D-5A052FD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D19E-64E8-4557-8FD2-BED97E7D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AEFF-DB86-44CF-A595-415F238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46F0-D27E-4CC8-B037-BBF78E9E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708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1000" y="17524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708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1000" y="4180680"/>
            <a:ext cx="269856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BD8C-FCD7-44D1-A12D-808738A1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F29-F259-4025-91FE-E474221B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76B-85AD-45D6-96A1-86570952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06A-C20F-4BD0-8955-47B42348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96F-7FC1-418D-BD72-B454E72A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A32-B1A3-449B-87FA-5E6A03F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41806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DE2-FC56-47D7-AE12-9E6959BE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75248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80680"/>
            <a:ext cx="8381880" cy="22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813-16BD-44A3-AA6D-7B667834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9400" indent="-195480">
              <a:spcBef>
                <a:spcPts val="901"/>
              </a:spcBef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82600">
              <a:spcBef>
                <a:spcPts val="901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901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0" y="65163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442E-F1EE-439F-9847-06DB8E8BC9B8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8840" y="6516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505560"/>
            <a:ext cx="469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8448-6EFB-4DDA-BD04-5C05DA2AF23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23852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E2B0-209E-4655-969F-0060C050EAE8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267080" y="6477120"/>
            <a:ext cx="2819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76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E026-DEF8-4859-A8BA-E1463BEAE558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3416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D8E1-67CA-4B67-80AD-99625EF270E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6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algn="ctr">
              <a:buClr>
                <a:srgbClr val="003399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buClr>
                <a:srgbClr val="003399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 indent="55440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rum.ssb.no/blah.cgi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191628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3399"/>
                </a:solidFill>
                <a:latin typeface="Arial"/>
              </a:rPr>
              <a:t>The Oslo Group on Energy Statistic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UNECE/OECD/Eurosta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Statistics on Sustainab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lav Ljones, Deputy Director General, Statistics No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6. Novem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5606-D19F-44F0-82B4-43A6B02015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Energy Statistics and SD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ive priority to energy, economy, environment and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ordinate reforms about energy in SEEA, SNA Energy Accounts and Emission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stainable Indicatores a broad perspective and conceptual capit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oes not contradict partial models – like for energy and emission and global 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apital and resources in energy sector. Energy Cap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scuss if we should ask for revisions, also  of SN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7BC-50C0-4142-A30C-2D5DA57D31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Statistical Commission U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cument to 36th Statistical Commission 2005: Report of the Programme Reviewer (Statistics Norway) on energy stat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s and Recommend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etter integration of the energy statistics community with the energy policy community. Capacity building. Official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d ho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, New York Ma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wo groups, City Group (Oslo) and Intersecretaria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dopted by the Bureau, Statistical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BA2-192D-43E6-94EA-45B0D0EC23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The Oslo group?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838188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ired by  Olav Ljones, Statistics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retariat: Statistics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ts from national statistical offices and/or energy ministries/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ts from international organizations engaged in energy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ts from academia: energy sciences, energy economics,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ergy experts from the private sector to be invited to participate as advi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: 19 countries and 5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stria, Denmark, Finland, France, Germany, Ireland, Italy, Norway, Poland, Russia, Sweden, The Netherlands, UK, South-Africa, India, Canada, Mexico, USA + UN (UNSD), IAEA, IEA, IMF, Euros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896-CE05-46A7-A8CF-95B32292C5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Terms of referenc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:  To address issues related to energy statistics and contribute to improved international standards and improved methods for official energy statistics by pooling expertise in the energy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58B-9CAE-45FF-80A4-4946ED958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Terms of referenc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To identify user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To define scope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fic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ergy stat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To identify and collect national and international best pract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 To review and contribute to the updating of UNSD handbooks and manuals on energy stat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To identify gaps in coverage (e.g. fuel types, flows) and to develop methodology to cover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. To adopt link or develop bridges to international standard concepts and classifications in economic/environmental statistics to facilitate the integration and interface of energy statistics with other statistical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75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. To recommend a core set of tables as a minimum at national and international level to satisfy major user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852-528E-457D-A568-3AB6F2FFAE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How do we organize our work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meeting in Oslo in Februar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sb.no/o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7th Statistical Commission, New York, March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forum </a:t>
            </a:r>
            <a:r>
              <a:rPr b="0" lang="en-GB" sz="2400" spc="-1" strike="noStrike" u="sng">
                <a:solidFill>
                  <a:srgbClr val="cc0000"/>
                </a:solidFill>
                <a:uFillTx/>
                <a:latin typeface="Arial"/>
                <a:hlinkClick r:id="rId1"/>
              </a:rPr>
              <a:t>http://forum.ssb.no/blah.cg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meeting in New Delhi in Februar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8th Statistical Commission, New York, March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 meeting in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frame: 5 years – 2006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A24-8F02-40C3-BAF8-75E2C262B5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ordination with international Activiti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Environment Economic Accounts and SD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scussion in Statistical Commissio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UNCEEA umbrell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Londo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slo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eetings in London Group and UNCEEA June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Joint UNECE/OECD/Eurostat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International cooperation Energ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EA, Inter Ener 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J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uture coordination ? SNA re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CC4-33D0-4507-AE66-D2C6420D3D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Coordination of Energy Statistics- NSI perspectiv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Quality principles for Offic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atacapture, response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One Statistical Office -  reuse of data og coordinated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7AA-1C70-4C53-A00F-CE2393683E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3399"/>
                </a:solidFill>
                <a:latin typeface="Arial"/>
              </a:rPr>
              <a:t>Energy Statistics in the NSI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oduc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mport/expor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Use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ectors and indu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finition of energy produc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enewable and non renewable energy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nergy Accounts/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ordinate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National Accou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mission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268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nternational BoP and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2D6-E880-4BC6-899B-EFD39734BC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2:02:29Z</dcterms:created>
  <dc:creator>Atle Tostensen</dc:creator>
  <dc:description/>
  <dc:language>en-US</dc:language>
  <cp:lastModifiedBy>boudol</cp:lastModifiedBy>
  <cp:lastPrinted>1999-08-31T12:20:00Z</cp:lastPrinted>
  <dcterms:modified xsi:type="dcterms:W3CDTF">2006-12-01T12:38:50Z</dcterms:modified>
  <cp:revision>29</cp:revision>
  <dc:subject/>
  <dc:title>The Oslo group on energy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93327809</vt:r8>
  </property>
  <property fmtid="{D5CDD505-2E9C-101B-9397-08002B2CF9AE}" pid="3" name="_AuthorEmail">
    <vt:lpwstr>Tone.SMITH@oecd.org</vt:lpwstr>
  </property>
  <property fmtid="{D5CDD505-2E9C-101B-9397-08002B2CF9AE}" pid="4" name="_AuthorEmailDisplayName">
    <vt:lpwstr>SMITH Tone, ENV/EPI</vt:lpwstr>
  </property>
  <property fmtid="{D5CDD505-2E9C-101B-9397-08002B2CF9AE}" pid="5" name="_EmailSubject">
    <vt:lpwstr>Following up on Oslo</vt:lpwstr>
  </property>
  <property fmtid="{D5CDD505-2E9C-101B-9397-08002B2CF9AE}" pid="6" name="_NewReviewCycle">
    <vt:lpwstr/>
  </property>
</Properties>
</file>