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AA1-0534-4798-A5A2-67A816F7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56A-0C84-43A2-890D-5876218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AE9-ACEA-480B-8E23-8E21E3ED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2E9-D2CB-4D05-B830-439D47FE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D55-108B-4CCF-8911-C6AFCC9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E62-2792-4BEE-9AB5-8A6CBAF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A42-F55F-414A-AA93-C49C6E3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35F-A1B5-41E7-B860-F8C5729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D55-6EDD-48A4-9E0A-2BCAB48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151-77A0-4F39-B981-3F70FF1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FEC-A046-4AC7-B1B4-B80539A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760-7915-4DCC-83E4-8657BE6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626-9D70-4467-9083-40DEECA5106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49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352680"/>
            <a:ext cx="5334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veka Palm, Statistics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hen Hall, Defra,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GSSD working group meeting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685800"/>
            <a:ext cx="6934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An analytical framework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sustainable development indicators (S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 – </a:t>
            </a: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some initial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2666880"/>
            <a:ext cx="678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758880" y="5621400"/>
            <a:ext cx="9902880" cy="1236600"/>
            <a:chOff x="-758880" y="5621400"/>
            <a:chExt cx="9902880" cy="1236600"/>
          </a:xfrm>
        </p:grpSpPr>
        <p:sp>
          <p:nvSpPr>
            <p:cNvPr id="47" name=""/>
            <p:cNvSpPr/>
            <p:nvPr/>
          </p:nvSpPr>
          <p:spPr>
            <a:xfrm>
              <a:off x="-758880" y="5621400"/>
              <a:ext cx="990288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688160" y="5827680"/>
              <a:ext cx="1077840" cy="819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914400" y="2057400"/>
          <a:ext cx="8458200" cy="480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057400"/>
                    <a:ext cx="8458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23880" y="1828800"/>
          <a:ext cx="6096240" cy="40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971800" y="4241880"/>
            <a:ext cx="2146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Arial"/>
              </a:rPr>
              <a:t>Woodland bi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7400" y="2743200"/>
            <a:ext cx="247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Farmland bi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22360"/>
            <a:ext cx="541008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d bird populations in the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758880" y="5621400"/>
            <a:ext cx="9902880" cy="1236600"/>
            <a:chOff x="-758880" y="5621400"/>
            <a:chExt cx="9902880" cy="1236600"/>
          </a:xfrm>
        </p:grpSpPr>
        <p:sp>
          <p:nvSpPr>
            <p:cNvPr id="122" name=""/>
            <p:cNvSpPr/>
            <p:nvPr/>
          </p:nvSpPr>
          <p:spPr>
            <a:xfrm>
              <a:off x="-758880" y="5621400"/>
              <a:ext cx="990288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7688160" y="5827680"/>
              <a:ext cx="1077840" cy="81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-758880" y="5621400"/>
            <a:ext cx="9902880" cy="1236600"/>
            <a:chOff x="-758880" y="5621400"/>
            <a:chExt cx="9902880" cy="1236600"/>
          </a:xfrm>
        </p:grpSpPr>
        <p:sp>
          <p:nvSpPr>
            <p:cNvPr id="127" name=""/>
            <p:cNvSpPr/>
            <p:nvPr/>
          </p:nvSpPr>
          <p:spPr>
            <a:xfrm>
              <a:off x="-758880" y="5621400"/>
              <a:ext cx="990288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7688160" y="5827680"/>
              <a:ext cx="1077840" cy="81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73152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-158760" y="-25560"/>
          <a:ext cx="9337680" cy="700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-25560"/>
                    <a:ext cx="933768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-758880" y="5621400"/>
            <a:ext cx="9902880" cy="1236600"/>
            <a:chOff x="-758880" y="5621400"/>
            <a:chExt cx="9902880" cy="1236600"/>
          </a:xfrm>
        </p:grpSpPr>
        <p:sp>
          <p:nvSpPr>
            <p:cNvPr id="135" name=""/>
            <p:cNvSpPr/>
            <p:nvPr/>
          </p:nvSpPr>
          <p:spPr>
            <a:xfrm>
              <a:off x="-758880" y="5621400"/>
              <a:ext cx="990288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7688160" y="5827680"/>
              <a:ext cx="1077840" cy="81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920" y="30240"/>
          <a:ext cx="9074160" cy="6804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0240"/>
                    <a:ext cx="907416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Black"/>
              </a:rPr>
              <a:t>Swedish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able consumption and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 and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76520" y="1295280"/>
            <a:ext cx="6781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8960" y="1454040"/>
            <a:ext cx="2044800" cy="105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2044440" cy="105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92680" y="5111640"/>
            <a:ext cx="2044440" cy="105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45160" y="2901960"/>
            <a:ext cx="2044800" cy="105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6560" y="996840"/>
            <a:ext cx="2044800" cy="105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75840" y="1617840"/>
            <a:ext cx="121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r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8000" y="402264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30800" y="5407200"/>
            <a:ext cx="117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56720" y="3200400"/>
            <a:ext cx="110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720" y="127944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980720" y="2666880"/>
            <a:ext cx="38124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572000"/>
            <a:ext cx="11430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4038480"/>
            <a:ext cx="60948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86200" y="159984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971800" y="1981080"/>
            <a:ext cx="26668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3480" y="304920"/>
            <a:ext cx="12535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Energy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1000" y="2590920"/>
            <a:ext cx="10767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Vio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07200" y="5234040"/>
            <a:ext cx="130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Sic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Water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9600" y="4243320"/>
            <a:ext cx="1847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Chronic ill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Threatened spe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Economic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61200" y="1728720"/>
            <a:ext cx="2001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Taxes, subsid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New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78240" y="441360"/>
            <a:ext cx="211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3333cc"/>
                </a:solidFill>
                <a:latin typeface="Arial"/>
              </a:rPr>
              <a:t>DPSIR-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932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500" spc="-1" strike="noStrike">
                <a:solidFill>
                  <a:srgbClr val="990099"/>
                </a:solidFill>
                <a:latin typeface="Arial"/>
                <a:ea typeface="Times New Roman"/>
              </a:rPr>
              <a:t>The environmental accounts</a:t>
            </a:r>
            <a:br>
              <a:rPr sz="3500"/>
            </a:br>
            <a:br>
              <a:rPr sz="39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46320" y="2116080"/>
            <a:ext cx="67989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500" spc="-1" strike="noStrike">
                <a:solidFill>
                  <a:srgbClr val="000000"/>
                </a:solidFill>
                <a:latin typeface="Stone Sans"/>
              </a:rPr>
              <a:t>  </a:t>
            </a:r>
            <a:r>
              <a:rPr b="1" lang="sv-SE" sz="2500" spc="-1" strike="noStrike">
                <a:solidFill>
                  <a:srgbClr val="000000"/>
                </a:solidFill>
                <a:latin typeface="Stone San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17760" y="1893960"/>
            <a:ext cx="2847960" cy="155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43000" y="2127240"/>
            <a:ext cx="13604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990066"/>
                </a:solidFill>
                <a:latin typeface="Arial Rounded MT Bold"/>
              </a:rPr>
              <a:t>National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16560" y="1650960"/>
            <a:ext cx="2009880" cy="2087640"/>
            <a:chOff x="6316560" y="1650960"/>
            <a:chExt cx="2009880" cy="20876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6316560" y="1650960"/>
              <a:ext cx="200988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537240" y="2116080"/>
              <a:ext cx="154008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990066"/>
                  </a:solidFill>
                  <a:latin typeface="Arial Rounded MT Bold"/>
                </a:rPr>
                <a:t>Environm. statist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052800" y="3979800"/>
            <a:ext cx="3686040" cy="2189160"/>
            <a:chOff x="3052800" y="3979800"/>
            <a:chExt cx="3686040" cy="218916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3052800" y="3979800"/>
              <a:ext cx="368604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2960" y="4286160"/>
              <a:ext cx="184464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990066"/>
                  </a:solidFill>
                  <a:latin typeface="Arial Rounded MT Bold"/>
                </a:rPr>
                <a:t>Environmental Accou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276720" y="34527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37432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705360" y="4809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sv-SE" sz="3500" spc="-1" strike="noStrike">
                <a:solidFill>
                  <a:srgbClr val="990099"/>
                </a:solidFill>
                <a:latin typeface="Arial"/>
                <a:ea typeface="Times New Roman"/>
              </a:rPr>
              <a:t>Social statistics 4 tested areas</a:t>
            </a:r>
            <a:r>
              <a:rPr b="0" lang="sv-SE" sz="3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2720" y="1295280"/>
            <a:ext cx="654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cc"/>
              </a:buClr>
              <a:buSzPct val="13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Working environment (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7 indicato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cc"/>
              </a:buClr>
              <a:buSzPct val="13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ealth (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7 indicato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cc"/>
              </a:buClr>
              <a:buSzPct val="13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inancial problems and material assets (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5 indicato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cc"/>
              </a:buClr>
              <a:buSzPct val="13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cial networks and political resources (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7 indicator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76360" y="62856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04840" y="228600"/>
            <a:ext cx="77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296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3333cc"/>
                </a:solidFill>
                <a:latin typeface="Arial Black"/>
              </a:rPr>
              <a:t>Accidents 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295280"/>
          <a:ext cx="7315200" cy="594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31520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5:13:28Z</dcterms:created>
  <dc:creator>Palm Maud</dc:creator>
  <dc:description/>
  <dc:language>en-US</dc:language>
  <cp:lastModifiedBy>boudol</cp:lastModifiedBy>
  <dcterms:modified xsi:type="dcterms:W3CDTF">2006-11-30T12:47:24Z</dcterms:modified>
  <cp:revision>16</cp:revision>
  <dc:subject/>
  <dc:title>PowerPoint-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1497730</vt:r8>
  </property>
  <property fmtid="{D5CDD505-2E9C-101B-9397-08002B2CF9AE}" pid="3" name="_AuthorEmail">
    <vt:lpwstr>Tone.SMITH@oecd.org</vt:lpwstr>
  </property>
  <property fmtid="{D5CDD505-2E9C-101B-9397-08002B2CF9AE}" pid="4" name="_AuthorEmailDisplayName">
    <vt:lpwstr>SMITH Tone, ENV/EPI</vt:lpwstr>
  </property>
  <property fmtid="{D5CDD505-2E9C-101B-9397-08002B2CF9AE}" pid="5" name="_EmailSubject">
    <vt:lpwstr>Following up on Oslo</vt:lpwstr>
  </property>
</Properties>
</file>