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ECF8-B3FF-4B92-8F7B-EBAEE7789C65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Capability Building is important for any organisation, not just Statistics NZ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004-88AC-4B1A-A48C-7A33A7C8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51C-CBB3-4AEC-8255-0F53576D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36E-95C4-4458-AF70-0D5A69BD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6BD-03FD-44ED-B48C-CAC0B25C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061F-92AD-4B0F-A589-15CD2CF4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6551-A58F-4D9C-BAC5-5C1EF0F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0E5-6830-42A5-A66D-DBF028B3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4881-7455-48FD-BC8C-FCA7FB4C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AE4-5A98-4067-B216-27D42DD1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60E5-EB48-43E9-A349-B8EDDDCA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A35-2F23-4D4F-91FE-C5933BC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118-914A-4757-8C32-A574540C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DAD7-2826-442B-85D5-F8355E3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F259-819B-4231-89D1-AF4D7EC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BFE7-8C9A-4003-8853-1C9EC31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6E08-910D-4102-A241-5F5FD5A7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0E9A-4109-4B40-B532-7765A68B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B82-95D9-40A5-BB7A-2415DAC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06F-4FBE-4B05-887A-E9AD595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0E4-96B8-429A-97D4-AB14629E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58C-20C4-42BF-8D27-1D14DA9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6AB-5F45-4316-92C0-ABACB4D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C08-2F9C-47C1-A0B6-B9C78533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5D7-C4F7-4CC6-9C3A-D09FF8D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3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5BAF-E852-4C9D-B89A-D028E187A1BE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A897-A162-424E-8B6F-638DFF7B3C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achael.Milicich@stats.govt.nz" TargetMode="External"/><Relationship Id="rId2" Type="http://schemas.openxmlformats.org/officeDocument/2006/relationships/hyperlink" Target="mailto:Denise.Brown@stats.govt.nz" TargetMode="External"/><Relationship Id="rId3" Type="http://schemas.openxmlformats.org/officeDocument/2006/relationships/hyperlink" Target="mailto:Elisabeth.Davis@abs.gov.au" TargetMode="External"/><Relationship Id="rId4" Type="http://schemas.openxmlformats.org/officeDocument/2006/relationships/hyperlink" Target="mailto:Horst.Posselt@abs.gov.au" TargetMode="Externa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the Measurement of Social Capital in New Zea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chael Milicich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eneral Manager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eography, Regional and Environme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imension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197000"/>
            <a:ext cx="4319280" cy="41767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484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492280"/>
            <a:ext cx="29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iving to stra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articipation in voluntary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articipation in inform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der interest in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mmunity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mpliance with rules and n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1125360"/>
            <a:ext cx="3960720" cy="5185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Measures of the propensity people hav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give willingly to stran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give their time to c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Measures of the relationships and interactions with others on an informal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Measures of who pays attention to what is going on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Measure of who takes on responsibilities by complying with rules and by taking responsibility for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56000" y="5589720"/>
            <a:ext cx="181440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imension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97000"/>
            <a:ext cx="4319280" cy="41767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2682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itudes &amp;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492280"/>
            <a:ext cx="29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liefs about 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ttitudes towards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ust and recipro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ttitudes to government and other societal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Values and n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utlook for and confidence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1125360"/>
            <a:ext cx="3960720" cy="5543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Range of possibl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Exampl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How you view your pl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Whether feel connected to other peop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Whether everyone is of equal val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Opinion on the nature of social and political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Whether you feel safe in your local are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Trust in Parli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Attitudes towards caring, co-operating, tolerance and other “social capital related n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240" indent="-27972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Goals for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56000" y="5589720"/>
            <a:ext cx="181440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imension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197000"/>
            <a:ext cx="4319280" cy="41767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19700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49228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1125360"/>
            <a:ext cx="3960720" cy="5185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Ethn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Family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Ages of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Birth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Labour for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Hours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Health/disability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Language sp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Geographic 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56000" y="5589720"/>
            <a:ext cx="181440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imension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197000"/>
            <a:ext cx="4319280" cy="41767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484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492280"/>
            <a:ext cx="29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ze of "membership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nks an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ode of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56000" y="5589720"/>
            <a:ext cx="1814400" cy="936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859280" y="1197000"/>
            <a:ext cx="4105440" cy="5472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Number of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Service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Sports cl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Marae (Meeting</a:t>
            </a: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pl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Number of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Tiers of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Public access routes into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Membership of network, association,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33"/>
                </a:solidFill>
                <a:latin typeface="Arial"/>
              </a:rPr>
              <a:t>Consultation with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uggested Key Indicator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40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Trus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Degree to which other people or institutions are trusted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Degree to which individuals feel they themselves are trusted or valued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Civic engagemen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Voluntary activity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Giving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Meeting obligation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uggested Key Indicator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40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By individual activity (what people do; how they behave)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Civic engagement</a:t>
            </a: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Voting, standing for election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Voluntary activity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Volunteering for others - informal or formal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Participation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In sports, arts, culture (club rather than social service activity)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Giving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Time, money, blood, information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Meeting obligation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Family, cultural, religious obligations, paying taxe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3136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uggested Key Indicator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256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By opportunities (the presence of institutions that are inducive to the building and use of social capital, ie a social capital rich environment)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Voluntary associations, How many? What type?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Elected boards and committees versus appointed or bureaucratic management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Public meetings – forums for dialogue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47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Since 2002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062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Focus shifted to measuring social well-being which is measured in the Social Report by the Ministry of Social Development (MSD)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Example of Social Well-being outcome and indicator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Civil and Political Right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DESIRED OUTCOME STATEMENT 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All people enjoy civil and political rights. Mechanism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to regulate and arbitrate people’s rights in respect of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each other are trustworthy.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INDICATORS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22. Voter turnout*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23. Representation of women in government*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33"/>
                </a:solidFill>
                <a:latin typeface="Arial"/>
              </a:rPr>
              <a:t>24. Perceived discrimination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3"/>
                </a:solidFill>
                <a:latin typeface="Arial"/>
              </a:rPr>
              <a:t>25. Perceived corruption</a:t>
            </a:r>
            <a:endParaRPr b="0" lang="en-US" sz="18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525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Myself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chael.Milicich@stats.govt.nz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Principal Statistician, Social and Population Group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nise.Brown@stats.govt.nz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Assistant Director, Family and Community Statistics Sec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isabeth.Davis@abs.gov.au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Director, Family and Community Statistics Sec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rst.Posselt@abs.gov.au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940360" y="1197000"/>
            <a:ext cx="2847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Why measure social capital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40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nterest from central and local government as agencies expressed interest in determining whether knowledge of social capital could assist them in their work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Many people involved in policy development in NZ increasingly recognised that the concept of social capital could contribute to a broader analysis of policy options and issue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onceptual issue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40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Types of capita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Huma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Education, skills and knowledge that reside within individuals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Cultur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The set of values, history, traditions and behaviours which link a specific group of people together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33"/>
                </a:solidFill>
                <a:latin typeface="Arial"/>
              </a:rPr>
              <a:t>The social networks that help society to function effectively</a:t>
            </a:r>
            <a:endParaRPr b="0" lang="en-US" sz="20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ndividual vs. collective return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ncrease/decrease in social capita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Definition of Social Capital Used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400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33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3333"/>
                </a:solidFill>
                <a:latin typeface="Arial"/>
              </a:rPr>
              <a:t>Relationships among actors (individuals, groups, and/or organisations) that create a capacity to act for mutual benefit or a common purpose”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It can be accumulated over time and then drawn on in the future for use in achieving certain goal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Is a collective resource rather than accruing to an individu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Circumstances may result in having access to greater or lesser stocks of a community’s social capit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How is Social Capital Used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5400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Access to social capital can be said to have three key functions: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Assessing risk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Exploring situations, individuals and agencie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mplications for measurement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ocus is on quality and quantity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Identify aspects of social life that relate to social capital and can be measured to some extent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Aspects of Social Capital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5400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Conceptual framework was based on the work of James Coleman and his theoretical synthesis “Foundations of Social Theory”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Coleman (1994) described what it was about social relations that could constitute useful capital resources for individuals.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3333"/>
                </a:solidFill>
                <a:latin typeface="Arial Mäori"/>
              </a:rPr>
              <a:t>Maori</a:t>
            </a: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 concept of Social Capital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evelopment of the framework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5400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Incorporation of key aspect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Norms and sanction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Mandate and authority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ources of information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Obligations and expectation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Review of work by others internationally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ix international research projects chosen and reviewed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84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Development of the framework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5400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Stocks and flows</a:t>
            </a:r>
            <a:endParaRPr b="0" lang="en-US" sz="28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Ideally both are required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Involves different implications for measurement as well as user requirements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tocks involve determining the various factors that indicate high or low levels of social capit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Flows involve measuring the actions that can increase or deplete social capital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Arial"/>
              </a:rPr>
              <a:t>Stocks was chosen for the framework development as being more important initially</a:t>
            </a:r>
            <a:endParaRPr b="0" lang="en-US" sz="2400" spc="-1" strike="noStrike">
              <a:solidFill>
                <a:srgbClr val="00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The Framework Developed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3384720" cy="266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3240360" cy="243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3313080" cy="23954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52600" y="1065240"/>
            <a:ext cx="3201840" cy="2651040"/>
            <a:chOff x="552600" y="1065240"/>
            <a:chExt cx="3201840" cy="2651040"/>
          </a:xfrm>
        </p:grpSpPr>
        <p:sp>
          <p:nvSpPr>
            <p:cNvPr id="119" name=""/>
            <p:cNvSpPr/>
            <p:nvPr/>
          </p:nvSpPr>
          <p:spPr>
            <a:xfrm>
              <a:off x="552600" y="1065240"/>
              <a:ext cx="3201840" cy="26510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2600" y="1065240"/>
              <a:ext cx="3201840" cy="265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3120" y="1090440"/>
              <a:ext cx="131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900" spc="-1" strike="noStrike">
                  <a:solidFill>
                    <a:srgbClr val="000000"/>
                  </a:solidFill>
                  <a:latin typeface="Arial"/>
                </a:rPr>
                <a:t>Behaviou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1280" y="1612800"/>
              <a:ext cx="170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Giving to stran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87560" y="1868400"/>
              <a:ext cx="227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Participation in volunt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9160" y="2122560"/>
              <a:ext cx="120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rganis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2280" y="2378160"/>
              <a:ext cx="300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Participation in informal 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01240" y="2633760"/>
              <a:ext cx="215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Wider interest in socie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7920" y="2887560"/>
              <a:ext cx="218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Community particip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1560" y="3143160"/>
              <a:ext cx="300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Compliance with rules and n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492360" y="3428640"/>
            <a:ext cx="122400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64000" y="3428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92360" y="3716280"/>
            <a:ext cx="122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80000" y="371628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80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522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08360" y="54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84720" y="371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0920" y="371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boudol</cp:lastModifiedBy>
  <dcterms:modified xsi:type="dcterms:W3CDTF">2006-11-30T12:52:00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147478</vt:r8>
  </property>
  <property fmtid="{D5CDD505-2E9C-101B-9397-08002B2CF9AE}" pid="3" name="_AuthorEmail">
    <vt:lpwstr>Tone.SMITH@oecd.org</vt:lpwstr>
  </property>
  <property fmtid="{D5CDD505-2E9C-101B-9397-08002B2CF9AE}" pid="4" name="_AuthorEmailDisplayName">
    <vt:lpwstr>SMITH Tone, ENV/EPI</vt:lpwstr>
  </property>
  <property fmtid="{D5CDD505-2E9C-101B-9397-08002B2CF9AE}" pid="5" name="_EmailSubject">
    <vt:lpwstr>Following up on Oslo</vt:lpwstr>
  </property>
</Properties>
</file>