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533-40E3-42F9-B7A6-91A08272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05F-946B-47B1-8BAA-CDB5579A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970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D77-D7EC-41D4-BDA1-F8C37D16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24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700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8F5-E686-499B-8AE7-C8F30298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B6EA-BC14-4B1D-96CB-5667E184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DAB0-4399-4EA4-97BE-937823BB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BCFB-057A-4E8B-AE7F-869B1119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211F-48CE-42CB-9621-23852EFC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4D9B-6768-4139-BA96-37678130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A4E-3E24-4BBE-B7A3-1D5AA822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2611-2A4A-42AB-AAB8-E4B9C71B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284-67DE-4BB5-A1CF-4DCA8676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970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DA7-0E1A-4512-96B8-65A58C45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8A46-C0EF-4406-85A6-BDF41F8A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D8A8-3F45-4860-A221-DD0A5B1D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970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DCAE-5810-47A2-8D92-3A043BA8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24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00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864F-7EE7-4D84-A92E-07787DDC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C6D-CF15-4699-A615-54E8C5F8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A0C-CEC5-46F8-B03E-C0D20E32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AA9-C8FB-4363-87D0-FBEACFF6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59C-4D56-4548-98A7-80CF1466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CB2-4526-44CB-ACA1-844749C2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970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160-4682-43DB-8170-3661DB8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F79-9B27-4823-A798-9545D35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428640" y="655272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r>
              <a:rPr b="0" i="1" lang="en-US" sz="1400" spc="-1" strike="noStrike">
                <a:solidFill>
                  <a:srgbClr val="40458c"/>
                </a:solidFill>
                <a:latin typeface="Tahoma"/>
              </a:rPr>
              <a:t> ERDR - Geneva 6-8 November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-36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7576-431D-4019-8EC2-A58E90AEE5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5053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086600" y="152280"/>
            <a:ext cx="1752480" cy="64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7c1eb"/>
                </a:solidFill>
                <a:latin typeface="Tahoma"/>
              </a:rPr>
              <a:t>XML Secur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0" y="6095880"/>
            <a:ext cx="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743200" y="6553080"/>
            <a:ext cx="6400800" cy="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CF58-31EF-4A30-9161-B7B3E2056A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XML Security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Tahoma"/>
              </a:rPr>
              <a:t>Gregory Farmak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Tahoma"/>
              </a:rPr>
              <a:t>Agilis S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Lucida Grande CE"/>
                <a:ea typeface="ＭＳ Ｐゴシック"/>
              </a:rPr>
              <a:t>Electronic Raw Data Reportin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Geneva, 6-8 November 2006</a:t>
            </a:r>
            <a:r>
              <a:rPr b="0" i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911C-ECDF-415C-8ABD-95C29255CD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Organisational Issues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cope of applicati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ndatory or no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mong organisations only or also involving declarant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ublic key infrastructure issues have to be resolved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cide if a party acting as a TTP will be included in the system to undertake public key registration, information and certification services (e.g. an existing certification authorit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ternative: establish a light-weight, PGP like system, without third party certification (i.e. based on a direct exchange of public keys among partie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second alternative is suitable for organisations (NCA’s, Eurostat etc.) but not feasible for declarants (enterprises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CB1-CD7C-44E8-A908-7D20F13D0B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Data Exchange Organisational Requirements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deployment of a data exchange scenario extends beyond the standardisation of an XML Schem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ML documents must be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igne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to allow the receiving party to validate document integrity and ensure non-repudiation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sitive information within XML documents must be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encrypte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to prevent disclosure to unauthorised third parties, without preventing access to data necessary for document handling and routing by intermediary mechanisms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cument submission must be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uthenticate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uthorise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especially when it triggers automatic processing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eys for signatures, encryption, authentication etc must be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certifie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by Trusted Third Parties (TTP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59F-0BF7-4B2B-B23A-AAACA4F54D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Example Scenario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Upon arrival of an Intrastat declaration the receiving application (e.g. a web service) has to automaticall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Validate the certificate of the signature to ensure the declarant identity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Use the signature to validate the integrity of the documen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ccess non-encrypted information to identify the nature of the submission without decrypting sensitive information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uthenticate the declarant (i.e. check that he is known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uthorise the submission (i.e. check that the declarant has the right to make this particular submission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Route the document to the application or user authorised to decrypt, validate and further process the submissio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A35-7C87-4ED8-A43C-13DC732127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XML Security Standards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ML technology provides a set of supporting standards, which can be integrated to achieve a fully automated deployment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ML Digital Signature for integrity and signatures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ML Encryption for confidentiality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ML Key Management (XKMS) for key managemen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urity Assertion Mark-up Language (SAML) for making authentication and authorization assertions; 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ML Access Control Mark-up Language (XACML) for stating authorization rul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83A-27CA-4616-ADBC-EF79252094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XML Digital Signature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XML Digital signature recommendation defines mechanisms to support the full range of digital signature creation and verificatio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t provides the versatility to sign and verify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Entire XML documents as well as element and even element content portions of XML documents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rbitrary documents, including binary documents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Compound documents including multiple documents and/or XML elements and element contents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Properties to be included with a signature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Counter-signatures (signatures that include other signatures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D51-BD5E-4BF8-9EBF-0A7E936D5A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XML Encryption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XML Encryption recommendation defines the framework, vocabulary and processing rules for XML encryption and decryption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Supports a variety of encryption algorith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Encapsulates all the information needed to process encrypted content, such as encryption algorithm and parameters, information about key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Confidentiality may be applied at any level of granularity to XML content (XML elements, XML element content as well as entire XML document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 to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secure only portions of XML documents routed through intermediary processor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llows combined use of asymmetric (for keys) and symmetric (for content) encryption to optimise performance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6BA-3AB9-4803-9DB7-393D7148B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XML Key Management Specification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XKMS complements XML Digital Signature and XML Encryption by providing mechanisms to leverage public-key infrastructure (PK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Shields XML application developers and users from the complexity of traditional PKI implement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Provides mechanisms that allow the receiver to use the services of a TTP to locate the required public key and retrieve information about the sender (i.e. holder of the corresponding private key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s compatible with traditional standards such as X.509v3, SPKI, and PGP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XML Key Information Service Specification (X-KISS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XML Key Registration Service Specification (X-KRS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430-D10A-4E49-A4BF-46514C87C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X-KMS Example Scenario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declarant uses a registration web service of a TTP 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gister, revoke or recover their public key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ubsequently used the key to sign Extrastat declaration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pon arrival of a signed Intrastat declaration the receiving application (e.g. a web service) ma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Obtain the key information from the document (keyInfo elemen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Send this keyInfo element to an X-KISS web service operated by a TTP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he TTP undertakes all complex certificate validation logic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he TTP returns signature certification results as well as additional information – metadata on the declar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he receiving application uses the signature and the metadata to verify document integrity, authenticate and authorise the declar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395-8915-4ADC-AEC2-77D7AF0D6D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Standardisation Issues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admap for amendments to existing standard document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mend the business model part (use cases and sequence diagrams) to include information security related processes (i.e. signature, encryption, authentication, authorisation, certification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mend the models (class diagrams) to provide for digital signatures of declarant and counter-signatures of collecting centr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dentify sensitive message parts that require encryp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dentify message parts which must be excluded from encryption (e.g. for routing and intermediate processing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clude security related response codes in response messag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195-74DC-4CA5-9794-A2461DF413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7:28:28Z</dcterms:created>
  <dc:creator>Maria Glossioti</dc:creator>
  <dc:description/>
  <dc:language>en-US</dc:language>
  <cp:lastModifiedBy>Gregory E. Farmakis</cp:lastModifiedBy>
  <dcterms:modified xsi:type="dcterms:W3CDTF">2006-11-01T21:31:31Z</dcterms:modified>
  <cp:revision>27</cp:revision>
  <dc:subject/>
  <dc:title>PowerPoint Presentation</dc:title>
</cp:coreProperties>
</file>