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8ED-265A-4574-A259-3BBBD788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D03F-8021-4015-9E16-4AA8904B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62B3-C1A3-434F-9E15-7B43C46D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7D4-8AD4-4485-979B-21D938FB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1C35-8FB5-4D46-80A8-83AF897F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928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C8F2-B975-4384-80B7-3FDCDF07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0F13-2A90-4C3C-9C77-D45E248B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1065-9CBE-4A66-9ED9-CD343214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1DD6-427F-4795-B385-8C4BB7C4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692000" y="1052640"/>
            <a:ext cx="6337080" cy="22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492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54EA-74E4-4453-90B1-7D6A220D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1075-0CDB-443F-A65F-B48753B1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928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A51-9E9C-4F75-B65A-B5FB1352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7921-1310-42CC-82EC-DAB89923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63DB-A8AB-47F2-A40F-031A76D1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512A-7670-4A62-8D3A-611B3A63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4429-B91C-43FD-BFB9-FB59AA9B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5163-7167-4B86-B31D-C3161559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1DD-98F4-444F-AB98-6D76DE8C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95C-058E-4905-84FB-A4F3A136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C3F7-7C07-40E4-849C-E631824E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92000" y="1052640"/>
            <a:ext cx="6337080" cy="22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492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A80C-2E82-4E61-974B-C9F207AE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34DC-704D-4BBF-84FB-317C667C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D430-7C2E-45E2-B5E3-3398A98B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DA6D-AA64-47AA-A07D-7E72416A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UNECE / Eurostat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k-SK" sz="3600" spc="-1" strike="noStrike">
                <a:solidFill>
                  <a:srgbClr val="00496c"/>
                </a:solidFill>
                <a:latin typeface="Times New Roman"/>
              </a:rPr>
              <a:t>SOS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92000" y="1052640"/>
            <a:ext cx="63370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96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96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6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496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6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496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6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496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6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496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6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6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6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08000" y="907920"/>
          <a:ext cx="169056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907920"/>
                    <a:ext cx="169056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611280" y="800280"/>
          <a:ext cx="8277120" cy="5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1280" y="800280"/>
                    <a:ext cx="8277120" cy="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" name="" descr=""/>
          <p:cNvPicPr/>
          <p:nvPr/>
        </p:nvPicPr>
        <p:blipFill>
          <a:blip r:embed="rId6"/>
          <a:stretch/>
        </p:blipFill>
        <p:spPr>
          <a:xfrm>
            <a:off x="8381880" y="152280"/>
            <a:ext cx="576360" cy="56844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-303120" y="770040"/>
            <a:ext cx="32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ffff"/>
                </a:solidFill>
                <a:latin typeface="Arial"/>
              </a:rPr>
              <a:t>ERDR  WebSt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2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96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659640" y="5760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400" spc="-1" strike="noStrike">
                <a:solidFill>
                  <a:srgbClr val="276f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276f6a"/>
                </a:solidFill>
                <a:latin typeface="Times New Roman"/>
              </a:rPr>
              <a:t>Vladimir MIROSS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5484-6C6F-4833-A354-20F1CDD5C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780000" y="5127480"/>
          <a:ext cx="504000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5127480"/>
                    <a:ext cx="5040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553000" y="3894120"/>
          <a:ext cx="3430800" cy="20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53000" y="3894120"/>
                    <a:ext cx="343080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9284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4928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6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496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6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496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6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496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6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6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6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96c"/>
                </a:solidFill>
                <a:latin typeface="Times New Roman"/>
              </a:rPr>
              <a:t>Statistical Office of the Slovak republic  (SOSR)</a:t>
            </a: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4581000"/>
            <a:ext cx="86868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49284"/>
                </a:solidFill>
                <a:latin typeface="Times New Roman"/>
              </a:rPr>
              <a:t>Electronic Raw Data Reporting (Geneva, 6. – 8. November 2006)</a:t>
            </a:r>
            <a:endParaRPr b="0" lang="en-US" sz="2400" spc="-1" strike="noStrike">
              <a:solidFill>
                <a:srgbClr val="44928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UNECE / Eurostat</a:t>
            </a:r>
            <a:endParaRPr b="0" lang="en-US" sz="1800" spc="-1" strike="noStrike">
              <a:solidFill>
                <a:srgbClr val="449284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895480"/>
            <a:ext cx="8534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496c"/>
                </a:solidFill>
                <a:latin typeface="Arial"/>
              </a:rPr>
              <a:t>Electronic data collection system in SO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92000" y="1052640"/>
            <a:ext cx="63370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496c"/>
                </a:solidFill>
                <a:latin typeface="Times New Roman"/>
              </a:rPr>
              <a:t>Integration </a:t>
            </a:r>
            <a:r>
              <a:rPr b="1" i="1" lang="sk-SK" sz="3600" spc="-1" strike="noStrike">
                <a:solidFill>
                  <a:srgbClr val="00496c"/>
                </a:solidFill>
                <a:latin typeface="Times New Roman"/>
              </a:rPr>
              <a:t>web</a:t>
            </a:r>
            <a:r>
              <a:rPr b="1" lang="sk-SK" sz="3600" spc="-1" strike="noStrike">
                <a:solidFill>
                  <a:srgbClr val="00496c"/>
                </a:solidFill>
                <a:latin typeface="Times New Roman"/>
              </a:rPr>
              <a:t>Stat</a:t>
            </a:r>
            <a:endParaRPr b="1" lang="en-US" sz="36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51280" y="1557360"/>
            <a:ext cx="5292720" cy="4464000"/>
          </a:xfrm>
          <a:prstGeom prst="ellipse">
            <a:avLst/>
          </a:prstGeom>
          <a:noFill/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58920" y="2133720"/>
            <a:ext cx="1871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C2000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70520" y="4581360"/>
            <a:ext cx="1905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C2000Z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206064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C2000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1484280"/>
            <a:ext cx="23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Centrum SO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155736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RB SO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35280" y="18795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edf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2276640"/>
            <a:ext cx="2235240" cy="228600"/>
          </a:xfrm>
          <a:prstGeom prst="rightArrow">
            <a:avLst>
              <a:gd name="adj1" fmla="val 25000"/>
              <a:gd name="adj2" fmla="val 153324"/>
            </a:avLst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15200" y="3213000"/>
            <a:ext cx="533160" cy="685800"/>
          </a:xfrm>
          <a:prstGeom prst="flowChartMagneticDisk">
            <a:avLst/>
          </a:prstGeom>
          <a:gradFill rotWithShape="0">
            <a:gsLst>
              <a:gs pos="0">
                <a:srgbClr val="502f75"/>
              </a:gs>
              <a:gs pos="100000">
                <a:srgbClr val="af6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4360" y="3284640"/>
            <a:ext cx="1751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S micro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24000" y="3284640"/>
            <a:ext cx="533520" cy="685800"/>
          </a:xfrm>
          <a:prstGeom prst="flowChartMagneticDisk">
            <a:avLst/>
          </a:prstGeom>
          <a:gradFill rotWithShape="0">
            <a:gsLst>
              <a:gs pos="0">
                <a:srgbClr val="502f75"/>
              </a:gs>
              <a:gs pos="100000">
                <a:srgbClr val="af6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4065000">
            <a:off x="6795360" y="4086000"/>
            <a:ext cx="533520" cy="228600"/>
          </a:xfrm>
          <a:prstGeom prst="rightArrow">
            <a:avLst>
              <a:gd name="adj1" fmla="val 36213"/>
              <a:gd name="adj2" fmla="val 91409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71640" y="3284640"/>
            <a:ext cx="533520" cy="685800"/>
          </a:xfrm>
          <a:prstGeom prst="flowChartMagneticDisk">
            <a:avLst/>
          </a:prstGeom>
          <a:gradFill rotWithShape="0">
            <a:gsLst>
              <a:gs pos="0">
                <a:srgbClr val="502f75"/>
              </a:gs>
              <a:gs pos="100000">
                <a:srgbClr val="af6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63640" y="3933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ME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84360" y="3933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Z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2103480" y="2788920"/>
            <a:ext cx="533160" cy="228600"/>
          </a:xfrm>
          <a:prstGeom prst="rightArrow">
            <a:avLst>
              <a:gd name="adj1" fmla="val 36213"/>
              <a:gd name="adj2" fmla="val 91348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3347640" y="3284280"/>
            <a:ext cx="2879640" cy="215640"/>
          </a:xfrm>
          <a:prstGeom prst="rightArrow">
            <a:avLst>
              <a:gd name="adj1" fmla="val 35296"/>
              <a:gd name="adj2" fmla="val 184729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4692200">
            <a:off x="7011720" y="4012560"/>
            <a:ext cx="533520" cy="228600"/>
          </a:xfrm>
          <a:prstGeom prst="rightArrow">
            <a:avLst>
              <a:gd name="adj1" fmla="val 36213"/>
              <a:gd name="adj2" fmla="val 91409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5400000">
            <a:off x="6290640" y="2760480"/>
            <a:ext cx="533520" cy="228600"/>
          </a:xfrm>
          <a:prstGeom prst="rightArrow">
            <a:avLst>
              <a:gd name="adj1" fmla="val 36213"/>
              <a:gd name="adj2" fmla="val 91409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009200">
            <a:off x="6580080" y="2760480"/>
            <a:ext cx="533520" cy="228600"/>
          </a:xfrm>
          <a:prstGeom prst="rightArrow">
            <a:avLst>
              <a:gd name="adj1" fmla="val 36213"/>
              <a:gd name="adj2" fmla="val 91409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71640" y="573408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DC2000 K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4356000" y="5229000"/>
            <a:ext cx="576360" cy="287280"/>
          </a:xfrm>
          <a:prstGeom prst="rightArrow">
            <a:avLst>
              <a:gd name="adj1" fmla="val 27074"/>
              <a:gd name="adj2" fmla="val 63011"/>
            </a:avLst>
          </a:prstGeom>
          <a:gradFill rotWithShape="0">
            <a:gsLst>
              <a:gs pos="0">
                <a:srgbClr val="99ff66"/>
              </a:gs>
              <a:gs pos="100000">
                <a:srgbClr val="2e7420"/>
              </a:gs>
            </a:gsLst>
            <a:lin ang="5400000"/>
          </a:gradFill>
          <a:ln w="9360">
            <a:solidFill>
              <a:srgbClr val="2e7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22880" y="4546440"/>
            <a:ext cx="1904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C2000S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8566800">
            <a:off x="5724360" y="4063680"/>
            <a:ext cx="719280" cy="301680"/>
          </a:xfrm>
          <a:prstGeom prst="rightArrow">
            <a:avLst>
              <a:gd name="adj1" fmla="val 36213"/>
              <a:gd name="adj2" fmla="val 93383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4437000"/>
            <a:ext cx="1943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C2000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67280" y="3789360"/>
            <a:ext cx="533160" cy="685800"/>
          </a:xfrm>
          <a:prstGeom prst="flowChartMagneticDisk">
            <a:avLst/>
          </a:prstGeom>
          <a:gradFill rotWithShape="0">
            <a:gsLst>
              <a:gs pos="0">
                <a:srgbClr val="502f75"/>
              </a:gs>
              <a:gs pos="100000">
                <a:srgbClr val="af6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9692000">
            <a:off x="3069720" y="4220640"/>
            <a:ext cx="935280" cy="301680"/>
          </a:xfrm>
          <a:prstGeom prst="rightArrow">
            <a:avLst>
              <a:gd name="adj1" fmla="val 36213"/>
              <a:gd name="adj2" fmla="val 121426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1262200">
            <a:off x="4788000" y="3645000"/>
            <a:ext cx="1584360" cy="301680"/>
          </a:xfrm>
          <a:prstGeom prst="rightArrow">
            <a:avLst>
              <a:gd name="adj1" fmla="val 42546"/>
              <a:gd name="adj2" fmla="val 127866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429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temporary DB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2627280" y="5228640"/>
            <a:ext cx="576360" cy="287640"/>
          </a:xfrm>
          <a:prstGeom prst="rightArrow">
            <a:avLst>
              <a:gd name="adj1" fmla="val 27074"/>
              <a:gd name="adj2" fmla="val 62933"/>
            </a:avLst>
          </a:prstGeom>
          <a:gradFill rotWithShape="0">
            <a:gsLst>
              <a:gs pos="0">
                <a:srgbClr val="99ff66"/>
              </a:gs>
              <a:gs pos="100000">
                <a:srgbClr val="2e7420"/>
              </a:gs>
            </a:gsLst>
            <a:lin ang="5400000"/>
          </a:gradFill>
          <a:ln w="9360">
            <a:solidFill>
              <a:srgbClr val="2e7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2708280"/>
            <a:ext cx="2016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C2000RegS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3645000"/>
            <a:ext cx="533160" cy="685800"/>
          </a:xfrm>
          <a:prstGeom prst="flowChartMagneticDisk">
            <a:avLst/>
          </a:prstGeom>
          <a:gradFill rotWithShape="0">
            <a:gsLst>
              <a:gs pos="0">
                <a:srgbClr val="502f75"/>
              </a:gs>
              <a:gs pos="100000">
                <a:srgbClr val="af6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8364800">
            <a:off x="818640" y="3294000"/>
            <a:ext cx="533520" cy="228600"/>
          </a:xfrm>
          <a:prstGeom prst="rightArrow">
            <a:avLst>
              <a:gd name="adj1" fmla="val 36213"/>
              <a:gd name="adj2" fmla="val 91409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3493400">
            <a:off x="842760" y="4082400"/>
            <a:ext cx="453960" cy="228600"/>
          </a:xfrm>
          <a:prstGeom prst="rightArrow">
            <a:avLst>
              <a:gd name="adj1" fmla="val 36213"/>
              <a:gd name="adj2" fmla="val 77778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2884200">
            <a:off x="659160" y="4408920"/>
            <a:ext cx="414360" cy="228600"/>
          </a:xfrm>
          <a:prstGeom prst="rightArrow">
            <a:avLst>
              <a:gd name="adj1" fmla="val 36213"/>
              <a:gd name="adj2" fmla="val 70993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33526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DBS of respon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484280"/>
            <a:ext cx="3733920" cy="4465800"/>
          </a:xfrm>
          <a:prstGeom prst="ellipse">
            <a:avLst/>
          </a:prstGeom>
          <a:noFill/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62373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rot="16146600">
            <a:off x="4501800" y="4528800"/>
            <a:ext cx="2713320" cy="1710000"/>
          </a:xfrm>
          <a:custGeom>
            <a:avLst/>
            <a:gdLst>
              <a:gd name="textAreaLeft" fmla="*/ 838080 w 2713320"/>
              <a:gd name="textAreaRight" fmla="*/ 2534040 w 2713320"/>
              <a:gd name="textAreaTop" fmla="*/ 1501920 h 1710000"/>
              <a:gd name="textAreaBottom" fmla="*/ 1596960 h 1710000"/>
            </a:gdLst>
            <a:ahLst/>
            <a:rect l="textAreaLeft" t="textAreaTop" r="textAreaRight" b="textAreaBottom"/>
            <a:pathLst>
              <a:path w="21600" h="21600">
                <a:moveTo>
                  <a:pt x="0" y="20398"/>
                </a:moveTo>
                <a:lnTo>
                  <a:pt x="18969" y="20398"/>
                </a:lnTo>
                <a:lnTo>
                  <a:pt x="18969" y="6672"/>
                </a:lnTo>
                <a:lnTo>
                  <a:pt x="17540" y="6672"/>
                </a:lnTo>
                <a:lnTo>
                  <a:pt x="19570" y="0"/>
                </a:lnTo>
                <a:lnTo>
                  <a:pt x="21600" y="6672"/>
                </a:lnTo>
                <a:lnTo>
                  <a:pt x="20171" y="6672"/>
                </a:lnTo>
                <a:lnTo>
                  <a:pt x="2017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3333cc"/>
              </a:gs>
            </a:gsLst>
            <a:lin ang="21546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rot="13200">
            <a:off x="1393200" y="5877000"/>
            <a:ext cx="1228680" cy="790560"/>
          </a:xfrm>
          <a:custGeom>
            <a:avLst/>
            <a:gdLst>
              <a:gd name="textAreaLeft" fmla="*/ 342720 w 1228680"/>
              <a:gd name="textAreaRight" fmla="*/ 1102680 w 1228680"/>
              <a:gd name="textAreaTop" fmla="*/ 604440 h 790560"/>
              <a:gd name="textAreaBottom" fmla="*/ 709560 h 790560"/>
            </a:gdLst>
            <a:ahLst/>
            <a:rect l="textAreaLeft" t="textAreaTop" r="textAreaRight" b="textAreaBottom"/>
            <a:pathLst>
              <a:path w="21600" h="21600">
                <a:moveTo>
                  <a:pt x="0" y="18727"/>
                </a:moveTo>
                <a:lnTo>
                  <a:pt x="16512" y="18727"/>
                </a:lnTo>
                <a:lnTo>
                  <a:pt x="16512" y="6025"/>
                </a:lnTo>
                <a:lnTo>
                  <a:pt x="14297" y="6025"/>
                </a:lnTo>
                <a:lnTo>
                  <a:pt x="17949" y="0"/>
                </a:lnTo>
                <a:lnTo>
                  <a:pt x="21600" y="6025"/>
                </a:lnTo>
                <a:lnTo>
                  <a:pt x="19385" y="6025"/>
                </a:lnTo>
                <a:lnTo>
                  <a:pt x="1938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3333cc"/>
              </a:gs>
            </a:gsLst>
            <a:lin ang="5412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5157720"/>
            <a:ext cx="533160" cy="685800"/>
          </a:xfrm>
          <a:prstGeom prst="flowChartMagneticDisk">
            <a:avLst/>
          </a:prstGeom>
          <a:gradFill rotWithShape="0">
            <a:gsLst>
              <a:gs pos="0">
                <a:srgbClr val="502f75"/>
              </a:gs>
              <a:gs pos="100000">
                <a:srgbClr val="af6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7976000">
            <a:off x="1760040" y="5097240"/>
            <a:ext cx="647640" cy="228600"/>
          </a:xfrm>
          <a:prstGeom prst="rightArrow">
            <a:avLst>
              <a:gd name="adj1" fmla="val 36213"/>
              <a:gd name="adj2" fmla="val 110962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4424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9280" y="5300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webStat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50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500"/>
                            </p:stCondLst>
                            <p:childTnLst>
                              <p:par>
                                <p:cTn id="3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7000"/>
                            </p:stCondLst>
                            <p:childTnLst>
                              <p:par>
                                <p:cTn id="3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500"/>
                            </p:stCondLst>
                            <p:childTnLst>
                              <p:par>
                                <p:cTn id="3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800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8500"/>
                            </p:stCondLst>
                            <p:childTnLst>
                              <p:par>
                                <p:cTn id="3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9000"/>
                            </p:stCondLst>
                            <p:childTnLst>
                              <p:par>
                                <p:cTn id="3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9500"/>
                            </p:stCondLst>
                            <p:childTnLst>
                              <p:par>
                                <p:cTn id="3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3500"/>
                            </p:stCondLst>
                            <p:childTnLst>
                              <p:par>
                                <p:cTn id="3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4500"/>
                            </p:stCondLst>
                            <p:childTnLst>
                              <p:par>
                                <p:cTn id="4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92000" y="1052640"/>
            <a:ext cx="63370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00496c"/>
                </a:solidFill>
                <a:latin typeface="Times New Roman"/>
              </a:rPr>
              <a:t>web</a:t>
            </a:r>
            <a:r>
              <a:rPr b="1" lang="sk-SK" sz="3600" spc="-1" strike="noStrike">
                <a:solidFill>
                  <a:srgbClr val="00496c"/>
                </a:solidFill>
                <a:latin typeface="Times New Roman"/>
              </a:rPr>
              <a:t>Stat</a:t>
            </a:r>
            <a:endParaRPr b="1" lang="en-US" sz="36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51280" y="1557360"/>
            <a:ext cx="5292720" cy="4464000"/>
          </a:xfrm>
          <a:prstGeom prst="ellipse">
            <a:avLst/>
          </a:prstGeom>
          <a:noFill/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8920" y="2133720"/>
            <a:ext cx="1871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C2000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70520" y="4581360"/>
            <a:ext cx="1905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C2000Z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80000" y="206064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C2000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1484280"/>
            <a:ext cx="23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Centrum SO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155736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RB SO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5280" y="18795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edf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2276640"/>
            <a:ext cx="2235240" cy="228600"/>
          </a:xfrm>
          <a:prstGeom prst="rightArrow">
            <a:avLst>
              <a:gd name="adj1" fmla="val 25000"/>
              <a:gd name="adj2" fmla="val 153324"/>
            </a:avLst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15200" y="3213000"/>
            <a:ext cx="533160" cy="685800"/>
          </a:xfrm>
          <a:prstGeom prst="flowChartMagneticDisk">
            <a:avLst/>
          </a:prstGeom>
          <a:gradFill rotWithShape="0">
            <a:gsLst>
              <a:gs pos="0">
                <a:srgbClr val="502f75"/>
              </a:gs>
              <a:gs pos="100000">
                <a:srgbClr val="af6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64360" y="3284640"/>
            <a:ext cx="1751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S micro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284640"/>
            <a:ext cx="533520" cy="685800"/>
          </a:xfrm>
          <a:prstGeom prst="flowChartMagneticDisk">
            <a:avLst/>
          </a:prstGeom>
          <a:gradFill rotWithShape="0">
            <a:gsLst>
              <a:gs pos="0">
                <a:srgbClr val="502f75"/>
              </a:gs>
              <a:gs pos="100000">
                <a:srgbClr val="af6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4065000">
            <a:off x="6795360" y="4086000"/>
            <a:ext cx="533520" cy="228600"/>
          </a:xfrm>
          <a:prstGeom prst="rightArrow">
            <a:avLst>
              <a:gd name="adj1" fmla="val 36213"/>
              <a:gd name="adj2" fmla="val 91409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71640" y="3284640"/>
            <a:ext cx="533520" cy="685800"/>
          </a:xfrm>
          <a:prstGeom prst="flowChartMagneticDisk">
            <a:avLst/>
          </a:prstGeom>
          <a:gradFill rotWithShape="0">
            <a:gsLst>
              <a:gs pos="0">
                <a:srgbClr val="502f75"/>
              </a:gs>
              <a:gs pos="100000">
                <a:srgbClr val="af6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3933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ME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84360" y="3933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Z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103480" y="2788920"/>
            <a:ext cx="533160" cy="228600"/>
          </a:xfrm>
          <a:prstGeom prst="rightArrow">
            <a:avLst>
              <a:gd name="adj1" fmla="val 36213"/>
              <a:gd name="adj2" fmla="val 91348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0800000">
            <a:off x="3347640" y="3284280"/>
            <a:ext cx="2879640" cy="215640"/>
          </a:xfrm>
          <a:prstGeom prst="rightArrow">
            <a:avLst>
              <a:gd name="adj1" fmla="val 35296"/>
              <a:gd name="adj2" fmla="val 184729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4692200">
            <a:off x="7011720" y="4012560"/>
            <a:ext cx="533520" cy="228600"/>
          </a:xfrm>
          <a:prstGeom prst="rightArrow">
            <a:avLst>
              <a:gd name="adj1" fmla="val 36213"/>
              <a:gd name="adj2" fmla="val 91409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6290640" y="2760480"/>
            <a:ext cx="533520" cy="228600"/>
          </a:xfrm>
          <a:prstGeom prst="rightArrow">
            <a:avLst>
              <a:gd name="adj1" fmla="val 36213"/>
              <a:gd name="adj2" fmla="val 91409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009200">
            <a:off x="6580080" y="2760480"/>
            <a:ext cx="533520" cy="228600"/>
          </a:xfrm>
          <a:prstGeom prst="rightArrow">
            <a:avLst>
              <a:gd name="adj1" fmla="val 36213"/>
              <a:gd name="adj2" fmla="val 91409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8566800">
            <a:off x="5724360" y="4063680"/>
            <a:ext cx="719280" cy="301680"/>
          </a:xfrm>
          <a:prstGeom prst="rightArrow">
            <a:avLst>
              <a:gd name="adj1" fmla="val 36213"/>
              <a:gd name="adj2" fmla="val 93383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16000" y="4437000"/>
            <a:ext cx="1943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C2000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67280" y="3789360"/>
            <a:ext cx="533160" cy="685800"/>
          </a:xfrm>
          <a:prstGeom prst="flowChartMagneticDisk">
            <a:avLst/>
          </a:prstGeom>
          <a:gradFill rotWithShape="0">
            <a:gsLst>
              <a:gs pos="0">
                <a:srgbClr val="502f75"/>
              </a:gs>
              <a:gs pos="100000">
                <a:srgbClr val="af6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692000">
            <a:off x="3069720" y="4220640"/>
            <a:ext cx="935280" cy="301680"/>
          </a:xfrm>
          <a:prstGeom prst="rightArrow">
            <a:avLst>
              <a:gd name="adj1" fmla="val 36213"/>
              <a:gd name="adj2" fmla="val 121426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1262200">
            <a:off x="4788000" y="3645000"/>
            <a:ext cx="1584360" cy="301680"/>
          </a:xfrm>
          <a:prstGeom prst="rightArrow">
            <a:avLst>
              <a:gd name="adj1" fmla="val 42546"/>
              <a:gd name="adj2" fmla="val 127866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3429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temporary DB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9280" y="2708280"/>
            <a:ext cx="2016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C2000RegS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3645000"/>
            <a:ext cx="533160" cy="685800"/>
          </a:xfrm>
          <a:prstGeom prst="flowChartMagneticDisk">
            <a:avLst/>
          </a:prstGeom>
          <a:gradFill rotWithShape="0">
            <a:gsLst>
              <a:gs pos="0">
                <a:srgbClr val="502f75"/>
              </a:gs>
              <a:gs pos="100000">
                <a:srgbClr val="af6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8364800">
            <a:off x="818640" y="3294000"/>
            <a:ext cx="533520" cy="228600"/>
          </a:xfrm>
          <a:prstGeom prst="rightArrow">
            <a:avLst>
              <a:gd name="adj1" fmla="val 36213"/>
              <a:gd name="adj2" fmla="val 91409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3493400">
            <a:off x="842760" y="4082400"/>
            <a:ext cx="453960" cy="228600"/>
          </a:xfrm>
          <a:prstGeom prst="rightArrow">
            <a:avLst>
              <a:gd name="adj1" fmla="val 36213"/>
              <a:gd name="adj2" fmla="val 77778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884200">
            <a:off x="659160" y="4408920"/>
            <a:ext cx="414360" cy="228600"/>
          </a:xfrm>
          <a:prstGeom prst="rightArrow">
            <a:avLst>
              <a:gd name="adj1" fmla="val 36213"/>
              <a:gd name="adj2" fmla="val 70993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33526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DBS of respon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484280"/>
            <a:ext cx="3733920" cy="4465800"/>
          </a:xfrm>
          <a:prstGeom prst="ellipse">
            <a:avLst/>
          </a:prstGeom>
          <a:noFill/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71640" y="62373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rot="16146600">
            <a:off x="4501800" y="4528800"/>
            <a:ext cx="2713320" cy="1710000"/>
          </a:xfrm>
          <a:custGeom>
            <a:avLst/>
            <a:gdLst>
              <a:gd name="textAreaLeft" fmla="*/ 838080 w 2713320"/>
              <a:gd name="textAreaRight" fmla="*/ 2534040 w 2713320"/>
              <a:gd name="textAreaTop" fmla="*/ 1501920 h 1710000"/>
              <a:gd name="textAreaBottom" fmla="*/ 1596960 h 1710000"/>
            </a:gdLst>
            <a:ahLst/>
            <a:rect l="textAreaLeft" t="textAreaTop" r="textAreaRight" b="textAreaBottom"/>
            <a:pathLst>
              <a:path w="21600" h="21600">
                <a:moveTo>
                  <a:pt x="0" y="20398"/>
                </a:moveTo>
                <a:lnTo>
                  <a:pt x="18969" y="20398"/>
                </a:lnTo>
                <a:lnTo>
                  <a:pt x="18969" y="6672"/>
                </a:lnTo>
                <a:lnTo>
                  <a:pt x="17540" y="6672"/>
                </a:lnTo>
                <a:lnTo>
                  <a:pt x="19570" y="0"/>
                </a:lnTo>
                <a:lnTo>
                  <a:pt x="21600" y="6672"/>
                </a:lnTo>
                <a:lnTo>
                  <a:pt x="20171" y="6672"/>
                </a:lnTo>
                <a:lnTo>
                  <a:pt x="2017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3333cc"/>
              </a:gs>
            </a:gsLst>
            <a:lin ang="21546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rot="13200">
            <a:off x="1393200" y="5877000"/>
            <a:ext cx="1228680" cy="790560"/>
          </a:xfrm>
          <a:custGeom>
            <a:avLst/>
            <a:gdLst>
              <a:gd name="textAreaLeft" fmla="*/ 342720 w 1228680"/>
              <a:gd name="textAreaRight" fmla="*/ 1102680 w 1228680"/>
              <a:gd name="textAreaTop" fmla="*/ 604440 h 790560"/>
              <a:gd name="textAreaBottom" fmla="*/ 709560 h 790560"/>
            </a:gdLst>
            <a:ahLst/>
            <a:rect l="textAreaLeft" t="textAreaTop" r="textAreaRight" b="textAreaBottom"/>
            <a:pathLst>
              <a:path w="21600" h="21600">
                <a:moveTo>
                  <a:pt x="0" y="18727"/>
                </a:moveTo>
                <a:lnTo>
                  <a:pt x="16512" y="18727"/>
                </a:lnTo>
                <a:lnTo>
                  <a:pt x="16512" y="6025"/>
                </a:lnTo>
                <a:lnTo>
                  <a:pt x="14297" y="6025"/>
                </a:lnTo>
                <a:lnTo>
                  <a:pt x="17949" y="0"/>
                </a:lnTo>
                <a:lnTo>
                  <a:pt x="21600" y="6025"/>
                </a:lnTo>
                <a:lnTo>
                  <a:pt x="19385" y="6025"/>
                </a:lnTo>
                <a:lnTo>
                  <a:pt x="1938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3333cc"/>
              </a:gs>
            </a:gsLst>
            <a:lin ang="5412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5157720"/>
            <a:ext cx="533160" cy="685800"/>
          </a:xfrm>
          <a:prstGeom prst="flowChartMagneticDisk">
            <a:avLst/>
          </a:prstGeom>
          <a:gradFill rotWithShape="0">
            <a:gsLst>
              <a:gs pos="0">
                <a:srgbClr val="502f75"/>
              </a:gs>
              <a:gs pos="100000">
                <a:srgbClr val="af6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7976000">
            <a:off x="1760040" y="5097240"/>
            <a:ext cx="647640" cy="228600"/>
          </a:xfrm>
          <a:prstGeom prst="rightArrow">
            <a:avLst>
              <a:gd name="adj1" fmla="val 36213"/>
              <a:gd name="adj2" fmla="val 110962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4424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9280" y="5300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webStat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500"/>
                            </p:stCondLst>
                            <p:childTnLst>
                              <p:par>
                                <p:cTn id="4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500"/>
                            </p:stCondLst>
                            <p:childTnLst>
                              <p:par>
                                <p:cTn id="4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000"/>
                            </p:stCondLst>
                            <p:childTnLst>
                              <p:par>
                                <p:cTn id="4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500"/>
                            </p:stCondLst>
                            <p:childTnLst>
                              <p:par>
                                <p:cTn id="5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000"/>
                            </p:stCondLst>
                            <p:childTnLst>
                              <p:par>
                                <p:cTn id="5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7500"/>
                            </p:stCondLst>
                            <p:childTnLst>
                              <p:par>
                                <p:cTn id="5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8000"/>
                            </p:stCondLst>
                            <p:childTnLst>
                              <p:par>
                                <p:cTn id="5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500"/>
                            </p:stCondLst>
                            <p:childTnLst>
                              <p:par>
                                <p:cTn id="5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9000"/>
                            </p:stCondLst>
                            <p:childTnLst>
                              <p:par>
                                <p:cTn id="5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9500"/>
                            </p:stCondLst>
                            <p:childTnLst>
                              <p:par>
                                <p:cTn id="5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26920" y="119700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496c"/>
                </a:solidFill>
                <a:latin typeface="Times New Roman"/>
              </a:rPr>
              <a:t>web</a:t>
            </a:r>
            <a:r>
              <a:rPr b="1" lang="cs-CZ" sz="4000" spc="-1" strike="noStrike">
                <a:solidFill>
                  <a:srgbClr val="00496c"/>
                </a:solidFill>
                <a:latin typeface="Times New Roman"/>
              </a:rPr>
              <a:t>Stat required featur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4360" y="407664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496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6c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00496c"/>
                </a:solidFill>
                <a:latin typeface="Times New Roman"/>
              </a:rPr>
              <a:t>user 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924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496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6c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00496c"/>
                </a:solidFill>
                <a:latin typeface="Times New Roman"/>
              </a:rPr>
              <a:t>acce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3500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496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496c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00496c"/>
                </a:solidFill>
                <a:latin typeface="Times New Roman"/>
              </a:rPr>
              <a:t>simplic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572680" cy="66866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85840" y="85680"/>
            <a:ext cx="8572320" cy="66866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85840" y="85680"/>
            <a:ext cx="8572320" cy="66866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85840" y="85680"/>
            <a:ext cx="8572320" cy="66866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85840" y="85680"/>
            <a:ext cx="8572320" cy="66866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52480" y="2971440"/>
            <a:ext cx="6337440" cy="4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496c"/>
                </a:solidFill>
                <a:latin typeface="Times New Roman"/>
              </a:rPr>
              <a:t>Generating of the questionner in use</a:t>
            </a:r>
            <a:endParaRPr b="1" lang="en-US" sz="2000" spc="-1" strike="noStrike">
              <a:solidFill>
                <a:srgbClr val="00496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85840" y="85680"/>
            <a:ext cx="8572320" cy="66866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1052640"/>
            <a:ext cx="63370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96c"/>
                </a:solidFill>
                <a:latin typeface="Arial Narrow"/>
                <a:ea typeface="Times New Roman"/>
              </a:rPr>
              <a:t>Introduction</a:t>
            </a:r>
            <a:r>
              <a:rPr b="1" lang="cs-CZ" sz="4000" spc="-1" strike="noStrike">
                <a:solidFill>
                  <a:srgbClr val="00496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96c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96c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96c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96c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49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6c"/>
                </a:solidFill>
                <a:latin typeface="Arial"/>
                <a:ea typeface="Times New Roman"/>
              </a:rPr>
              <a:t>Electronic data collection in SOSR from 2001 by e-DC2000</a:t>
            </a:r>
            <a:r>
              <a:rPr b="1" lang="cs-CZ" sz="2400" spc="-1" strike="noStrike">
                <a:solidFill>
                  <a:srgbClr val="00496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496c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6c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49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6c"/>
                </a:solidFill>
                <a:latin typeface="Arial"/>
                <a:ea typeface="Times New Roman"/>
              </a:rPr>
              <a:t>In 2006 data from 13 questionnaires</a:t>
            </a:r>
            <a:r>
              <a:rPr b="1" lang="sk-SK" sz="2400" spc="-1" strike="noStrike">
                <a:solidFill>
                  <a:srgbClr val="00496c"/>
                </a:solidFill>
                <a:latin typeface="Arial"/>
              </a:rPr>
              <a:t> (about 10%)</a:t>
            </a:r>
            <a:r>
              <a:rPr b="1" lang="en-US" sz="2400" spc="-1" strike="noStrike">
                <a:solidFill>
                  <a:srgbClr val="00496c"/>
                </a:solidFill>
                <a:latin typeface="Arial"/>
                <a:ea typeface="Times New Roman"/>
              </a:rPr>
              <a:t> are electronically collected</a:t>
            </a:r>
            <a:r>
              <a:rPr b="1" lang="cs-CZ" sz="2400" spc="-1" strike="noStrike">
                <a:solidFill>
                  <a:srgbClr val="00496c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496c"/>
                </a:solidFill>
                <a:latin typeface="Arial"/>
              </a:rPr>
              <a:t>by e-mail </a:t>
            </a:r>
            <a:r>
              <a:rPr b="1" lang="en-GB" sz="2400" spc="-1" strike="noStrike">
                <a:solidFill>
                  <a:srgbClr val="00496c"/>
                </a:solidFill>
                <a:latin typeface="Arial"/>
              </a:rPr>
              <a:t>communication.</a:t>
            </a:r>
            <a:endParaRPr b="0" lang="en-US" sz="2400" spc="-1" strike="noStrike">
              <a:solidFill>
                <a:srgbClr val="00496c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6c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49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96c"/>
                </a:solidFill>
                <a:latin typeface="Arial"/>
              </a:rPr>
              <a:t>System </a:t>
            </a:r>
            <a:r>
              <a:rPr b="1" i="1" lang="en-GB" sz="2400" spc="-1" strike="noStrike">
                <a:solidFill>
                  <a:srgbClr val="00496c"/>
                </a:solidFill>
                <a:latin typeface="Arial"/>
              </a:rPr>
              <a:t>web</a:t>
            </a:r>
            <a:r>
              <a:rPr b="1" lang="en-GB" sz="2400" spc="-1" strike="noStrike">
                <a:solidFill>
                  <a:srgbClr val="00496c"/>
                </a:solidFill>
                <a:latin typeface="Arial"/>
              </a:rPr>
              <a:t>Stat   is full web technology</a:t>
            </a:r>
            <a:r>
              <a:rPr b="1" lang="sk-SK" sz="2400" spc="-1" strike="noStrike">
                <a:solidFill>
                  <a:srgbClr val="00496c"/>
                </a:solidFill>
                <a:latin typeface="Arial"/>
              </a:rPr>
              <a:t> by Internet</a:t>
            </a:r>
            <a:endParaRPr b="0" lang="en-US" sz="2400" spc="-1" strike="noStrike">
              <a:solidFill>
                <a:srgbClr val="00496c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496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496c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6c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85840" y="85680"/>
            <a:ext cx="8572320" cy="66866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85840" y="85680"/>
            <a:ext cx="8572320" cy="66866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946080"/>
            <a:ext cx="6337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55640" y="98100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96c"/>
                </a:solidFill>
                <a:latin typeface="Times New Roman"/>
              </a:rPr>
              <a:t> </a:t>
            </a:r>
            <a:r>
              <a:rPr b="1" lang="sk-SK" sz="4000" spc="-1" strike="noStrike">
                <a:solidFill>
                  <a:srgbClr val="00496c"/>
                </a:solidFill>
                <a:latin typeface="Arial"/>
              </a:rPr>
              <a:t>Administration of the </a:t>
            </a:r>
            <a:r>
              <a:rPr b="1" i="1" lang="cs-CZ" sz="4000" spc="-1" strike="noStrike">
                <a:solidFill>
                  <a:srgbClr val="00496c"/>
                </a:solidFill>
                <a:latin typeface="Arial"/>
              </a:rPr>
              <a:t>web</a:t>
            </a:r>
            <a:r>
              <a:rPr b="1" lang="cs-CZ" sz="4000" spc="-1" strike="noStrike">
                <a:solidFill>
                  <a:srgbClr val="00496c"/>
                </a:solidFill>
                <a:latin typeface="Arial"/>
              </a:rPr>
              <a:t>St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9640" y="2637000"/>
            <a:ext cx="829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496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496c"/>
                </a:solidFill>
                <a:latin typeface="Times New Roman"/>
              </a:rPr>
              <a:t>  </a:t>
            </a:r>
            <a:r>
              <a:rPr b="1" lang="sk-SK" sz="3200" spc="-1" strike="noStrike">
                <a:solidFill>
                  <a:srgbClr val="00496c"/>
                </a:solidFill>
                <a:latin typeface="Arial"/>
              </a:rPr>
              <a:t>no administration in regional branch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496c"/>
                </a:solidFill>
                <a:latin typeface="Arial"/>
              </a:rPr>
              <a:t>   </a:t>
            </a:r>
            <a:r>
              <a:rPr b="1" lang="sk-SK" sz="3200" spc="-1" strike="noStrike">
                <a:solidFill>
                  <a:srgbClr val="00496c"/>
                </a:solidFill>
                <a:latin typeface="Arial"/>
              </a:rPr>
              <a:t>SO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39625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496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496c"/>
                </a:solidFill>
                <a:latin typeface="Times New Roman"/>
              </a:rPr>
              <a:t>  </a:t>
            </a:r>
            <a:r>
              <a:rPr b="1" lang="sk-SK" sz="3200" spc="-1" strike="noStrike">
                <a:solidFill>
                  <a:srgbClr val="00496c"/>
                </a:solidFill>
                <a:latin typeface="Arial"/>
              </a:rPr>
              <a:t>administration in centrum  SOSR</a:t>
            </a:r>
            <a:r>
              <a:rPr b="1" lang="cs-CZ" sz="3200" spc="-1" strike="noStrike">
                <a:solidFill>
                  <a:srgbClr val="276f6a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496c"/>
                </a:solidFill>
                <a:latin typeface="Arial"/>
              </a:rPr>
              <a:t>only in the case of the increasing of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11280" y="83664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96c"/>
                </a:solidFill>
                <a:latin typeface="Arial"/>
              </a:rPr>
              <a:t>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184464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49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6c"/>
                </a:solidFill>
                <a:latin typeface="Arial"/>
              </a:rPr>
              <a:t>DBS : Or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1280" y="2492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9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6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496c"/>
                </a:solidFill>
                <a:latin typeface="Arial"/>
              </a:rPr>
              <a:t>Web server: Apache (PH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31417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9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6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496c"/>
                </a:solidFill>
                <a:latin typeface="Arial"/>
              </a:rPr>
              <a:t>Script language :  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1280" y="41497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9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6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496c"/>
                </a:solidFill>
                <a:latin typeface="Arial"/>
              </a:rPr>
              <a:t>Supported browsers: IE, Mozilla Firefox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496c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496c"/>
                </a:solidFill>
                <a:latin typeface="Arial"/>
              </a:rPr>
              <a:t>Op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1280" y="51577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9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6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496c"/>
                </a:solidFill>
                <a:latin typeface="Arial"/>
              </a:rPr>
              <a:t>Supported : 1024 x 768 pixels  and m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4360" y="9810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496c"/>
                </a:solidFill>
                <a:latin typeface="Arial"/>
              </a:rPr>
              <a:t>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2819520"/>
            <a:ext cx="80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9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496c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496c"/>
                </a:solidFill>
                <a:latin typeface="Arial"/>
              </a:rPr>
              <a:t>Accesibility to integrate with  system WebJ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496c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496c"/>
                </a:solidFill>
                <a:latin typeface="Arial"/>
              </a:rPr>
              <a:t>(web portal SOS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1981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9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496c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496c"/>
                </a:solidFill>
                <a:latin typeface="Arial"/>
              </a:rPr>
              <a:t>Centralis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41911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9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6c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496c"/>
                </a:solidFill>
                <a:latin typeface="Arial"/>
              </a:rPr>
              <a:t>User friend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84360" y="263700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496c"/>
                </a:solidFill>
                <a:latin typeface="Times New Roman"/>
              </a:rPr>
              <a:t>Q u e s t i o n s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4572000"/>
            <a:ext cx="464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3520" y="3657600"/>
            <a:ext cx="502920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Vladimir MIROSSAY</a:t>
            </a:r>
            <a:br>
              <a:rPr sz="1800"/>
            </a:br>
            <a:r>
              <a:rPr b="0" lang="sk-SK" sz="18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Director General </a:t>
            </a:r>
            <a:br>
              <a:rPr sz="1800"/>
            </a:br>
            <a:r>
              <a:rPr b="0" lang="sk-SK" sz="18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Section of the Methodology and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Statistical Office of the Slovak Republic </a:t>
            </a:r>
            <a:br>
              <a:rPr sz="1800"/>
            </a:br>
            <a:r>
              <a:rPr b="0" lang="sk-SK" sz="18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Mileticova 3 </a:t>
            </a:r>
            <a:br>
              <a:rPr sz="1800"/>
            </a:br>
            <a:r>
              <a:rPr b="0" lang="sk-SK" sz="18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824 67 Bratislava 26 </a:t>
            </a:r>
            <a:br>
              <a:rPr sz="1800"/>
            </a:br>
            <a:r>
              <a:rPr b="0" lang="sk-SK" sz="18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Slovak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Tel: +421 2 50 23 62 50 </a:t>
            </a:r>
            <a:br>
              <a:rPr sz="1800"/>
            </a:br>
            <a:r>
              <a:rPr b="0" lang="sk-SK" sz="18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Fax: +421 2 55 56 15 4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80"/>
                </a:solidFill>
                <a:latin typeface="Arial Narrow"/>
              </a:rPr>
              <a:t>Vladimir.Mirossay@statistics.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943600" y="3733920"/>
            <a:ext cx="3048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38098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96c"/>
                </a:solidFill>
                <a:latin typeface="Times New Roman"/>
              </a:rPr>
              <a:t>http://www.partnersoft.sk/index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84360" y="26370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496c"/>
                </a:solidFill>
                <a:latin typeface="Arial"/>
              </a:rPr>
              <a:t>Thank you </a:t>
            </a:r>
            <a:r>
              <a:rPr b="1" lang="fr-LU" sz="3200" spc="-1" strike="noStrike">
                <a:solidFill>
                  <a:srgbClr val="00496c"/>
                </a:solidFill>
                <a:latin typeface="Arial"/>
              </a:rPr>
              <a:t>for</a:t>
            </a:r>
            <a:r>
              <a:rPr b="0" lang="fr-LU" sz="3200" spc="-1" strike="noStrike">
                <a:solidFill>
                  <a:srgbClr val="00496c"/>
                </a:solidFill>
                <a:latin typeface="Arial"/>
              </a:rPr>
              <a:t> </a:t>
            </a:r>
            <a:r>
              <a:rPr b="1" lang="fr-LU" sz="3200" spc="-1" strike="noStrike">
                <a:solidFill>
                  <a:srgbClr val="00496c"/>
                </a:solidFill>
                <a:latin typeface="Arial"/>
              </a:rPr>
              <a:t>your</a:t>
            </a:r>
            <a:r>
              <a:rPr b="1" lang="fr-CH" sz="3200" spc="-1" strike="noStrike">
                <a:solidFill>
                  <a:srgbClr val="00496c"/>
                </a:solidFill>
                <a:latin typeface="Arial"/>
              </a:rPr>
              <a:t>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2000" y="1052640"/>
            <a:ext cx="63370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96c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91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96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49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496c"/>
                </a:solidFill>
                <a:latin typeface="Arial"/>
              </a:rPr>
              <a:t>Acce</a:t>
            </a:r>
            <a:r>
              <a:rPr b="1" lang="en-US" sz="3200" spc="-1" strike="noStrike">
                <a:solidFill>
                  <a:srgbClr val="00496c"/>
                </a:solidFill>
                <a:latin typeface="Arial"/>
              </a:rPr>
              <a:t>ssibility for</a:t>
            </a:r>
            <a:r>
              <a:rPr b="1" lang="sk-SK" sz="3200" spc="-1" strike="noStrike">
                <a:solidFill>
                  <a:srgbClr val="00496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496c"/>
                </a:solidFill>
                <a:latin typeface="Arial"/>
              </a:rPr>
              <a:t>all  standard questioners (USF – Unified Statistical Formulary</a:t>
            </a:r>
            <a:r>
              <a:rPr b="1" lang="sk-SK" sz="3200" spc="-1" strike="noStrike">
                <a:solidFill>
                  <a:srgbClr val="00496c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00496c"/>
                </a:solidFill>
                <a:latin typeface="Arial"/>
              </a:rPr>
              <a:t>described  in  AŠIS</a:t>
            </a:r>
            <a:r>
              <a:rPr b="1" lang="sk-SK" sz="3200" spc="-1" strike="noStrike">
                <a:solidFill>
                  <a:srgbClr val="00496c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00496c"/>
                </a:solidFill>
                <a:latin typeface="Arial"/>
              </a:rPr>
              <a:t>Automatically Statistical Information System</a:t>
            </a:r>
            <a:r>
              <a:rPr b="0" lang="en-US" sz="3200" spc="-1" strike="noStrike">
                <a:solidFill>
                  <a:srgbClr val="00496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496c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1294920"/>
            <a:ext cx="63370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96c"/>
                </a:solidFill>
                <a:latin typeface="Arial"/>
              </a:rPr>
              <a:t>Present</a:t>
            </a:r>
            <a:br>
              <a:rPr sz="4000"/>
            </a:b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49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96c"/>
                </a:solidFill>
                <a:latin typeface="Arial"/>
              </a:rPr>
              <a:t>System DC2000 (paper form of  the questionnaire )</a:t>
            </a:r>
            <a:endParaRPr b="0" lang="en-US" sz="3200" spc="-1" strike="noStrike">
              <a:solidFill>
                <a:srgbClr val="00496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49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96c"/>
                </a:solidFill>
                <a:latin typeface="Arial"/>
              </a:rPr>
              <a:t>System eDC2000 – wide–spread  DC2000 (electronically  form of  the questionnaire – sending questionnaire by e-mail)</a:t>
            </a:r>
            <a:endParaRPr b="0" lang="en-US" sz="3200" spc="-1" strike="noStrike">
              <a:solidFill>
                <a:srgbClr val="00496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2000" y="1052640"/>
            <a:ext cx="63370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96c"/>
                </a:solidFill>
                <a:latin typeface="Arial"/>
              </a:rPr>
              <a:t>DC2000</a:t>
            </a: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6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9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6c"/>
                </a:solidFill>
                <a:latin typeface="Arial"/>
              </a:rPr>
              <a:t>Control definition in questionnaire (DC2000Kon)</a:t>
            </a: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9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6c"/>
                </a:solidFill>
                <a:latin typeface="Arial"/>
              </a:rPr>
              <a:t>Preparing questionnaire for typing (DC2000Admin)</a:t>
            </a: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9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496c"/>
                </a:solidFill>
                <a:latin typeface="Arial"/>
              </a:rPr>
              <a:t>Data t</a:t>
            </a:r>
            <a:r>
              <a:rPr b="1" lang="en-US" sz="2800" spc="-1" strike="noStrike">
                <a:solidFill>
                  <a:srgbClr val="00496c"/>
                </a:solidFill>
                <a:latin typeface="Arial"/>
              </a:rPr>
              <a:t>yping (DC2000Zber</a:t>
            </a:r>
            <a:r>
              <a:rPr b="1" lang="sk-SK" sz="2800" spc="-1" strike="noStrike">
                <a:solidFill>
                  <a:srgbClr val="00496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496c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496c"/>
                </a:solidFill>
                <a:latin typeface="Arial"/>
              </a:rPr>
              <a:t>en</a:t>
            </a:r>
            <a:r>
              <a:rPr b="1" lang="en-US" sz="2800" spc="-1" strike="noStrike">
                <a:solidFill>
                  <a:srgbClr val="00496c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00496c"/>
                </a:solidFill>
                <a:latin typeface="Arial"/>
              </a:rPr>
              <a:t>collection</a:t>
            </a:r>
            <a:r>
              <a:rPr b="1" lang="en-US" sz="2800" spc="-1" strike="noStrike">
                <a:solidFill>
                  <a:srgbClr val="00496c"/>
                </a:solidFill>
                <a:latin typeface="Arial"/>
              </a:rPr>
              <a:t>)</a:t>
            </a:r>
            <a:r>
              <a:rPr b="1" lang="sk-SK" sz="2800" spc="-1" strike="noStrike">
                <a:solidFill>
                  <a:srgbClr val="00496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496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9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6c"/>
                </a:solidFill>
                <a:latin typeface="Arial"/>
              </a:rPr>
              <a:t>Checking of questionnaires (DC2000Zber)</a:t>
            </a: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9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6c"/>
                </a:solidFill>
                <a:latin typeface="Arial"/>
              </a:rPr>
              <a:t>Generating of the control report of the data typing (DC2000Zber)</a:t>
            </a:r>
            <a:endParaRPr b="0" lang="en-US" sz="2800" spc="-1" strike="noStrike">
              <a:solidFill>
                <a:srgbClr val="00496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2000" y="1052640"/>
            <a:ext cx="63370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96c"/>
                </a:solidFill>
                <a:latin typeface="Arial"/>
              </a:rPr>
              <a:t>DC2000 - Sch</a:t>
            </a:r>
            <a:r>
              <a:rPr b="1" lang="sk-SK" sz="4000" spc="-1" strike="noStrike">
                <a:solidFill>
                  <a:srgbClr val="00496c"/>
                </a:solidFill>
                <a:latin typeface="Arial"/>
              </a:rPr>
              <a:t>e</a:t>
            </a:r>
            <a:r>
              <a:rPr b="1" lang="en-US" sz="4000" spc="-1" strike="noStrike">
                <a:solidFill>
                  <a:srgbClr val="00496c"/>
                </a:solidFill>
                <a:latin typeface="Arial"/>
              </a:rPr>
              <a:t>ma</a:t>
            </a: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1873080"/>
            <a:ext cx="3962160" cy="4003920"/>
          </a:xfrm>
          <a:prstGeom prst="ellipse">
            <a:avLst/>
          </a:prstGeom>
          <a:noFill/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797120"/>
            <a:ext cx="3505320" cy="3863880"/>
          </a:xfrm>
          <a:prstGeom prst="ellipse">
            <a:avLst/>
          </a:prstGeom>
          <a:noFill/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2558880"/>
            <a:ext cx="1904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2000 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24360" y="5049720"/>
            <a:ext cx="2200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2000 Zbe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coll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25653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2000 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58770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um SO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32440" y="595008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onal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2482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f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787480"/>
            <a:ext cx="2235240" cy="228600"/>
          </a:xfrm>
          <a:prstGeom prst="rightArrow">
            <a:avLst>
              <a:gd name="adj1" fmla="val 25000"/>
              <a:gd name="adj2" fmla="val 153324"/>
            </a:avLst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72360" y="3751200"/>
            <a:ext cx="533160" cy="685800"/>
          </a:xfrm>
          <a:prstGeom prst="flowChartMagneticDisk">
            <a:avLst/>
          </a:prstGeom>
          <a:gradFill rotWithShape="0">
            <a:gsLst>
              <a:gs pos="0">
                <a:srgbClr val="502f75"/>
              </a:gs>
              <a:gs pos="100000">
                <a:srgbClr val="af6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04000" y="37893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S micro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3745080"/>
            <a:ext cx="533520" cy="685800"/>
          </a:xfrm>
          <a:prstGeom prst="flowChartMagneticDisk">
            <a:avLst/>
          </a:prstGeom>
          <a:gradFill rotWithShape="0">
            <a:gsLst>
              <a:gs pos="0">
                <a:srgbClr val="502f75"/>
              </a:gs>
              <a:gs pos="100000">
                <a:srgbClr val="af6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6219360" y="4632120"/>
            <a:ext cx="533520" cy="228600"/>
          </a:xfrm>
          <a:prstGeom prst="rightArrow">
            <a:avLst>
              <a:gd name="adj1" fmla="val 36213"/>
              <a:gd name="adj2" fmla="val 91409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22480" y="3751200"/>
            <a:ext cx="533520" cy="685800"/>
          </a:xfrm>
          <a:prstGeom prst="flowChartMagneticDisk">
            <a:avLst/>
          </a:prstGeom>
          <a:gradFill rotWithShape="0">
            <a:gsLst>
              <a:gs pos="0">
                <a:srgbClr val="502f75"/>
              </a:gs>
              <a:gs pos="100000">
                <a:srgbClr val="af6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4581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92360" y="45752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1250640" y="3294000"/>
            <a:ext cx="533520" cy="228600"/>
          </a:xfrm>
          <a:prstGeom prst="rightArrow">
            <a:avLst>
              <a:gd name="adj1" fmla="val 36213"/>
              <a:gd name="adj2" fmla="val 91409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2627280" y="4005000"/>
            <a:ext cx="3557520" cy="215640"/>
          </a:xfrm>
          <a:prstGeom prst="rightArrow">
            <a:avLst>
              <a:gd name="adj1" fmla="val 35296"/>
              <a:gd name="adj2" fmla="val 228215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009200">
            <a:off x="6507000" y="4632120"/>
            <a:ext cx="533520" cy="228600"/>
          </a:xfrm>
          <a:prstGeom prst="rightArrow">
            <a:avLst>
              <a:gd name="adj1" fmla="val 36213"/>
              <a:gd name="adj2" fmla="val 91409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6219360" y="3294000"/>
            <a:ext cx="533520" cy="228600"/>
          </a:xfrm>
          <a:prstGeom prst="rightArrow">
            <a:avLst>
              <a:gd name="adj1" fmla="val 36213"/>
              <a:gd name="adj2" fmla="val 91409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009200">
            <a:off x="6507000" y="3294000"/>
            <a:ext cx="533520" cy="228600"/>
          </a:xfrm>
          <a:prstGeom prst="rightArrow">
            <a:avLst>
              <a:gd name="adj1" fmla="val 36213"/>
              <a:gd name="adj2" fmla="val 91409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837720"/>
            <a:ext cx="63370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496c"/>
                </a:solidFill>
                <a:latin typeface="Arial"/>
              </a:rPr>
              <a:t>eDC2000</a:t>
            </a:r>
            <a:endParaRPr b="1" lang="en-US" sz="36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96c"/>
                </a:solidFill>
                <a:latin typeface="Arial Narrow"/>
              </a:rPr>
              <a:t>Additional  SW modules:</a:t>
            </a:r>
            <a:endParaRPr b="0" lang="en-US" sz="3200" spc="-1" strike="noStrike">
              <a:solidFill>
                <a:srgbClr val="00496c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496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96c"/>
                </a:solidFill>
                <a:latin typeface="Arial Narrow"/>
              </a:rPr>
              <a:t>DC2000Pes (receiving registrations of </a:t>
            </a:r>
            <a:r>
              <a:rPr b="1" lang="sk-SK" sz="3200" spc="-1" strike="noStrike">
                <a:solidFill>
                  <a:srgbClr val="00496c"/>
                </a:solidFill>
                <a:latin typeface="Arial Narrow"/>
              </a:rPr>
              <a:t>a</a:t>
            </a:r>
            <a:r>
              <a:rPr b="1" lang="en-US" sz="3200" spc="-1" strike="noStrike">
                <a:solidFill>
                  <a:srgbClr val="00496c"/>
                </a:solidFill>
                <a:latin typeface="Arial Narrow"/>
              </a:rPr>
              <a:t> respondent and fulfilled questioner</a:t>
            </a:r>
            <a:r>
              <a:rPr b="1" lang="sk-SK" sz="3200" spc="-1" strike="noStrike">
                <a:solidFill>
                  <a:srgbClr val="00496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496c"/>
                </a:solidFill>
                <a:latin typeface="Arial Narrow"/>
              </a:rPr>
              <a:t>)</a:t>
            </a:r>
            <a:endParaRPr b="0" lang="en-US" sz="3200" spc="-1" strike="noStrike">
              <a:solidFill>
                <a:srgbClr val="00496c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496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96c"/>
                </a:solidFill>
                <a:latin typeface="Arial Narrow"/>
              </a:rPr>
              <a:t>DC2000Send (sending questioners by respondents)</a:t>
            </a:r>
            <a:endParaRPr b="0" lang="en-US" sz="3200" spc="-1" strike="noStrike">
              <a:solidFill>
                <a:srgbClr val="00496c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496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96c"/>
                </a:solidFill>
                <a:latin typeface="Arial Narrow"/>
              </a:rPr>
              <a:t>DC2000RegSj (information  about  registered respondents)</a:t>
            </a:r>
            <a:endParaRPr b="0" lang="en-US" sz="3200" spc="-1" strike="noStrike">
              <a:solidFill>
                <a:srgbClr val="00496c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496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96c"/>
                </a:solidFill>
                <a:latin typeface="Arial Narrow"/>
              </a:rPr>
              <a:t>eDC2000Klient (SW client for typing a questioner)</a:t>
            </a:r>
            <a:endParaRPr b="0" lang="en-US" sz="3200" spc="-1" strike="noStrike">
              <a:solidFill>
                <a:srgbClr val="00496c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96c"/>
                </a:solidFill>
                <a:latin typeface="Arial Narrow"/>
              </a:rPr>
              <a:t>Some changes </a:t>
            </a:r>
            <a:r>
              <a:rPr b="1" lang="en-AU" sz="3200" spc="-1" strike="noStrike">
                <a:solidFill>
                  <a:srgbClr val="00496c"/>
                </a:solidFill>
                <a:latin typeface="Arial Narrow"/>
              </a:rPr>
              <a:t>were</a:t>
            </a:r>
            <a:r>
              <a:rPr b="1" lang="sk-SK" sz="3200" spc="-1" strike="noStrike">
                <a:solidFill>
                  <a:srgbClr val="00496c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496c"/>
                </a:solidFill>
                <a:latin typeface="Arial Narrow"/>
              </a:rPr>
              <a:t>in modules DC2000 (DC2000Admin, DC2000Kon, DC2000Zber).</a:t>
            </a:r>
            <a:endParaRPr b="0" lang="en-US" sz="3200" spc="-1" strike="noStrike">
              <a:solidFill>
                <a:srgbClr val="00496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2000" y="1052640"/>
            <a:ext cx="63370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496c"/>
                </a:solidFill>
                <a:latin typeface="Times New Roman"/>
              </a:rPr>
              <a:t>eDC2000</a:t>
            </a:r>
            <a:endParaRPr b="1" lang="en-US" sz="36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1557360"/>
            <a:ext cx="5113440" cy="4319640"/>
          </a:xfrm>
          <a:prstGeom prst="ellipse">
            <a:avLst/>
          </a:prstGeom>
          <a:noFill/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84280"/>
            <a:ext cx="3733920" cy="4176720"/>
          </a:xfrm>
          <a:prstGeom prst="ellipse">
            <a:avLst/>
          </a:prstGeom>
          <a:noFill/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2133720"/>
            <a:ext cx="1871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C2000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4581360"/>
            <a:ext cx="1904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C2000Z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206064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C2000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5734080"/>
            <a:ext cx="22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Centrum SOS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5661000"/>
            <a:ext cx="249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Regional branch SO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35280" y="18795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edf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2276640"/>
            <a:ext cx="2235240" cy="228600"/>
          </a:xfrm>
          <a:prstGeom prst="rightArrow">
            <a:avLst>
              <a:gd name="adj1" fmla="val 25000"/>
              <a:gd name="adj2" fmla="val 153324"/>
            </a:avLst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75560" y="3213000"/>
            <a:ext cx="533160" cy="685800"/>
          </a:xfrm>
          <a:prstGeom prst="flowChartMagneticDisk">
            <a:avLst/>
          </a:prstGeom>
          <a:gradFill rotWithShape="0">
            <a:gsLst>
              <a:gs pos="0">
                <a:srgbClr val="502f75"/>
              </a:gs>
              <a:gs pos="100000">
                <a:srgbClr val="af6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64360" y="3284640"/>
            <a:ext cx="17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S micro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3284640"/>
            <a:ext cx="533520" cy="685800"/>
          </a:xfrm>
          <a:prstGeom prst="flowChartMagneticDisk">
            <a:avLst/>
          </a:prstGeom>
          <a:gradFill rotWithShape="0">
            <a:gsLst>
              <a:gs pos="0">
                <a:srgbClr val="502f75"/>
              </a:gs>
              <a:gs pos="100000">
                <a:srgbClr val="af6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6638400" y="4086000"/>
            <a:ext cx="533520" cy="228600"/>
          </a:xfrm>
          <a:prstGeom prst="rightArrow">
            <a:avLst>
              <a:gd name="adj1" fmla="val 36213"/>
              <a:gd name="adj2" fmla="val 91409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3284640"/>
            <a:ext cx="533520" cy="685800"/>
          </a:xfrm>
          <a:prstGeom prst="flowChartMagneticDisk">
            <a:avLst/>
          </a:prstGeom>
          <a:gradFill rotWithShape="0">
            <a:gsLst>
              <a:gs pos="0">
                <a:srgbClr val="502f75"/>
              </a:gs>
              <a:gs pos="100000">
                <a:srgbClr val="af6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3933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ME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3933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Z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103480" y="2788920"/>
            <a:ext cx="533160" cy="228600"/>
          </a:xfrm>
          <a:prstGeom prst="rightArrow">
            <a:avLst>
              <a:gd name="adj1" fmla="val 36213"/>
              <a:gd name="adj2" fmla="val 91348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3347640" y="3284280"/>
            <a:ext cx="3311640" cy="215640"/>
          </a:xfrm>
          <a:prstGeom prst="rightArrow">
            <a:avLst>
              <a:gd name="adj1" fmla="val 35296"/>
              <a:gd name="adj2" fmla="val 212442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009200">
            <a:off x="6927480" y="4086000"/>
            <a:ext cx="533520" cy="228600"/>
          </a:xfrm>
          <a:prstGeom prst="rightArrow">
            <a:avLst>
              <a:gd name="adj1" fmla="val 36213"/>
              <a:gd name="adj2" fmla="val 91409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6566760" y="2760480"/>
            <a:ext cx="533520" cy="228600"/>
          </a:xfrm>
          <a:prstGeom prst="rightArrow">
            <a:avLst>
              <a:gd name="adj1" fmla="val 36213"/>
              <a:gd name="adj2" fmla="val 91409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6867360" y="2760480"/>
            <a:ext cx="533520" cy="228600"/>
          </a:xfrm>
          <a:prstGeom prst="rightArrow">
            <a:avLst>
              <a:gd name="adj1" fmla="val 36213"/>
              <a:gd name="adj2" fmla="val 91409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573408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DC2000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356000" y="5229000"/>
            <a:ext cx="576360" cy="287280"/>
          </a:xfrm>
          <a:prstGeom prst="rightArrow">
            <a:avLst>
              <a:gd name="adj1" fmla="val 27074"/>
              <a:gd name="adj2" fmla="val 63011"/>
            </a:avLst>
          </a:prstGeom>
          <a:gradFill rotWithShape="0">
            <a:gsLst>
              <a:gs pos="0">
                <a:srgbClr val="99ff66"/>
              </a:gs>
              <a:gs pos="100000">
                <a:srgbClr val="2e7420"/>
              </a:gs>
            </a:gsLst>
            <a:lin ang="5400000"/>
          </a:gradFill>
          <a:ln w="9360">
            <a:solidFill>
              <a:srgbClr val="2e7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22880" y="4546440"/>
            <a:ext cx="1904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C2000S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8566800">
            <a:off x="5940360" y="3933360"/>
            <a:ext cx="719280" cy="301680"/>
          </a:xfrm>
          <a:prstGeom prst="rightArrow">
            <a:avLst>
              <a:gd name="adj1" fmla="val 36213"/>
              <a:gd name="adj2" fmla="val 93383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4546440"/>
            <a:ext cx="1943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C2000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3789360"/>
            <a:ext cx="533160" cy="685800"/>
          </a:xfrm>
          <a:prstGeom prst="flowChartMagneticDisk">
            <a:avLst/>
          </a:prstGeom>
          <a:gradFill rotWithShape="0">
            <a:gsLst>
              <a:gs pos="0">
                <a:srgbClr val="502f75"/>
              </a:gs>
              <a:gs pos="100000">
                <a:srgbClr val="af6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9692000">
            <a:off x="3069720" y="4220640"/>
            <a:ext cx="935280" cy="301680"/>
          </a:xfrm>
          <a:prstGeom prst="rightArrow">
            <a:avLst>
              <a:gd name="adj1" fmla="val 36213"/>
              <a:gd name="adj2" fmla="val 121426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1262200">
            <a:off x="4788000" y="3645000"/>
            <a:ext cx="1584360" cy="301680"/>
          </a:xfrm>
          <a:prstGeom prst="rightArrow">
            <a:avLst>
              <a:gd name="adj1" fmla="val 42546"/>
              <a:gd name="adj2" fmla="val 127866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3429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temporary DB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2627280" y="5228640"/>
            <a:ext cx="576360" cy="287640"/>
          </a:xfrm>
          <a:prstGeom prst="rightArrow">
            <a:avLst>
              <a:gd name="adj1" fmla="val 27074"/>
              <a:gd name="adj2" fmla="val 62933"/>
            </a:avLst>
          </a:prstGeom>
          <a:gradFill rotWithShape="0">
            <a:gsLst>
              <a:gs pos="0">
                <a:srgbClr val="99ff66"/>
              </a:gs>
              <a:gs pos="100000">
                <a:srgbClr val="2e7420"/>
              </a:gs>
            </a:gsLst>
            <a:lin ang="5400000"/>
          </a:gradFill>
          <a:ln w="9360">
            <a:solidFill>
              <a:srgbClr val="2e7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2708280"/>
            <a:ext cx="2016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C2000RegS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3645000"/>
            <a:ext cx="533160" cy="685800"/>
          </a:xfrm>
          <a:prstGeom prst="flowChartMagneticDisk">
            <a:avLst/>
          </a:prstGeom>
          <a:gradFill rotWithShape="0">
            <a:gsLst>
              <a:gs pos="0">
                <a:srgbClr val="502f75"/>
              </a:gs>
              <a:gs pos="100000">
                <a:srgbClr val="af6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8364800">
            <a:off x="818640" y="3294000"/>
            <a:ext cx="533520" cy="228600"/>
          </a:xfrm>
          <a:prstGeom prst="rightArrow">
            <a:avLst>
              <a:gd name="adj1" fmla="val 36213"/>
              <a:gd name="adj2" fmla="val 91409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3493400">
            <a:off x="804600" y="4169520"/>
            <a:ext cx="533160" cy="228600"/>
          </a:xfrm>
          <a:prstGeom prst="rightArrow">
            <a:avLst>
              <a:gd name="adj1" fmla="val 36213"/>
              <a:gd name="adj2" fmla="val 91348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2884200">
            <a:off x="564480" y="4462200"/>
            <a:ext cx="533520" cy="228600"/>
          </a:xfrm>
          <a:prstGeom prst="rightArrow">
            <a:avLst>
              <a:gd name="adj1" fmla="val 36213"/>
              <a:gd name="adj2" fmla="val 91409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505320"/>
            <a:ext cx="15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DBS of respon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700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50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000"/>
                            </p:stCondLst>
                            <p:childTnLst>
                              <p:par>
                                <p:cTn id="1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50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9500"/>
                            </p:stCondLst>
                            <p:childTnLst>
                              <p:par>
                                <p:cTn id="1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b5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9528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6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496c"/>
                </a:solidFill>
                <a:latin typeface="Times New Roman"/>
              </a:rPr>
              <a:t>To finish the developing  of the  system </a:t>
            </a:r>
            <a:r>
              <a:rPr b="1" i="1" lang="sk-SK" sz="3200" spc="-1" strike="noStrike">
                <a:solidFill>
                  <a:srgbClr val="00496c"/>
                </a:solidFill>
                <a:latin typeface="Times New Roman"/>
              </a:rPr>
              <a:t>web</a:t>
            </a:r>
            <a:r>
              <a:rPr b="1" lang="sk-SK" sz="3200" spc="-1" strike="noStrike">
                <a:solidFill>
                  <a:srgbClr val="00496c"/>
                </a:solidFill>
                <a:latin typeface="Times New Roman"/>
              </a:rPr>
              <a:t>Stat</a:t>
            </a:r>
            <a:endParaRPr b="0" lang="en-US" sz="3200" spc="-1" strike="noStrike">
              <a:solidFill>
                <a:srgbClr val="00496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96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496c"/>
                </a:solidFill>
                <a:latin typeface="Times New Roman"/>
              </a:rPr>
              <a:t>Modifing of the system DC2000</a:t>
            </a:r>
            <a:endParaRPr b="0" lang="en-US" sz="3200" spc="-1" strike="noStrike">
              <a:solidFill>
                <a:srgbClr val="00496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533520" y="1125000"/>
            <a:ext cx="749592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96c"/>
                </a:solidFill>
                <a:latin typeface="Arial"/>
              </a:rPr>
              <a:t>Objectives for time to come  </a:t>
            </a:r>
            <a:endParaRPr b="1" lang="en-US" sz="4000" spc="-1" strike="noStrike">
              <a:solidFill>
                <a:srgbClr val="00496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1:06:55Z</dcterms:created>
  <dc:creator>Juraj Stit</dc:creator>
  <dc:description/>
  <dc:language>en-US</dc:language>
  <cp:lastModifiedBy>Riecan</cp:lastModifiedBy>
  <dcterms:modified xsi:type="dcterms:W3CDTF">2006-10-30T16:38:41Z</dcterms:modified>
  <cp:revision>44</cp:revision>
  <dc:subject/>
  <dc:title>Snímek 1</dc:title>
</cp:coreProperties>
</file>