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52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140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764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52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140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79280" y="333360"/>
            <a:ext cx="529596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52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140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4764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52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140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79280" y="333360"/>
            <a:ext cx="529596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600" y="13716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44600" y="61722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6664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7451640" y="333360"/>
          <a:ext cx="12938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333360"/>
                    <a:ext cx="12938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4600" y="13716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4600" y="61722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990720"/>
            <a:ext cx="531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uropean Commission - Eurostat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219240"/>
            <a:ext cx="154944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7451640" y="333360"/>
          <a:ext cx="12938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333360"/>
                    <a:ext cx="12938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Monotype Sorts" charset="2"/>
              <a:buChar char="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Font typeface="Monotype Sorts" charset="2"/>
              <a:buChar char="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i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i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i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3840" cy="15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ssion IV: Future needs and recommendations</a:t>
            </a:r>
            <a:br>
              <a:rPr sz="24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Linkages: A keyword for SDI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2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cussant: Laurs Nørlun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urosta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633888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2320" y="6235560"/>
            <a:ext cx="76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S Seminar on Sustainable Development (14 June 2005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Arial"/>
              </a:rPr>
              <a:t>Main elements</a:t>
            </a:r>
            <a:br>
              <a:rPr sz="3200"/>
            </a:br>
            <a:r>
              <a:rPr b="1" lang="fr-BE" sz="3200" spc="-1" strike="noStrike">
                <a:solidFill>
                  <a:srgbClr val="ffff00"/>
                </a:solidFill>
                <a:latin typeface="Arial"/>
              </a:rPr>
              <a:t>of the UK pap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3rd generation of indicator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ame framework as the policy one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ide range of dissemination tool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etter integration is needed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Expectations change over time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Use of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ggregate indices ?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etter assess and communicate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Arial"/>
              </a:rPr>
              <a:t>Main elements</a:t>
            </a:r>
            <a:br>
              <a:rPr sz="3200"/>
            </a:br>
            <a:r>
              <a:rPr b="1" lang="fr-BE" sz="3200" spc="-1" strike="noStrike">
                <a:solidFill>
                  <a:srgbClr val="ffff00"/>
                </a:solidFill>
                <a:latin typeface="Arial"/>
              </a:rPr>
              <a:t>of the OECD pap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tense work since 1998 (frameworks, linkages, resources, etc..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ore set of indicator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onceptual and Statistical framework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Importance of inter-linkag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Necessity for common approach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00"/>
                </a:solidFill>
                <a:latin typeface="Arial"/>
              </a:rPr>
              <a:t>Common featur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Linkages: a keyword for SDI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Linkage to policy ac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Linkage between indicators: a sound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Linkage to methodological 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➲ </a:t>
            </a:r>
            <a:r>
              <a:rPr b="1" lang="en-GB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What is the way forward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Q1: What would be your recommendations to a country willing to start developing SDIs on how this development should be structured?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Q2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How to ensure a better involvement of official statisticians in the monitoring of SD Strategies?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00"/>
                </a:solidFill>
                <a:latin typeface="Arial"/>
              </a:rPr>
              <a:t>Questions (ctd.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Q3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hat is the way forward about highly-aggregated indicators of SD? Should not we also make a more intensive use of multi-variate statistical analysis?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Q4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hould official statisticians be involved in the assessment of SD trends?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29596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00"/>
                </a:solidFill>
                <a:latin typeface="Arial"/>
              </a:rPr>
              <a:t>Questions (ctd.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Q5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How can we best address new needs such as “global partnership” or “good governance” in the future?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Q6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hat would be your practical recommendations to this Conference for future international work on Sustainable Development?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6:21:41Z</dcterms:created>
  <dc:creator>ledoula</dc:creator>
  <dc:description/>
  <dc:language>en-US</dc:language>
  <cp:lastModifiedBy>wolffpa</cp:lastModifiedBy>
  <dcterms:modified xsi:type="dcterms:W3CDTF">2005-06-09T15:57:10Z</dcterms:modified>
  <cp:revision>32</cp:revision>
  <dc:subject/>
  <dc:title>Slide 1</dc:title>
</cp:coreProperties>
</file>