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306-C951-44E6-9132-178AC870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DB2-147F-4AF0-BE29-CE66F1E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DC9-D194-4533-86C9-95C28D77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5D5-012A-42B6-9BEE-9177466D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39C-7839-41B0-B95A-4B4D2254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F7E-ACF2-4D9E-A7BC-65620B17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5AE-C0E9-415C-BB6E-6E79EFFB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CD2-E867-43F5-9782-1845B82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5EC-5092-4434-B245-C4A57D17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4BA-4C11-46BA-97BC-5697F68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9F7-D923-426A-9A33-BF6083F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EDD-AE62-48CF-952C-F965EBF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6E0-2308-4B74-9C58-E9E709B5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SDIs the “way forward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makers appropriately establish “the indicators”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role should they play in how these should be meas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ndicators exist in isolation from a suppor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easu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f indicators “indicate” something but we don’t understand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ndicators be meaningful without a drill-down capa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questions for th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answers to even some of my question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n what do we need t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that statisticians design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asurement system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the indicators selected by decision m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easur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SD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that the three legs of SDI can analytically be connected – e.g. to answer “what if” 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6:20:17Z</dcterms:created>
  <dc:creator>Dr. Fellegi</dc:creator>
  <dc:description/>
  <dc:language>en-US</dc:language>
  <cp:lastModifiedBy>Dr. Fellegi</cp:lastModifiedBy>
  <dcterms:modified xsi:type="dcterms:W3CDTF">2005-06-12T16:20:50Z</dcterms:modified>
  <cp:revision>1</cp:revision>
  <dc:subject/>
  <dc:title>Some questions for the Conference</dc:title>
</cp:coreProperties>
</file>