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3EB-8182-4C4F-9B29-6B388135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650-4374-4A55-B760-AFBAACA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1C2-748F-4F9E-BE65-1E402779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53D-1261-415C-A9E0-BD9EE1AF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7B1-0C00-4EAB-A42C-AB71539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899-6A1E-4988-BEF2-51D366C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F6F-2D9B-41A9-B939-F4CBF08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0E6-25C0-43B0-B5DC-93789449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899-1833-495D-9399-6593092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6C1-1EA3-4467-A041-3B8DFAE2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6BB-D72D-4D94-A941-02F4B6F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897-3794-4D32-B2DB-4F1C817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846-FF97-4BE0-A5D5-14A3BF24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SDIs the “way forward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makers appropriately establish “the indicators”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role should they play in how these should be meas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ndicators exist in isolation from a suppor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easu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f indicators “indicate” something but we don’t understand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ndicators be meaningful without a drill-down capa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answers to even some of my question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n what do we need t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that statisticians design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asurement system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the indicators selected by decision m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easur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SD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that the three legs of SDI can analytically be connected – e.g. to answer “what if” 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6:20:17Z</dcterms:created>
  <dc:creator>Dr. Fellegi</dc:creator>
  <dc:description/>
  <dc:language>en-US</dc:language>
  <cp:lastModifiedBy>Dr. Fellegi</cp:lastModifiedBy>
  <dcterms:modified xsi:type="dcterms:W3CDTF">2005-06-12T16:20:50Z</dcterms:modified>
  <cp:revision>1</cp:revision>
  <dc:subject/>
  <dc:title>Some questions for the Conference</dc:title>
</cp:coreProperties>
</file>