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C6C6-AA76-46B0-9E54-CF83C26D2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1A18-4D48-482A-9743-75E5E144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0A57-77AF-4A53-B969-4B6C08A3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5D55-2D05-4CA8-BC30-D3C856E04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A06F-F9E7-4686-824F-2CE2DCB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62C9-5042-4CF7-A929-420BA4A2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F9D6-11F0-40AF-9B50-14D5C49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D332-0E6F-48BF-B286-FDE55FE6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443A-10F5-45F1-8C5F-8F68DA96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FFD1-822B-4E0A-A836-9E159438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12A3-1387-47A8-A827-555037B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BE3F-C5F8-408B-A948-BACC27A4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A79D0B-33AB-4905-ABEE-D19659FA61DC}" type="datetime">
              <a:rPr b="0" lang="de-DE" sz="11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749A37E-F864-422C-8AA9-3A0A8F14B6A6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531360" y="6351480"/>
            <a:ext cx="3445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© Statistisches Bundesamt, Walter Radermacher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7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Walter Radermacher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1440" y="1989000"/>
            <a:ext cx="827712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53rd Conference of European Statisticians</a:t>
            </a:r>
            <a:br>
              <a:rPr sz="3000"/>
            </a:b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Geneva, 13-15 June 2005</a:t>
            </a:r>
            <a:br>
              <a:rPr sz="2300"/>
            </a:br>
            <a:br>
              <a:rPr sz="3000"/>
            </a:b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Seminar on "Sustainable Development"</a:t>
            </a:r>
            <a:endParaRPr b="1" lang="en-US" sz="23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1440" y="4060440"/>
            <a:ext cx="8277120" cy="2536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Session III - Case Studi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Walter Radermacher (Discussan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Federal Statistical Office, Germa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813744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3 Selection process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975120"/>
            <a:ext cx="33116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st roun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working group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2317680"/>
            <a:ext cx="1512720" cy="1535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35640" y="3975120"/>
            <a:ext cx="331164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nd roun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advisory group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cl. science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532560" y="2317680"/>
            <a:ext cx="1495440" cy="151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03640" y="2390760"/>
            <a:ext cx="2736720" cy="136692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577960"/>
            <a:ext cx="3311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ET tea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7092000" y="4364640"/>
            <a:ext cx="361800" cy="1944720"/>
          </a:xfrm>
          <a:custGeom>
            <a:avLst/>
            <a:gdLst>
              <a:gd name="textAreaLeft" fmla="*/ 0 w 361800"/>
              <a:gd name="textAreaRight" fmla="*/ 130680 w 3618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6545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: 163 indicator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4A0F-AEB2-4739-B4EF-792A9FDB167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66DE-3CB6-4B34-8800-56D81BAA02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4 Result: “MONET”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488120" cy="449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D9A1-E5F0-41EA-9A38-13CC1FBF18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B164-AC65-4E74-8DF9-B072D13B4E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 The Spanish experi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852480" y="2373480"/>
            <a:ext cx="3830760" cy="22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77080" y="113832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92720" y="2394000"/>
            <a:ext cx="2833920" cy="2265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39800" y="537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4720" y="5013360"/>
            <a:ext cx="6234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Filling in data gap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38160" indent="-342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04760" y="195264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4720" y="194004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90188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054080" y="2354400"/>
            <a:ext cx="1320840" cy="2323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6280" y="2278080"/>
            <a:ext cx="228600" cy="2616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048120" y="2365200"/>
            <a:ext cx="3246480" cy="2298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6200000">
            <a:off x="4526640" y="138240"/>
            <a:ext cx="166680" cy="9105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46240" y="2341440"/>
            <a:ext cx="177840" cy="2324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10360" y="2354400"/>
            <a:ext cx="177840" cy="2323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527360" y="-2109600"/>
            <a:ext cx="101520" cy="8991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03440" y="2933640"/>
            <a:ext cx="1686240" cy="1532160"/>
          </a:xfrm>
          <a:custGeom>
            <a:avLst/>
            <a:gdLst/>
            <a:ahLst/>
            <a:rect l="l" t="t" r="r" b="b"/>
            <a:pathLst>
              <a:path w="1062" h="965">
                <a:moveTo>
                  <a:pt x="390" y="10"/>
                </a:moveTo>
                <a:cubicBezTo>
                  <a:pt x="365" y="26"/>
                  <a:pt x="342" y="46"/>
                  <a:pt x="318" y="62"/>
                </a:cubicBezTo>
                <a:cubicBezTo>
                  <a:pt x="295" y="77"/>
                  <a:pt x="266" y="86"/>
                  <a:pt x="246" y="106"/>
                </a:cubicBezTo>
                <a:cubicBezTo>
                  <a:pt x="226" y="126"/>
                  <a:pt x="203" y="157"/>
                  <a:pt x="179" y="173"/>
                </a:cubicBezTo>
                <a:cubicBezTo>
                  <a:pt x="172" y="192"/>
                  <a:pt x="168" y="200"/>
                  <a:pt x="150" y="211"/>
                </a:cubicBezTo>
                <a:cubicBezTo>
                  <a:pt x="138" y="232"/>
                  <a:pt x="127" y="251"/>
                  <a:pt x="107" y="264"/>
                </a:cubicBezTo>
                <a:cubicBezTo>
                  <a:pt x="93" y="303"/>
                  <a:pt x="64" y="335"/>
                  <a:pt x="50" y="374"/>
                </a:cubicBezTo>
                <a:cubicBezTo>
                  <a:pt x="36" y="413"/>
                  <a:pt x="30" y="455"/>
                  <a:pt x="16" y="494"/>
                </a:cubicBezTo>
                <a:cubicBezTo>
                  <a:pt x="0" y="588"/>
                  <a:pt x="8" y="666"/>
                  <a:pt x="59" y="744"/>
                </a:cubicBezTo>
                <a:cubicBezTo>
                  <a:pt x="73" y="766"/>
                  <a:pt x="102" y="794"/>
                  <a:pt x="122" y="811"/>
                </a:cubicBezTo>
                <a:cubicBezTo>
                  <a:pt x="131" y="818"/>
                  <a:pt x="150" y="830"/>
                  <a:pt x="150" y="830"/>
                </a:cubicBezTo>
                <a:cubicBezTo>
                  <a:pt x="166" y="855"/>
                  <a:pt x="203" y="870"/>
                  <a:pt x="232" y="878"/>
                </a:cubicBezTo>
                <a:cubicBezTo>
                  <a:pt x="262" y="899"/>
                  <a:pt x="320" y="918"/>
                  <a:pt x="357" y="922"/>
                </a:cubicBezTo>
                <a:cubicBezTo>
                  <a:pt x="389" y="926"/>
                  <a:pt x="453" y="931"/>
                  <a:pt x="453" y="931"/>
                </a:cubicBezTo>
                <a:cubicBezTo>
                  <a:pt x="515" y="944"/>
                  <a:pt x="582" y="950"/>
                  <a:pt x="645" y="955"/>
                </a:cubicBezTo>
                <a:cubicBezTo>
                  <a:pt x="685" y="965"/>
                  <a:pt x="725" y="951"/>
                  <a:pt x="765" y="946"/>
                </a:cubicBezTo>
                <a:cubicBezTo>
                  <a:pt x="791" y="937"/>
                  <a:pt x="819" y="932"/>
                  <a:pt x="846" y="926"/>
                </a:cubicBezTo>
                <a:cubicBezTo>
                  <a:pt x="861" y="923"/>
                  <a:pt x="890" y="912"/>
                  <a:pt x="890" y="912"/>
                </a:cubicBezTo>
                <a:cubicBezTo>
                  <a:pt x="922" y="889"/>
                  <a:pt x="957" y="871"/>
                  <a:pt x="990" y="850"/>
                </a:cubicBezTo>
                <a:cubicBezTo>
                  <a:pt x="1001" y="834"/>
                  <a:pt x="1029" y="806"/>
                  <a:pt x="1029" y="806"/>
                </a:cubicBezTo>
                <a:cubicBezTo>
                  <a:pt x="1031" y="801"/>
                  <a:pt x="1032" y="796"/>
                  <a:pt x="1034" y="792"/>
                </a:cubicBezTo>
                <a:cubicBezTo>
                  <a:pt x="1036" y="787"/>
                  <a:pt x="1041" y="783"/>
                  <a:pt x="1043" y="778"/>
                </a:cubicBezTo>
                <a:cubicBezTo>
                  <a:pt x="1047" y="769"/>
                  <a:pt x="1053" y="749"/>
                  <a:pt x="1053" y="749"/>
                </a:cubicBezTo>
                <a:cubicBezTo>
                  <a:pt x="1062" y="685"/>
                  <a:pt x="1060" y="609"/>
                  <a:pt x="1034" y="547"/>
                </a:cubicBezTo>
                <a:cubicBezTo>
                  <a:pt x="1009" y="489"/>
                  <a:pt x="1040" y="586"/>
                  <a:pt x="1014" y="514"/>
                </a:cubicBezTo>
                <a:cubicBezTo>
                  <a:pt x="1010" y="503"/>
                  <a:pt x="1014" y="488"/>
                  <a:pt x="1005" y="480"/>
                </a:cubicBezTo>
                <a:cubicBezTo>
                  <a:pt x="975" y="452"/>
                  <a:pt x="960" y="414"/>
                  <a:pt x="933" y="384"/>
                </a:cubicBezTo>
                <a:cubicBezTo>
                  <a:pt x="912" y="360"/>
                  <a:pt x="892" y="348"/>
                  <a:pt x="870" y="326"/>
                </a:cubicBezTo>
                <a:cubicBezTo>
                  <a:pt x="862" y="298"/>
                  <a:pt x="828" y="280"/>
                  <a:pt x="808" y="259"/>
                </a:cubicBezTo>
                <a:cubicBezTo>
                  <a:pt x="799" y="233"/>
                  <a:pt x="776" y="231"/>
                  <a:pt x="755" y="216"/>
                </a:cubicBezTo>
                <a:cubicBezTo>
                  <a:pt x="750" y="212"/>
                  <a:pt x="746" y="206"/>
                  <a:pt x="741" y="202"/>
                </a:cubicBezTo>
                <a:cubicBezTo>
                  <a:pt x="736" y="198"/>
                  <a:pt x="731" y="195"/>
                  <a:pt x="726" y="192"/>
                </a:cubicBezTo>
                <a:cubicBezTo>
                  <a:pt x="697" y="147"/>
                  <a:pt x="742" y="212"/>
                  <a:pt x="698" y="168"/>
                </a:cubicBezTo>
                <a:cubicBezTo>
                  <a:pt x="694" y="164"/>
                  <a:pt x="697" y="158"/>
                  <a:pt x="693" y="154"/>
                </a:cubicBezTo>
                <a:cubicBezTo>
                  <a:pt x="682" y="143"/>
                  <a:pt x="629" y="112"/>
                  <a:pt x="611" y="101"/>
                </a:cubicBezTo>
                <a:cubicBezTo>
                  <a:pt x="588" y="87"/>
                  <a:pt x="570" y="66"/>
                  <a:pt x="544" y="58"/>
                </a:cubicBezTo>
                <a:cubicBezTo>
                  <a:pt x="532" y="40"/>
                  <a:pt x="526" y="40"/>
                  <a:pt x="506" y="34"/>
                </a:cubicBezTo>
                <a:cubicBezTo>
                  <a:pt x="477" y="12"/>
                  <a:pt x="494" y="21"/>
                  <a:pt x="453" y="10"/>
                </a:cubicBezTo>
                <a:cubicBezTo>
                  <a:pt x="443" y="7"/>
                  <a:pt x="424" y="0"/>
                  <a:pt x="424" y="0"/>
                </a:cubicBezTo>
                <a:cubicBezTo>
                  <a:pt x="410" y="2"/>
                  <a:pt x="394" y="0"/>
                  <a:pt x="381" y="5"/>
                </a:cubicBezTo>
                <a:cubicBezTo>
                  <a:pt x="376" y="7"/>
                  <a:pt x="372" y="17"/>
                  <a:pt x="376" y="19"/>
                </a:cubicBezTo>
                <a:cubicBezTo>
                  <a:pt x="381" y="22"/>
                  <a:pt x="385" y="13"/>
                  <a:pt x="39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7C62-F869-4D0A-AF96-FD0561E207A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9898C-3756-4787-A693-9B4B9D10BC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 The Spanish experience </a:t>
            </a:r>
            <a:br>
              <a:rPr sz="3000"/>
            </a:b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3200" y="2459160"/>
            <a:ext cx="7134120" cy="359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 Orient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 Program for environmental dat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. Coordination challeng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. Future perspectiv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1844640"/>
            <a:ext cx="40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F66A-A8D9-44BB-B3AA-695B4B736F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B3C65-A2B8-4B81-9FA0-32AC7BB13C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1 Orienta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0120" y="1695240"/>
            <a:ext cx="792648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rientation to requirements at international and European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rientation to available methodological frameworks, (e.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mber of Eurostat Task Force on Sustainability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ecial emphasis on availability of regional data (EU-NUTS II level: “comundidades y ciudades autonomas” in Spain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2116-D6F4-4CC0-8A9D-E6DBD9B774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EBF7-334C-4A49-BBED-D408A893DE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765760" y="3297240"/>
            <a:ext cx="934920" cy="3603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12600">
            <a:solidFill>
              <a:srgbClr val="6666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2 Program for environmental data 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4881600"/>
            <a:ext cx="193212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solidFill>
            <a:srgbClr val="78718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22880" y="2421000"/>
            <a:ext cx="1938240" cy="3004920"/>
          </a:xfrm>
          <a:custGeom>
            <a:avLst/>
            <a:gdLst/>
            <a:ahLst/>
            <a:rect l="l" t="t" r="r" b="b"/>
            <a:pathLst>
              <a:path w="675" h="924">
                <a:moveTo>
                  <a:pt x="285" y="16"/>
                </a:moveTo>
                <a:lnTo>
                  <a:pt x="0" y="924"/>
                </a:lnTo>
                <a:lnTo>
                  <a:pt x="675" y="924"/>
                </a:lnTo>
                <a:lnTo>
                  <a:pt x="432" y="19"/>
                </a:lnTo>
                <a:lnTo>
                  <a:pt x="430" y="17"/>
                </a:lnTo>
                <a:lnTo>
                  <a:pt x="422" y="13"/>
                </a:lnTo>
                <a:lnTo>
                  <a:pt x="409" y="7"/>
                </a:lnTo>
                <a:lnTo>
                  <a:pt x="392" y="3"/>
                </a:lnTo>
                <a:lnTo>
                  <a:pt x="370" y="0"/>
                </a:lnTo>
                <a:lnTo>
                  <a:pt x="344" y="0"/>
                </a:lnTo>
                <a:lnTo>
                  <a:pt x="317" y="5"/>
                </a:lnTo>
                <a:lnTo>
                  <a:pt x="285" y="1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29360" y="4881600"/>
            <a:ext cx="193176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4880" y="2349360"/>
            <a:ext cx="446400" cy="182880"/>
          </a:xfrm>
          <a:custGeom>
            <a:avLst/>
            <a:gdLst/>
            <a:ahLst/>
            <a:rect l="l" t="t" r="r" b="b"/>
            <a:pathLst>
              <a:path w="154" h="57">
                <a:moveTo>
                  <a:pt x="154" y="28"/>
                </a:moveTo>
                <a:lnTo>
                  <a:pt x="153" y="34"/>
                </a:lnTo>
                <a:lnTo>
                  <a:pt x="149" y="39"/>
                </a:lnTo>
                <a:lnTo>
                  <a:pt x="142" y="44"/>
                </a:lnTo>
                <a:lnTo>
                  <a:pt x="131" y="49"/>
                </a:lnTo>
                <a:lnTo>
                  <a:pt x="120" y="52"/>
                </a:lnTo>
                <a:lnTo>
                  <a:pt x="107" y="54"/>
                </a:lnTo>
                <a:lnTo>
                  <a:pt x="93" y="55"/>
                </a:lnTo>
                <a:lnTo>
                  <a:pt x="77" y="57"/>
                </a:lnTo>
                <a:lnTo>
                  <a:pt x="61" y="55"/>
                </a:lnTo>
                <a:lnTo>
                  <a:pt x="47" y="54"/>
                </a:lnTo>
                <a:lnTo>
                  <a:pt x="35" y="52"/>
                </a:lnTo>
                <a:lnTo>
                  <a:pt x="23" y="49"/>
                </a:lnTo>
                <a:lnTo>
                  <a:pt x="13" y="44"/>
                </a:lnTo>
                <a:lnTo>
                  <a:pt x="6" y="39"/>
                </a:lnTo>
                <a:lnTo>
                  <a:pt x="1" y="34"/>
                </a:lnTo>
                <a:lnTo>
                  <a:pt x="0" y="28"/>
                </a:lnTo>
                <a:lnTo>
                  <a:pt x="1" y="22"/>
                </a:lnTo>
                <a:lnTo>
                  <a:pt x="6" y="17"/>
                </a:lnTo>
                <a:lnTo>
                  <a:pt x="13" y="13"/>
                </a:lnTo>
                <a:lnTo>
                  <a:pt x="23" y="8"/>
                </a:lnTo>
                <a:lnTo>
                  <a:pt x="35" y="5"/>
                </a:lnTo>
                <a:lnTo>
                  <a:pt x="47" y="3"/>
                </a:lnTo>
                <a:lnTo>
                  <a:pt x="61" y="0"/>
                </a:lnTo>
                <a:lnTo>
                  <a:pt x="77" y="0"/>
                </a:lnTo>
                <a:lnTo>
                  <a:pt x="93" y="0"/>
                </a:lnTo>
                <a:lnTo>
                  <a:pt x="107" y="3"/>
                </a:lnTo>
                <a:lnTo>
                  <a:pt x="120" y="5"/>
                </a:lnTo>
                <a:lnTo>
                  <a:pt x="131" y="8"/>
                </a:lnTo>
                <a:lnTo>
                  <a:pt x="142" y="13"/>
                </a:lnTo>
                <a:lnTo>
                  <a:pt x="149" y="17"/>
                </a:lnTo>
                <a:lnTo>
                  <a:pt x="153" y="22"/>
                </a:lnTo>
                <a:lnTo>
                  <a:pt x="154" y="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7960" y="2349360"/>
            <a:ext cx="274680" cy="117720"/>
          </a:xfrm>
          <a:custGeom>
            <a:avLst/>
            <a:gdLst/>
            <a:ahLst/>
            <a:rect l="l" t="t" r="r" b="b"/>
            <a:pathLst>
              <a:path w="97" h="35">
                <a:moveTo>
                  <a:pt x="97" y="17"/>
                </a:moveTo>
                <a:lnTo>
                  <a:pt x="95" y="20"/>
                </a:lnTo>
                <a:lnTo>
                  <a:pt x="93" y="24"/>
                </a:lnTo>
                <a:lnTo>
                  <a:pt x="88" y="27"/>
                </a:lnTo>
                <a:lnTo>
                  <a:pt x="83" y="30"/>
                </a:lnTo>
                <a:lnTo>
                  <a:pt x="75" y="32"/>
                </a:lnTo>
                <a:lnTo>
                  <a:pt x="67" y="34"/>
                </a:lnTo>
                <a:lnTo>
                  <a:pt x="57" y="35"/>
                </a:lnTo>
                <a:lnTo>
                  <a:pt x="48" y="35"/>
                </a:lnTo>
                <a:lnTo>
                  <a:pt x="39" y="35"/>
                </a:lnTo>
                <a:lnTo>
                  <a:pt x="30" y="34"/>
                </a:lnTo>
                <a:lnTo>
                  <a:pt x="22" y="32"/>
                </a:lnTo>
                <a:lnTo>
                  <a:pt x="14" y="30"/>
                </a:lnTo>
                <a:lnTo>
                  <a:pt x="8" y="27"/>
                </a:lnTo>
                <a:lnTo>
                  <a:pt x="3" y="24"/>
                </a:lnTo>
                <a:lnTo>
                  <a:pt x="1" y="20"/>
                </a:lnTo>
                <a:lnTo>
                  <a:pt x="0" y="17"/>
                </a:lnTo>
                <a:lnTo>
                  <a:pt x="1" y="13"/>
                </a:lnTo>
                <a:lnTo>
                  <a:pt x="3" y="10"/>
                </a:lnTo>
                <a:lnTo>
                  <a:pt x="8" y="8"/>
                </a:lnTo>
                <a:lnTo>
                  <a:pt x="14" y="4"/>
                </a:lnTo>
                <a:lnTo>
                  <a:pt x="22" y="3"/>
                </a:lnTo>
                <a:lnTo>
                  <a:pt x="30" y="1"/>
                </a:lnTo>
                <a:lnTo>
                  <a:pt x="39" y="0"/>
                </a:lnTo>
                <a:lnTo>
                  <a:pt x="48" y="0"/>
                </a:lnTo>
                <a:lnTo>
                  <a:pt x="57" y="0"/>
                </a:lnTo>
                <a:lnTo>
                  <a:pt x="67" y="1"/>
                </a:lnTo>
                <a:lnTo>
                  <a:pt x="75" y="3"/>
                </a:lnTo>
                <a:lnTo>
                  <a:pt x="83" y="4"/>
                </a:lnTo>
                <a:lnTo>
                  <a:pt x="88" y="8"/>
                </a:lnTo>
                <a:lnTo>
                  <a:pt x="93" y="10"/>
                </a:lnTo>
                <a:lnTo>
                  <a:pt x="95" y="13"/>
                </a:lnTo>
                <a:lnTo>
                  <a:pt x="97" y="1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1720" y="2417760"/>
            <a:ext cx="274680" cy="38160"/>
          </a:xfrm>
          <a:custGeom>
            <a:avLst/>
            <a:gdLst/>
            <a:ahLst/>
            <a:rect l="l" t="t" r="r" b="b"/>
            <a:pathLst>
              <a:path w="97" h="11">
                <a:moveTo>
                  <a:pt x="0" y="0"/>
                </a:moveTo>
                <a:lnTo>
                  <a:pt x="2" y="1"/>
                </a:lnTo>
                <a:lnTo>
                  <a:pt x="8" y="3"/>
                </a:lnTo>
                <a:lnTo>
                  <a:pt x="17" y="7"/>
                </a:lnTo>
                <a:lnTo>
                  <a:pt x="30" y="10"/>
                </a:lnTo>
                <a:lnTo>
                  <a:pt x="45" y="11"/>
                </a:lnTo>
                <a:lnTo>
                  <a:pt x="61" y="11"/>
                </a:lnTo>
                <a:lnTo>
                  <a:pt x="78" y="8"/>
                </a:lnTo>
                <a:lnTo>
                  <a:pt x="97" y="0"/>
                </a:lnTo>
                <a:lnTo>
                  <a:pt x="93" y="0"/>
                </a:lnTo>
                <a:lnTo>
                  <a:pt x="85" y="2"/>
                </a:lnTo>
                <a:lnTo>
                  <a:pt x="74" y="3"/>
                </a:lnTo>
                <a:lnTo>
                  <a:pt x="59" y="4"/>
                </a:lnTo>
                <a:lnTo>
                  <a:pt x="44" y="6"/>
                </a:lnTo>
                <a:lnTo>
                  <a:pt x="27" y="6"/>
                </a:lnTo>
                <a:lnTo>
                  <a:pt x="12" y="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78400" y="2514600"/>
            <a:ext cx="773280" cy="3206880"/>
          </a:xfrm>
          <a:custGeom>
            <a:avLst/>
            <a:gdLst/>
            <a:ahLst/>
            <a:rect l="l" t="t" r="r" b="b"/>
            <a:pathLst>
              <a:path w="271" h="987">
                <a:moveTo>
                  <a:pt x="0" y="10"/>
                </a:moveTo>
                <a:lnTo>
                  <a:pt x="30" y="987"/>
                </a:lnTo>
                <a:lnTo>
                  <a:pt x="33" y="987"/>
                </a:lnTo>
                <a:lnTo>
                  <a:pt x="37" y="987"/>
                </a:lnTo>
                <a:lnTo>
                  <a:pt x="45" y="987"/>
                </a:lnTo>
                <a:lnTo>
                  <a:pt x="56" y="987"/>
                </a:lnTo>
                <a:lnTo>
                  <a:pt x="68" y="986"/>
                </a:lnTo>
                <a:lnTo>
                  <a:pt x="83" y="983"/>
                </a:lnTo>
                <a:lnTo>
                  <a:pt x="101" y="981"/>
                </a:lnTo>
                <a:lnTo>
                  <a:pt x="118" y="978"/>
                </a:lnTo>
                <a:lnTo>
                  <a:pt x="137" y="973"/>
                </a:lnTo>
                <a:lnTo>
                  <a:pt x="157" y="967"/>
                </a:lnTo>
                <a:lnTo>
                  <a:pt x="177" y="959"/>
                </a:lnTo>
                <a:lnTo>
                  <a:pt x="197" y="950"/>
                </a:lnTo>
                <a:lnTo>
                  <a:pt x="217" y="938"/>
                </a:lnTo>
                <a:lnTo>
                  <a:pt x="235" y="925"/>
                </a:lnTo>
                <a:lnTo>
                  <a:pt x="254" y="910"/>
                </a:lnTo>
                <a:lnTo>
                  <a:pt x="271" y="891"/>
                </a:lnTo>
                <a:lnTo>
                  <a:pt x="49" y="0"/>
                </a:lnTo>
                <a:lnTo>
                  <a:pt x="49" y="0"/>
                </a:lnTo>
                <a:lnTo>
                  <a:pt x="46" y="2"/>
                </a:lnTo>
                <a:lnTo>
                  <a:pt x="44" y="3"/>
                </a:lnTo>
                <a:lnTo>
                  <a:pt x="40" y="5"/>
                </a:lnTo>
                <a:lnTo>
                  <a:pt x="34" y="8"/>
                </a:lnTo>
                <a:lnTo>
                  <a:pt x="25" y="9"/>
                </a:lnTo>
                <a:lnTo>
                  <a:pt x="14" y="10"/>
                </a:lnTo>
                <a:lnTo>
                  <a:pt x="0" y="1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0320" y="2592360"/>
            <a:ext cx="648000" cy="3044880"/>
          </a:xfrm>
          <a:custGeom>
            <a:avLst/>
            <a:gdLst/>
            <a:ahLst/>
            <a:rect l="l" t="t" r="r" b="b"/>
            <a:pathLst>
              <a:path w="227" h="935">
                <a:moveTo>
                  <a:pt x="0" y="6"/>
                </a:moveTo>
                <a:lnTo>
                  <a:pt x="130" y="935"/>
                </a:lnTo>
                <a:lnTo>
                  <a:pt x="133" y="935"/>
                </a:lnTo>
                <a:lnTo>
                  <a:pt x="139" y="934"/>
                </a:lnTo>
                <a:lnTo>
                  <a:pt x="147" y="932"/>
                </a:lnTo>
                <a:lnTo>
                  <a:pt x="158" y="927"/>
                </a:lnTo>
                <a:lnTo>
                  <a:pt x="173" y="920"/>
                </a:lnTo>
                <a:lnTo>
                  <a:pt x="189" y="910"/>
                </a:lnTo>
                <a:lnTo>
                  <a:pt x="208" y="895"/>
                </a:lnTo>
                <a:lnTo>
                  <a:pt x="227" y="87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852960" y="2638080"/>
            <a:ext cx="718920" cy="26622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4881600"/>
            <a:ext cx="193212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81800" y="3933720"/>
            <a:ext cx="1295280" cy="50328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12600">
            <a:solidFill>
              <a:srgbClr val="6666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3240" y="4930920"/>
            <a:ext cx="41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26160" y="3789360"/>
            <a:ext cx="1008000" cy="358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2160" y="3141720"/>
            <a:ext cx="647640" cy="287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3240" y="3095640"/>
            <a:ext cx="4173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46160" y="3141720"/>
            <a:ext cx="3886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stablishing environmental account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62160" y="4941720"/>
            <a:ext cx="3886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New survey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51577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500280"/>
            <a:ext cx="108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29440" y="414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340000" y="4292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1DC5-DB0E-45E0-8EF1-615E31B03D8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12812-281C-4A91-BF2B-93DF6D7F33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20506200">
            <a:off x="2711520" y="1490400"/>
            <a:ext cx="2139840" cy="124128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1440" y="9050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3 Challenge of coordina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976480"/>
            <a:ext cx="1182960" cy="1389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2374920"/>
            <a:ext cx="100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E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1120680" cy="131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04000" y="4653000"/>
            <a:ext cx="2305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MA</a:t>
            </a:r>
            <a:br>
              <a:rPr sz="30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nvironment Ministry, created in 1996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3573360"/>
            <a:ext cx="4032360" cy="513000"/>
          </a:xfrm>
          <a:prstGeom prst="line">
            <a:avLst/>
          </a:prstGeom>
          <a:ln w="38160">
            <a:solidFill>
              <a:srgbClr val="666666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1" name=""/>
          <p:cNvSpPr/>
          <p:nvPr/>
        </p:nvSpPr>
        <p:spPr>
          <a:xfrm rot="343800">
            <a:off x="1403280" y="3931920"/>
            <a:ext cx="49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ordination of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amework (questionnaires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alysis of survey result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ft of the environmental account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y “Interdepartmental Commission of the High Council of Statistics”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47880" y="2041560"/>
            <a:ext cx="4040280" cy="1069920"/>
          </a:xfrm>
          <a:prstGeom prst="line">
            <a:avLst/>
          </a:prstGeom>
          <a:ln cap="rnd" w="38160">
            <a:solidFill>
              <a:srgbClr val="666666"/>
            </a:solidFill>
            <a:custDash>
              <a:ds d="100000" sp="1000"/>
            </a:custDash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97760" y="1658880"/>
            <a:ext cx="1120680" cy="1317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134120" y="1658880"/>
            <a:ext cx="1728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SE</a:t>
            </a:r>
            <a:br>
              <a:rPr sz="30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Observatory of Sustainability, created in 2004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5" name=""/>
          <p:cNvSpPr/>
          <p:nvPr/>
        </p:nvSpPr>
        <p:spPr>
          <a:xfrm rot="20677800">
            <a:off x="2190600" y="1742760"/>
            <a:ext cx="49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on?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671880" y="3166920"/>
            <a:ext cx="358920" cy="503280"/>
          </a:xfrm>
          <a:prstGeom prst="line">
            <a:avLst/>
          </a:prstGeom>
          <a:ln w="38160">
            <a:solidFill>
              <a:srgbClr val="666666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604280" y="939960"/>
            <a:ext cx="718920" cy="44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41720" y="2463840"/>
            <a:ext cx="2793960" cy="148284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8760" y="294624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ponsible unit for reporting SD?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1959-3DA0-4BBD-A9B3-0B239F0DFCB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E9536-3164-48AF-A159-6179B22239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4 Future perspectives, e.g.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559640" cy="44658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duction of requested EU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rovement of data qualit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eakdown of data to NUTS II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sion of easy access and expert advi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ximizing the interaction with other statistics producers and users of sustainability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nitoring the eventual new set of sustainable development indicators for the revised national strateg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FEF3-7BAB-4D34-BE5A-08DAE6CD80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AFCED-587B-4680-9A5E-525A7840A4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4 Future perspective?</a:t>
            </a: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62440" y="2500200"/>
            <a:ext cx="4062600" cy="2876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319880" y="113832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-380880" y="2527200"/>
            <a:ext cx="4749840" cy="2824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-1415880" y="3439800"/>
            <a:ext cx="3124080" cy="1219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08080" y="199080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5360" y="204156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899C-FA05-41DC-9FB1-04971067625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03D7A-18F8-4B40-AEAE-D5BC1DCA2D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 Questions for discuss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387600" cy="24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219A-1660-4BD6-AEF8-95587EB54AA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88192-9CBC-418F-ABE0-243AF699F1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1. Introduc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600" y="1663560"/>
            <a:ext cx="8477280" cy="44992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wo invited paper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ng social solidarity, economic efficiency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ibility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Swiss experience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CES/2005/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, prepared by Andrea Scheller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asurement of sustain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p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nish experien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ES/2005/25, prepared by Abilio Angul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sar Berrade, Maria Luisa Egido, Pedro Revilla and Jorge Saralegu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upporting paper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5000" y="3354480"/>
            <a:ext cx="640080" cy="43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77960" y="22478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3040" y="5181480"/>
            <a:ext cx="671400" cy="3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25440" y="5105520"/>
            <a:ext cx="766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measuring the sustainability o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urism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CES/2005/30, 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pared by Peter Laimer and Petra Öhlböck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CCB0-7849-4B79-B878-4D1F9E3A1B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03D58-F545-46D0-9215-6957BEE219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1 Location in the Cycle?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31680" y="2365200"/>
            <a:ext cx="2916720" cy="2916000"/>
            <a:chOff x="2731680" y="2365200"/>
            <a:chExt cx="2916720" cy="2916000"/>
          </a:xfrm>
        </p:grpSpPr>
        <p:sp>
          <p:nvSpPr>
            <p:cNvPr id="234" name="_s531483"/>
            <p:cNvSpPr/>
            <p:nvPr/>
          </p:nvSpPr>
          <p:spPr>
            <a:xfrm>
              <a:off x="2732040" y="2365200"/>
              <a:ext cx="2916360" cy="2916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5" name="_s531480"/>
            <p:cNvSpPr/>
            <p:nvPr/>
          </p:nvSpPr>
          <p:spPr>
            <a:xfrm rot="5400000">
              <a:off x="2731680" y="2364840"/>
              <a:ext cx="2916000" cy="291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6" name="_s531478"/>
            <p:cNvSpPr/>
            <p:nvPr/>
          </p:nvSpPr>
          <p:spPr>
            <a:xfrm rot="10800000">
              <a:off x="2731680" y="2364840"/>
              <a:ext cx="2916360" cy="2916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7" name="_s531477"/>
            <p:cNvSpPr/>
            <p:nvPr/>
          </p:nvSpPr>
          <p:spPr>
            <a:xfrm rot="16200000">
              <a:off x="2732040" y="2364840"/>
              <a:ext cx="2916000" cy="291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8" name="_s531475"/>
            <p:cNvSpPr/>
            <p:nvPr/>
          </p:nvSpPr>
          <p:spPr>
            <a:xfrm>
              <a:off x="2913120" y="254772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9" name="_s531476"/>
            <p:cNvSpPr/>
            <p:nvPr/>
          </p:nvSpPr>
          <p:spPr>
            <a:xfrm>
              <a:off x="2914560" y="435276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0" name="_s531479"/>
            <p:cNvSpPr/>
            <p:nvPr/>
          </p:nvSpPr>
          <p:spPr>
            <a:xfrm>
              <a:off x="4719600" y="435096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1" name="_s531482"/>
            <p:cNvSpPr/>
            <p:nvPr/>
          </p:nvSpPr>
          <p:spPr>
            <a:xfrm>
              <a:off x="4718160" y="2546280"/>
              <a:ext cx="7477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979440" y="5070240"/>
              <a:ext cx="374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928600" y="3594960"/>
              <a:ext cx="180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93560" y="1743120"/>
            <a:ext cx="2880000" cy="957240"/>
          </a:xfrm>
          <a:prstGeom prst="wedgeRoundRectCallout">
            <a:avLst>
              <a:gd name="adj1" fmla="val 35888"/>
              <a:gd name="adj2" fmla="val 6459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lightenment, creating awarenes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86560" y="1717560"/>
            <a:ext cx="2824200" cy="1274760"/>
          </a:xfrm>
          <a:prstGeom prst="wedgeRoundRectCallout">
            <a:avLst>
              <a:gd name="adj1" fmla="val -63601"/>
              <a:gd name="adj2" fmla="val 3543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 of objectives, fixing the measuring metho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6520" y="4789440"/>
            <a:ext cx="2643120" cy="1452600"/>
          </a:xfrm>
          <a:prstGeom prst="wedgeRoundRectCallout">
            <a:avLst>
              <a:gd name="adj1" fmla="val -66037"/>
              <a:gd name="adj2" fmla="val -4431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asuring the development, monitoring the direction and spee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984920"/>
            <a:ext cx="2719440" cy="1158840"/>
          </a:xfrm>
          <a:prstGeom prst="wedgeRoundRectCallout">
            <a:avLst>
              <a:gd name="adj1" fmla="val 31550"/>
              <a:gd name="adj2" fmla="val -5904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of the objectives attained, communic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2552760"/>
            <a:ext cx="39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8240" y="36702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42D9-E19E-4A8B-94B5-7A93F44F43F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DA03C-6531-4341-93F4-FE8D1B57B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2 How has the trade-off been resolved?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65320" y="2212920"/>
            <a:ext cx="6457680" cy="333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83040" y="4559400"/>
            <a:ext cx="1701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9920" y="3776760"/>
            <a:ext cx="1612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2581200"/>
            <a:ext cx="12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9280" y="5084640"/>
            <a:ext cx="1905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4720" y="4856040"/>
            <a:ext cx="290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Reporting system,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5580000"/>
            <a:ext cx="1981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62800" y="5607000"/>
            <a:ext cx="223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Measurability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1751040"/>
            <a:ext cx="2306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82760" y="5173560"/>
            <a:ext cx="25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itical consultancy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25480" y="2336400"/>
            <a:ext cx="261612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2349360"/>
            <a:ext cx="2616120" cy="261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69680" y="5816520"/>
            <a:ext cx="3699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9515-B225-4BD6-BA8F-1D28865E7FE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BAC2-0C8F-4C59-8A28-6097D158D0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6280" y="133668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3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has Sustainable </a:t>
            </a:r>
            <a:r>
              <a:rPr b="1" lang="en-GB" sz="2400" spc="-1" strike="noStrike" u="sng">
                <a:solidFill>
                  <a:srgbClr val="666666"/>
                </a:solidFill>
                <a:uFillTx/>
                <a:latin typeface="Arial"/>
              </a:rPr>
              <a:t>Development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 been taken into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ccount (versus Sustainability)?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440" y="241632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4 “Blank canvas” better than “gallery-walk” as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pproach?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5880" y="3470400"/>
            <a:ext cx="8417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5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to measure the stocks (What is the relationship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of stock data to flow data)?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3280" y="461340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6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to assess changes?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3280" y="527364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7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How can the linkage and interdependency of indicators be presented and analyz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E068-A296-4218-921C-8DEC9F55300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80798-0A5E-46B4-B06C-4E10E745D1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41440" y="2383920"/>
            <a:ext cx="8277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Thank you for your kind attention!</a:t>
            </a:r>
            <a:br>
              <a:rPr sz="3200"/>
            </a:b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____________________________________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Walter Radermacher</a:t>
            </a:r>
            <a:br>
              <a:rPr sz="3200"/>
            </a:br>
            <a:br>
              <a:rPr sz="3200"/>
            </a:b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tel: +49-611 75 2200</a:t>
            </a:r>
            <a:br>
              <a:rPr sz="2400"/>
            </a:b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e-mail: walter.radermacher@destatis.de</a:t>
            </a:r>
            <a:br>
              <a:rPr sz="2400"/>
            </a:b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68F2-9CC1-450D-B9B5-0E7730CADE7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4C8AF-4B09-42A1-A292-E4103E746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 The Swiss experi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7160" y="5013360"/>
            <a:ext cx="7062480" cy="936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tarting point for the indicator system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New Approa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11280" y="1916280"/>
            <a:ext cx="3959280" cy="28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37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B4D3-0A2B-4131-AA53-C9B347C10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41B1-9E4D-4B2D-A963-7B5427D66C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 The Swiss experience </a:t>
            </a:r>
            <a:br>
              <a:rPr sz="3000"/>
            </a:b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3200" y="2459160"/>
            <a:ext cx="7134120" cy="359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 Frame of referen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 Indicator system’s gri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two-dimensional indicator matrix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. Selection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. Result: MONE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7360" y="1844640"/>
            <a:ext cx="40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D0DD-2D7D-40FB-ADC9-69170A80F7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D617-6D08-4486-B3EE-C7924A44F6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7480" y="3187800"/>
            <a:ext cx="3132000" cy="177480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1 Frame of refer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108360" y="1752120"/>
            <a:ext cx="6991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89388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undtland”-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ement on qualitative objec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al solida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onomic effici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vironmental responsi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249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ulation of postul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option of 20 postul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67640" y="11984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05640" y="2019240"/>
            <a:ext cx="3132000" cy="177480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66000" y="242568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aspect in qualitative objective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4880" y="3746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fferences to the classical pillar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2A11-513A-40C8-984F-64C00B3768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8F1D2-5CD9-4F96-A536-C5D2296082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1 Frame of refer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4440" y="2458800"/>
            <a:ext cx="6991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cial solidarity (7 postulat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eneral principl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ing human r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d individual freed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125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 of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pro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uggle aga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pover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0">
              <a:spcBef>
                <a:spcPts val="125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edness and happines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97040" y="1895400"/>
            <a:ext cx="40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Examples for postulates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72D2-FB9B-4EF2-BFE3-1E801D004B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E6AF1-626C-435F-BE9D-4145C8FE06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56000" y="2421000"/>
            <a:ext cx="475272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752120"/>
            <a:ext cx="4062240" cy="3812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Indicator matrix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19640" y="2565000"/>
            <a:ext cx="0" cy="2592360"/>
          </a:xfrm>
          <a:prstGeom prst="line">
            <a:avLst/>
          </a:prstGeom>
          <a:ln w="12600">
            <a:solidFill>
              <a:srgbClr val="99003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465444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86244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14172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55101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 of indicato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90600" y="3262320"/>
            <a:ext cx="33116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or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 (topic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5E2E-3D66-4365-B65B-5C37EB9DFA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5F291-BC25-4602-9A2D-4781F3B61F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30480" y="1989000"/>
            <a:ext cx="7134120" cy="44992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doption of 26 topics, 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0">
              <a:spcBef>
                <a:spcPts val="400"/>
              </a:spcBef>
              <a:buNone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al security and prospe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e and leis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cial cohesion and particip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20 othe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700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xis referring to topic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80000" y="2349360"/>
            <a:ext cx="3492720" cy="309564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321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ionship between topics and postulates? Function of topic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8612-A031-4192-99EE-843CF84446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C3A93-91C0-4C55-932F-BD625E78B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05880" y="1001880"/>
            <a:ext cx="679320" cy="67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1700280"/>
            <a:ext cx="511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xis referring to type of indicator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3400" y="2298600"/>
            <a:ext cx="7326360" cy="354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8720" y="2708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document, p. 4)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4648320"/>
            <a:ext cx="2616120" cy="182556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24640" y="5130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rther explanation?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2D33-8B6B-4610-8954-AC3468F31BC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8D0FC-5DF9-46FD-A7B8-A7BF383FAF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2:48Z</dcterms:created>
  <dc:creator>neeb-c</dc:creator>
  <dc:description/>
  <dc:language>en-US</dc:language>
  <cp:lastModifiedBy>Rauss</cp:lastModifiedBy>
  <cp:lastPrinted>2002-05-22T15:37:50Z</cp:lastPrinted>
  <dcterms:modified xsi:type="dcterms:W3CDTF">2005-06-06T06:24:58Z</dcterms:modified>
  <cp:revision>222</cp:revision>
  <dc:subject/>
  <dc:title>Kein Folientitel</dc:title>
</cp:coreProperties>
</file>