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540A-74D9-44FB-9D80-E8E2EBCAC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F98C-5345-4835-B6FF-B277138F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FE54-B907-4AEC-B508-A774606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4085-98E5-415D-B194-7402223E7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C8B3-6D6D-4ADF-8D95-F53E1730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D9AF-4882-4443-AB71-771E38D3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0291-E87C-483C-B01D-C5D69092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E1A8-2ED0-4660-93B6-5194DB05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E999-FC5E-4C43-8A41-10BE6620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3CBF-7CAA-4379-90B3-898385BE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A0F8-D2CC-4596-ACB8-75BEC06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4A5A-A8DB-4AB3-944A-1AC4E319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75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11480" indent="-238320"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7840" y="6400800"/>
            <a:ext cx="10782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49ACFDA-99EA-466E-848D-6616760C0500}" type="datetime">
              <a:rPr b="0" lang="de-DE" sz="11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202600" y="6400800"/>
            <a:ext cx="70488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7537501-A317-4AEB-9170-C8B6D25D3F4C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57280" y="6351480"/>
            <a:ext cx="6121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7728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"/>
          <p:cNvSpPr/>
          <p:nvPr/>
        </p:nvSpPr>
        <p:spPr>
          <a:xfrm>
            <a:off x="531360" y="6351480"/>
            <a:ext cx="3445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© Statistisches Bundesamt, Walter Radermacher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1440" y="1402920"/>
            <a:ext cx="827712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0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1" lang="en-US" sz="50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7" name=""/>
          <p:cNvSpPr/>
          <p:nvPr/>
        </p:nvSpPr>
        <p:spPr>
          <a:xfrm>
            <a:off x="541440" y="6351480"/>
            <a:ext cx="57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MetaNormalLF-Roman"/>
              </a:rPr>
              <a:t>© Statistisches Bundesamt, Walter Radermacher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7240" indent="136440" algn="ctr"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96840" algn="ctr"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6280" indent="56880" algn="ctr">
              <a:spcBef>
                <a:spcPts val="374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916280" indent="568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916280" indent="568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1440" y="1989000"/>
            <a:ext cx="827712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53rd Conference of European Statisticians</a:t>
            </a:r>
            <a:br>
              <a:rPr sz="3000"/>
            </a:b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Geneva, 13-15 June 2005</a:t>
            </a:r>
            <a:br>
              <a:rPr sz="2300"/>
            </a:br>
            <a:br>
              <a:rPr sz="3000"/>
            </a:b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Seminar on "Sustainable Development"</a:t>
            </a:r>
            <a:endParaRPr b="1" lang="en-US" sz="23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1440" y="4060440"/>
            <a:ext cx="8277120" cy="2536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6160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Session III - Case Studies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6160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6160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Walter Radermacher (Discussant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6160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666666"/>
                </a:solidFill>
                <a:latin typeface="Arial"/>
              </a:rPr>
              <a:t>Federal Statistical Office, Germa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645000"/>
            <a:ext cx="8137440" cy="0"/>
          </a:xfrm>
          <a:prstGeom prst="line">
            <a:avLst/>
          </a:prstGeom>
          <a:ln w="38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3 Selection process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975120"/>
            <a:ext cx="33116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st roun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working group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2317680"/>
            <a:ext cx="1512720" cy="1535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35640" y="3975120"/>
            <a:ext cx="331164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nd roun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advisory groups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cl. science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532560" y="2317680"/>
            <a:ext cx="1495440" cy="151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03640" y="2390760"/>
            <a:ext cx="2736720" cy="136692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577960"/>
            <a:ext cx="33112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ET team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7092000" y="4364640"/>
            <a:ext cx="361800" cy="1944720"/>
          </a:xfrm>
          <a:custGeom>
            <a:avLst/>
            <a:gdLst>
              <a:gd name="textAreaLeft" fmla="*/ 0 w 361800"/>
              <a:gd name="textAreaRight" fmla="*/ 130680 w 3618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65452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: 163 indicator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3422-AC86-4C2B-8087-3B9F5CA773A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3D519-99C0-42F3-85E1-798C05696D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4 Result: “MONET”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488120" cy="449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01C5-8E68-4BC2-9FBA-6C884AE9AA4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4EF29-C870-4FE5-B9E0-BCBECF510E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 The Spanish experience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852480" y="2373480"/>
            <a:ext cx="3830760" cy="2276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777080" y="1138320"/>
            <a:ext cx="571680" cy="352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92720" y="2394000"/>
            <a:ext cx="2833920" cy="2265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39800" y="5373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4720" y="5013360"/>
            <a:ext cx="62341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Filling in data gap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38160" indent="-342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04760" y="195264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09720" indent="-332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4720" y="194004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48360" y="190188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09720" indent="-332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1054080" y="2354400"/>
            <a:ext cx="1320840" cy="2323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6280" y="2278080"/>
            <a:ext cx="228600" cy="26161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048120" y="2365200"/>
            <a:ext cx="3246480" cy="2298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6200000">
            <a:off x="4526640" y="138240"/>
            <a:ext cx="166680" cy="91058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46240" y="2341440"/>
            <a:ext cx="177840" cy="2324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10360" y="2354400"/>
            <a:ext cx="177840" cy="2323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527360" y="-2109600"/>
            <a:ext cx="101520" cy="8991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03440" y="2933640"/>
            <a:ext cx="1686240" cy="1532160"/>
          </a:xfrm>
          <a:custGeom>
            <a:avLst/>
            <a:gdLst/>
            <a:ahLst/>
            <a:rect l="l" t="t" r="r" b="b"/>
            <a:pathLst>
              <a:path w="1062" h="965">
                <a:moveTo>
                  <a:pt x="390" y="10"/>
                </a:moveTo>
                <a:cubicBezTo>
                  <a:pt x="365" y="26"/>
                  <a:pt x="342" y="46"/>
                  <a:pt x="318" y="62"/>
                </a:cubicBezTo>
                <a:cubicBezTo>
                  <a:pt x="295" y="77"/>
                  <a:pt x="266" y="86"/>
                  <a:pt x="246" y="106"/>
                </a:cubicBezTo>
                <a:cubicBezTo>
                  <a:pt x="226" y="126"/>
                  <a:pt x="203" y="157"/>
                  <a:pt x="179" y="173"/>
                </a:cubicBezTo>
                <a:cubicBezTo>
                  <a:pt x="172" y="192"/>
                  <a:pt x="168" y="200"/>
                  <a:pt x="150" y="211"/>
                </a:cubicBezTo>
                <a:cubicBezTo>
                  <a:pt x="138" y="232"/>
                  <a:pt x="127" y="251"/>
                  <a:pt x="107" y="264"/>
                </a:cubicBezTo>
                <a:cubicBezTo>
                  <a:pt x="93" y="303"/>
                  <a:pt x="64" y="335"/>
                  <a:pt x="50" y="374"/>
                </a:cubicBezTo>
                <a:cubicBezTo>
                  <a:pt x="36" y="413"/>
                  <a:pt x="30" y="455"/>
                  <a:pt x="16" y="494"/>
                </a:cubicBezTo>
                <a:cubicBezTo>
                  <a:pt x="0" y="588"/>
                  <a:pt x="8" y="666"/>
                  <a:pt x="59" y="744"/>
                </a:cubicBezTo>
                <a:cubicBezTo>
                  <a:pt x="73" y="766"/>
                  <a:pt x="102" y="794"/>
                  <a:pt x="122" y="811"/>
                </a:cubicBezTo>
                <a:cubicBezTo>
                  <a:pt x="131" y="818"/>
                  <a:pt x="150" y="830"/>
                  <a:pt x="150" y="830"/>
                </a:cubicBezTo>
                <a:cubicBezTo>
                  <a:pt x="166" y="855"/>
                  <a:pt x="203" y="870"/>
                  <a:pt x="232" y="878"/>
                </a:cubicBezTo>
                <a:cubicBezTo>
                  <a:pt x="262" y="899"/>
                  <a:pt x="320" y="918"/>
                  <a:pt x="357" y="922"/>
                </a:cubicBezTo>
                <a:cubicBezTo>
                  <a:pt x="389" y="926"/>
                  <a:pt x="453" y="931"/>
                  <a:pt x="453" y="931"/>
                </a:cubicBezTo>
                <a:cubicBezTo>
                  <a:pt x="515" y="944"/>
                  <a:pt x="582" y="950"/>
                  <a:pt x="645" y="955"/>
                </a:cubicBezTo>
                <a:cubicBezTo>
                  <a:pt x="685" y="965"/>
                  <a:pt x="725" y="951"/>
                  <a:pt x="765" y="946"/>
                </a:cubicBezTo>
                <a:cubicBezTo>
                  <a:pt x="791" y="937"/>
                  <a:pt x="819" y="932"/>
                  <a:pt x="846" y="926"/>
                </a:cubicBezTo>
                <a:cubicBezTo>
                  <a:pt x="861" y="923"/>
                  <a:pt x="890" y="912"/>
                  <a:pt x="890" y="912"/>
                </a:cubicBezTo>
                <a:cubicBezTo>
                  <a:pt x="922" y="889"/>
                  <a:pt x="957" y="871"/>
                  <a:pt x="990" y="850"/>
                </a:cubicBezTo>
                <a:cubicBezTo>
                  <a:pt x="1001" y="834"/>
                  <a:pt x="1029" y="806"/>
                  <a:pt x="1029" y="806"/>
                </a:cubicBezTo>
                <a:cubicBezTo>
                  <a:pt x="1031" y="801"/>
                  <a:pt x="1032" y="796"/>
                  <a:pt x="1034" y="792"/>
                </a:cubicBezTo>
                <a:cubicBezTo>
                  <a:pt x="1036" y="787"/>
                  <a:pt x="1041" y="783"/>
                  <a:pt x="1043" y="778"/>
                </a:cubicBezTo>
                <a:cubicBezTo>
                  <a:pt x="1047" y="769"/>
                  <a:pt x="1053" y="749"/>
                  <a:pt x="1053" y="749"/>
                </a:cubicBezTo>
                <a:cubicBezTo>
                  <a:pt x="1062" y="685"/>
                  <a:pt x="1060" y="609"/>
                  <a:pt x="1034" y="547"/>
                </a:cubicBezTo>
                <a:cubicBezTo>
                  <a:pt x="1009" y="489"/>
                  <a:pt x="1040" y="586"/>
                  <a:pt x="1014" y="514"/>
                </a:cubicBezTo>
                <a:cubicBezTo>
                  <a:pt x="1010" y="503"/>
                  <a:pt x="1014" y="488"/>
                  <a:pt x="1005" y="480"/>
                </a:cubicBezTo>
                <a:cubicBezTo>
                  <a:pt x="975" y="452"/>
                  <a:pt x="960" y="414"/>
                  <a:pt x="933" y="384"/>
                </a:cubicBezTo>
                <a:cubicBezTo>
                  <a:pt x="912" y="360"/>
                  <a:pt x="892" y="348"/>
                  <a:pt x="870" y="326"/>
                </a:cubicBezTo>
                <a:cubicBezTo>
                  <a:pt x="862" y="298"/>
                  <a:pt x="828" y="280"/>
                  <a:pt x="808" y="259"/>
                </a:cubicBezTo>
                <a:cubicBezTo>
                  <a:pt x="799" y="233"/>
                  <a:pt x="776" y="231"/>
                  <a:pt x="755" y="216"/>
                </a:cubicBezTo>
                <a:cubicBezTo>
                  <a:pt x="750" y="212"/>
                  <a:pt x="746" y="206"/>
                  <a:pt x="741" y="202"/>
                </a:cubicBezTo>
                <a:cubicBezTo>
                  <a:pt x="736" y="198"/>
                  <a:pt x="731" y="195"/>
                  <a:pt x="726" y="192"/>
                </a:cubicBezTo>
                <a:cubicBezTo>
                  <a:pt x="697" y="147"/>
                  <a:pt x="742" y="212"/>
                  <a:pt x="698" y="168"/>
                </a:cubicBezTo>
                <a:cubicBezTo>
                  <a:pt x="694" y="164"/>
                  <a:pt x="697" y="158"/>
                  <a:pt x="693" y="154"/>
                </a:cubicBezTo>
                <a:cubicBezTo>
                  <a:pt x="682" y="143"/>
                  <a:pt x="629" y="112"/>
                  <a:pt x="611" y="101"/>
                </a:cubicBezTo>
                <a:cubicBezTo>
                  <a:pt x="588" y="87"/>
                  <a:pt x="570" y="66"/>
                  <a:pt x="544" y="58"/>
                </a:cubicBezTo>
                <a:cubicBezTo>
                  <a:pt x="532" y="40"/>
                  <a:pt x="526" y="40"/>
                  <a:pt x="506" y="34"/>
                </a:cubicBezTo>
                <a:cubicBezTo>
                  <a:pt x="477" y="12"/>
                  <a:pt x="494" y="21"/>
                  <a:pt x="453" y="10"/>
                </a:cubicBezTo>
                <a:cubicBezTo>
                  <a:pt x="443" y="7"/>
                  <a:pt x="424" y="0"/>
                  <a:pt x="424" y="0"/>
                </a:cubicBezTo>
                <a:cubicBezTo>
                  <a:pt x="410" y="2"/>
                  <a:pt x="394" y="0"/>
                  <a:pt x="381" y="5"/>
                </a:cubicBezTo>
                <a:cubicBezTo>
                  <a:pt x="376" y="7"/>
                  <a:pt x="372" y="17"/>
                  <a:pt x="376" y="19"/>
                </a:cubicBezTo>
                <a:cubicBezTo>
                  <a:pt x="381" y="22"/>
                  <a:pt x="385" y="13"/>
                  <a:pt x="390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BFC2-5EDB-47BB-A731-E25D5899B33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11FCA-4520-4714-B922-C398D5FE4D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1440" y="1133280"/>
            <a:ext cx="827712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 The Spanish experience </a:t>
            </a:r>
            <a:br>
              <a:rPr sz="3000"/>
            </a:b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3200" y="2459160"/>
            <a:ext cx="7134120" cy="35971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41904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. Orient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 Program for environmental dat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. Coordination challeng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. Future perspectiv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7360" y="1844640"/>
            <a:ext cx="40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719280" cy="4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BFEB-DFB1-44CF-96EB-D5AD9CD559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226E3-95C7-4855-9F55-92210BE0E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1 Orientation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0120" y="1695240"/>
            <a:ext cx="792648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rientation to requirements at international and European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rientation to available methodological frameworks, (e.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mber of Eurostat Task Force on Sustainability Indicato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pecial emphasis on availability of regional data (EU-NUTS II level: “comundidades y ciudades autonomas” in Spain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719280" cy="4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94B6-60F7-4480-90D0-743CCB8DA2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40D33-649B-4E87-9768-CE2BEB5F34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765760" y="3297240"/>
            <a:ext cx="934920" cy="36036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noFill/>
          <a:ln w="12600">
            <a:solidFill>
              <a:srgbClr val="6666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2 Program for environmental data 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4881600"/>
            <a:ext cx="1932120" cy="92376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solidFill>
            <a:srgbClr val="78718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22880" y="2421000"/>
            <a:ext cx="1938240" cy="3004920"/>
          </a:xfrm>
          <a:custGeom>
            <a:avLst/>
            <a:gdLst/>
            <a:ahLst/>
            <a:rect l="l" t="t" r="r" b="b"/>
            <a:pathLst>
              <a:path w="675" h="924">
                <a:moveTo>
                  <a:pt x="285" y="16"/>
                </a:moveTo>
                <a:lnTo>
                  <a:pt x="0" y="924"/>
                </a:lnTo>
                <a:lnTo>
                  <a:pt x="675" y="924"/>
                </a:lnTo>
                <a:lnTo>
                  <a:pt x="432" y="19"/>
                </a:lnTo>
                <a:lnTo>
                  <a:pt x="430" y="17"/>
                </a:lnTo>
                <a:lnTo>
                  <a:pt x="422" y="13"/>
                </a:lnTo>
                <a:lnTo>
                  <a:pt x="409" y="7"/>
                </a:lnTo>
                <a:lnTo>
                  <a:pt x="392" y="3"/>
                </a:lnTo>
                <a:lnTo>
                  <a:pt x="370" y="0"/>
                </a:lnTo>
                <a:lnTo>
                  <a:pt x="344" y="0"/>
                </a:lnTo>
                <a:lnTo>
                  <a:pt x="317" y="5"/>
                </a:lnTo>
                <a:lnTo>
                  <a:pt x="285" y="1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29360" y="4881600"/>
            <a:ext cx="1931760" cy="92376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4880" y="2349360"/>
            <a:ext cx="446400" cy="182880"/>
          </a:xfrm>
          <a:custGeom>
            <a:avLst/>
            <a:gdLst/>
            <a:ahLst/>
            <a:rect l="l" t="t" r="r" b="b"/>
            <a:pathLst>
              <a:path w="154" h="57">
                <a:moveTo>
                  <a:pt x="154" y="28"/>
                </a:moveTo>
                <a:lnTo>
                  <a:pt x="153" y="34"/>
                </a:lnTo>
                <a:lnTo>
                  <a:pt x="149" y="39"/>
                </a:lnTo>
                <a:lnTo>
                  <a:pt x="142" y="44"/>
                </a:lnTo>
                <a:lnTo>
                  <a:pt x="131" y="49"/>
                </a:lnTo>
                <a:lnTo>
                  <a:pt x="120" y="52"/>
                </a:lnTo>
                <a:lnTo>
                  <a:pt x="107" y="54"/>
                </a:lnTo>
                <a:lnTo>
                  <a:pt x="93" y="55"/>
                </a:lnTo>
                <a:lnTo>
                  <a:pt x="77" y="57"/>
                </a:lnTo>
                <a:lnTo>
                  <a:pt x="61" y="55"/>
                </a:lnTo>
                <a:lnTo>
                  <a:pt x="47" y="54"/>
                </a:lnTo>
                <a:lnTo>
                  <a:pt x="35" y="52"/>
                </a:lnTo>
                <a:lnTo>
                  <a:pt x="23" y="49"/>
                </a:lnTo>
                <a:lnTo>
                  <a:pt x="13" y="44"/>
                </a:lnTo>
                <a:lnTo>
                  <a:pt x="6" y="39"/>
                </a:lnTo>
                <a:lnTo>
                  <a:pt x="1" y="34"/>
                </a:lnTo>
                <a:lnTo>
                  <a:pt x="0" y="28"/>
                </a:lnTo>
                <a:lnTo>
                  <a:pt x="1" y="22"/>
                </a:lnTo>
                <a:lnTo>
                  <a:pt x="6" y="17"/>
                </a:lnTo>
                <a:lnTo>
                  <a:pt x="13" y="13"/>
                </a:lnTo>
                <a:lnTo>
                  <a:pt x="23" y="8"/>
                </a:lnTo>
                <a:lnTo>
                  <a:pt x="35" y="5"/>
                </a:lnTo>
                <a:lnTo>
                  <a:pt x="47" y="3"/>
                </a:lnTo>
                <a:lnTo>
                  <a:pt x="61" y="0"/>
                </a:lnTo>
                <a:lnTo>
                  <a:pt x="77" y="0"/>
                </a:lnTo>
                <a:lnTo>
                  <a:pt x="93" y="0"/>
                </a:lnTo>
                <a:lnTo>
                  <a:pt x="107" y="3"/>
                </a:lnTo>
                <a:lnTo>
                  <a:pt x="120" y="5"/>
                </a:lnTo>
                <a:lnTo>
                  <a:pt x="131" y="8"/>
                </a:lnTo>
                <a:lnTo>
                  <a:pt x="142" y="13"/>
                </a:lnTo>
                <a:lnTo>
                  <a:pt x="149" y="17"/>
                </a:lnTo>
                <a:lnTo>
                  <a:pt x="153" y="22"/>
                </a:lnTo>
                <a:lnTo>
                  <a:pt x="154" y="2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87960" y="2349360"/>
            <a:ext cx="274680" cy="117720"/>
          </a:xfrm>
          <a:custGeom>
            <a:avLst/>
            <a:gdLst/>
            <a:ahLst/>
            <a:rect l="l" t="t" r="r" b="b"/>
            <a:pathLst>
              <a:path w="97" h="35">
                <a:moveTo>
                  <a:pt x="97" y="17"/>
                </a:moveTo>
                <a:lnTo>
                  <a:pt x="95" y="20"/>
                </a:lnTo>
                <a:lnTo>
                  <a:pt x="93" y="24"/>
                </a:lnTo>
                <a:lnTo>
                  <a:pt x="88" y="27"/>
                </a:lnTo>
                <a:lnTo>
                  <a:pt x="83" y="30"/>
                </a:lnTo>
                <a:lnTo>
                  <a:pt x="75" y="32"/>
                </a:lnTo>
                <a:lnTo>
                  <a:pt x="67" y="34"/>
                </a:lnTo>
                <a:lnTo>
                  <a:pt x="57" y="35"/>
                </a:lnTo>
                <a:lnTo>
                  <a:pt x="48" y="35"/>
                </a:lnTo>
                <a:lnTo>
                  <a:pt x="39" y="35"/>
                </a:lnTo>
                <a:lnTo>
                  <a:pt x="30" y="34"/>
                </a:lnTo>
                <a:lnTo>
                  <a:pt x="22" y="32"/>
                </a:lnTo>
                <a:lnTo>
                  <a:pt x="14" y="30"/>
                </a:lnTo>
                <a:lnTo>
                  <a:pt x="8" y="27"/>
                </a:lnTo>
                <a:lnTo>
                  <a:pt x="3" y="24"/>
                </a:lnTo>
                <a:lnTo>
                  <a:pt x="1" y="20"/>
                </a:lnTo>
                <a:lnTo>
                  <a:pt x="0" y="17"/>
                </a:lnTo>
                <a:lnTo>
                  <a:pt x="1" y="13"/>
                </a:lnTo>
                <a:lnTo>
                  <a:pt x="3" y="10"/>
                </a:lnTo>
                <a:lnTo>
                  <a:pt x="8" y="8"/>
                </a:lnTo>
                <a:lnTo>
                  <a:pt x="14" y="4"/>
                </a:lnTo>
                <a:lnTo>
                  <a:pt x="22" y="3"/>
                </a:lnTo>
                <a:lnTo>
                  <a:pt x="30" y="1"/>
                </a:lnTo>
                <a:lnTo>
                  <a:pt x="39" y="0"/>
                </a:lnTo>
                <a:lnTo>
                  <a:pt x="48" y="0"/>
                </a:lnTo>
                <a:lnTo>
                  <a:pt x="57" y="0"/>
                </a:lnTo>
                <a:lnTo>
                  <a:pt x="67" y="1"/>
                </a:lnTo>
                <a:lnTo>
                  <a:pt x="75" y="3"/>
                </a:lnTo>
                <a:lnTo>
                  <a:pt x="83" y="4"/>
                </a:lnTo>
                <a:lnTo>
                  <a:pt x="88" y="8"/>
                </a:lnTo>
                <a:lnTo>
                  <a:pt x="93" y="10"/>
                </a:lnTo>
                <a:lnTo>
                  <a:pt x="95" y="13"/>
                </a:lnTo>
                <a:lnTo>
                  <a:pt x="97" y="1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1720" y="2417760"/>
            <a:ext cx="274680" cy="38160"/>
          </a:xfrm>
          <a:custGeom>
            <a:avLst/>
            <a:gdLst/>
            <a:ahLst/>
            <a:rect l="l" t="t" r="r" b="b"/>
            <a:pathLst>
              <a:path w="97" h="11">
                <a:moveTo>
                  <a:pt x="0" y="0"/>
                </a:moveTo>
                <a:lnTo>
                  <a:pt x="2" y="1"/>
                </a:lnTo>
                <a:lnTo>
                  <a:pt x="8" y="3"/>
                </a:lnTo>
                <a:lnTo>
                  <a:pt x="17" y="7"/>
                </a:lnTo>
                <a:lnTo>
                  <a:pt x="30" y="10"/>
                </a:lnTo>
                <a:lnTo>
                  <a:pt x="45" y="11"/>
                </a:lnTo>
                <a:lnTo>
                  <a:pt x="61" y="11"/>
                </a:lnTo>
                <a:lnTo>
                  <a:pt x="78" y="8"/>
                </a:lnTo>
                <a:lnTo>
                  <a:pt x="97" y="0"/>
                </a:lnTo>
                <a:lnTo>
                  <a:pt x="93" y="0"/>
                </a:lnTo>
                <a:lnTo>
                  <a:pt x="85" y="2"/>
                </a:lnTo>
                <a:lnTo>
                  <a:pt x="74" y="3"/>
                </a:lnTo>
                <a:lnTo>
                  <a:pt x="59" y="4"/>
                </a:lnTo>
                <a:lnTo>
                  <a:pt x="44" y="6"/>
                </a:lnTo>
                <a:lnTo>
                  <a:pt x="27" y="6"/>
                </a:lnTo>
                <a:lnTo>
                  <a:pt x="12" y="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78400" y="2514600"/>
            <a:ext cx="773280" cy="3206880"/>
          </a:xfrm>
          <a:custGeom>
            <a:avLst/>
            <a:gdLst/>
            <a:ahLst/>
            <a:rect l="l" t="t" r="r" b="b"/>
            <a:pathLst>
              <a:path w="271" h="987">
                <a:moveTo>
                  <a:pt x="0" y="10"/>
                </a:moveTo>
                <a:lnTo>
                  <a:pt x="30" y="987"/>
                </a:lnTo>
                <a:lnTo>
                  <a:pt x="33" y="987"/>
                </a:lnTo>
                <a:lnTo>
                  <a:pt x="37" y="987"/>
                </a:lnTo>
                <a:lnTo>
                  <a:pt x="45" y="987"/>
                </a:lnTo>
                <a:lnTo>
                  <a:pt x="56" y="987"/>
                </a:lnTo>
                <a:lnTo>
                  <a:pt x="68" y="986"/>
                </a:lnTo>
                <a:lnTo>
                  <a:pt x="83" y="983"/>
                </a:lnTo>
                <a:lnTo>
                  <a:pt x="101" y="981"/>
                </a:lnTo>
                <a:lnTo>
                  <a:pt x="118" y="978"/>
                </a:lnTo>
                <a:lnTo>
                  <a:pt x="137" y="973"/>
                </a:lnTo>
                <a:lnTo>
                  <a:pt x="157" y="967"/>
                </a:lnTo>
                <a:lnTo>
                  <a:pt x="177" y="959"/>
                </a:lnTo>
                <a:lnTo>
                  <a:pt x="197" y="950"/>
                </a:lnTo>
                <a:lnTo>
                  <a:pt x="217" y="938"/>
                </a:lnTo>
                <a:lnTo>
                  <a:pt x="235" y="925"/>
                </a:lnTo>
                <a:lnTo>
                  <a:pt x="254" y="910"/>
                </a:lnTo>
                <a:lnTo>
                  <a:pt x="271" y="891"/>
                </a:lnTo>
                <a:lnTo>
                  <a:pt x="49" y="0"/>
                </a:lnTo>
                <a:lnTo>
                  <a:pt x="49" y="0"/>
                </a:lnTo>
                <a:lnTo>
                  <a:pt x="46" y="2"/>
                </a:lnTo>
                <a:lnTo>
                  <a:pt x="44" y="3"/>
                </a:lnTo>
                <a:lnTo>
                  <a:pt x="40" y="5"/>
                </a:lnTo>
                <a:lnTo>
                  <a:pt x="34" y="8"/>
                </a:lnTo>
                <a:lnTo>
                  <a:pt x="25" y="9"/>
                </a:lnTo>
                <a:lnTo>
                  <a:pt x="14" y="10"/>
                </a:lnTo>
                <a:lnTo>
                  <a:pt x="0" y="1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40320" y="2592360"/>
            <a:ext cx="648000" cy="3044880"/>
          </a:xfrm>
          <a:custGeom>
            <a:avLst/>
            <a:gdLst/>
            <a:ahLst/>
            <a:rect l="l" t="t" r="r" b="b"/>
            <a:pathLst>
              <a:path w="227" h="935">
                <a:moveTo>
                  <a:pt x="0" y="6"/>
                </a:moveTo>
                <a:lnTo>
                  <a:pt x="130" y="935"/>
                </a:lnTo>
                <a:lnTo>
                  <a:pt x="133" y="935"/>
                </a:lnTo>
                <a:lnTo>
                  <a:pt x="139" y="934"/>
                </a:lnTo>
                <a:lnTo>
                  <a:pt x="147" y="932"/>
                </a:lnTo>
                <a:lnTo>
                  <a:pt x="158" y="927"/>
                </a:lnTo>
                <a:lnTo>
                  <a:pt x="173" y="920"/>
                </a:lnTo>
                <a:lnTo>
                  <a:pt x="189" y="910"/>
                </a:lnTo>
                <a:lnTo>
                  <a:pt x="208" y="895"/>
                </a:lnTo>
                <a:lnTo>
                  <a:pt x="227" y="87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852960" y="2638080"/>
            <a:ext cx="718920" cy="2662200"/>
          </a:xfrm>
          <a:prstGeom prst="line">
            <a:avLst/>
          </a:prstGeom>
          <a:ln w="381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4881600"/>
            <a:ext cx="1932120" cy="92376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81800" y="3933720"/>
            <a:ext cx="1295280" cy="503280"/>
          </a:xfrm>
          <a:custGeom>
            <a:avLst/>
            <a:gdLst/>
            <a:ahLst/>
            <a:rect l="l" t="t" r="r" b="b"/>
            <a:pathLst>
              <a:path w="674" h="284">
                <a:moveTo>
                  <a:pt x="674" y="143"/>
                </a:moveTo>
                <a:lnTo>
                  <a:pt x="672" y="157"/>
                </a:lnTo>
                <a:lnTo>
                  <a:pt x="667" y="171"/>
                </a:lnTo>
                <a:lnTo>
                  <a:pt x="659" y="185"/>
                </a:lnTo>
                <a:lnTo>
                  <a:pt x="648" y="198"/>
                </a:lnTo>
                <a:lnTo>
                  <a:pt x="634" y="210"/>
                </a:lnTo>
                <a:lnTo>
                  <a:pt x="617" y="222"/>
                </a:lnTo>
                <a:lnTo>
                  <a:pt x="597" y="232"/>
                </a:lnTo>
                <a:lnTo>
                  <a:pt x="575" y="243"/>
                </a:lnTo>
                <a:lnTo>
                  <a:pt x="552" y="252"/>
                </a:lnTo>
                <a:lnTo>
                  <a:pt x="526" y="260"/>
                </a:lnTo>
                <a:lnTo>
                  <a:pt x="498" y="267"/>
                </a:lnTo>
                <a:lnTo>
                  <a:pt x="469" y="273"/>
                </a:lnTo>
                <a:lnTo>
                  <a:pt x="438" y="277"/>
                </a:lnTo>
                <a:lnTo>
                  <a:pt x="406" y="282"/>
                </a:lnTo>
                <a:lnTo>
                  <a:pt x="372" y="283"/>
                </a:lnTo>
                <a:lnTo>
                  <a:pt x="338" y="284"/>
                </a:lnTo>
                <a:lnTo>
                  <a:pt x="303" y="283"/>
                </a:lnTo>
                <a:lnTo>
                  <a:pt x="270" y="282"/>
                </a:lnTo>
                <a:lnTo>
                  <a:pt x="237" y="277"/>
                </a:lnTo>
                <a:lnTo>
                  <a:pt x="206" y="273"/>
                </a:lnTo>
                <a:lnTo>
                  <a:pt x="176" y="267"/>
                </a:lnTo>
                <a:lnTo>
                  <a:pt x="149" y="260"/>
                </a:lnTo>
                <a:lnTo>
                  <a:pt x="123" y="252"/>
                </a:lnTo>
                <a:lnTo>
                  <a:pt x="99" y="243"/>
                </a:lnTo>
                <a:lnTo>
                  <a:pt x="77" y="232"/>
                </a:lnTo>
                <a:lnTo>
                  <a:pt x="58" y="222"/>
                </a:lnTo>
                <a:lnTo>
                  <a:pt x="40" y="210"/>
                </a:lnTo>
                <a:lnTo>
                  <a:pt x="27" y="198"/>
                </a:lnTo>
                <a:lnTo>
                  <a:pt x="15" y="185"/>
                </a:lnTo>
                <a:lnTo>
                  <a:pt x="7" y="171"/>
                </a:lnTo>
                <a:lnTo>
                  <a:pt x="2" y="157"/>
                </a:lnTo>
                <a:lnTo>
                  <a:pt x="0" y="143"/>
                </a:lnTo>
                <a:lnTo>
                  <a:pt x="2" y="128"/>
                </a:lnTo>
                <a:lnTo>
                  <a:pt x="7" y="114"/>
                </a:lnTo>
                <a:lnTo>
                  <a:pt x="15" y="100"/>
                </a:lnTo>
                <a:lnTo>
                  <a:pt x="27" y="87"/>
                </a:lnTo>
                <a:lnTo>
                  <a:pt x="40" y="75"/>
                </a:lnTo>
                <a:lnTo>
                  <a:pt x="58" y="62"/>
                </a:lnTo>
                <a:lnTo>
                  <a:pt x="77" y="52"/>
                </a:lnTo>
                <a:lnTo>
                  <a:pt x="99" y="41"/>
                </a:lnTo>
                <a:lnTo>
                  <a:pt x="123" y="32"/>
                </a:lnTo>
                <a:lnTo>
                  <a:pt x="149" y="24"/>
                </a:lnTo>
                <a:lnTo>
                  <a:pt x="176" y="17"/>
                </a:lnTo>
                <a:lnTo>
                  <a:pt x="206" y="11"/>
                </a:lnTo>
                <a:lnTo>
                  <a:pt x="237" y="7"/>
                </a:lnTo>
                <a:lnTo>
                  <a:pt x="270" y="2"/>
                </a:lnTo>
                <a:lnTo>
                  <a:pt x="303" y="1"/>
                </a:lnTo>
                <a:lnTo>
                  <a:pt x="338" y="0"/>
                </a:lnTo>
                <a:lnTo>
                  <a:pt x="372" y="1"/>
                </a:lnTo>
                <a:lnTo>
                  <a:pt x="406" y="2"/>
                </a:lnTo>
                <a:lnTo>
                  <a:pt x="438" y="7"/>
                </a:lnTo>
                <a:lnTo>
                  <a:pt x="469" y="11"/>
                </a:lnTo>
                <a:lnTo>
                  <a:pt x="498" y="17"/>
                </a:lnTo>
                <a:lnTo>
                  <a:pt x="526" y="24"/>
                </a:lnTo>
                <a:lnTo>
                  <a:pt x="552" y="32"/>
                </a:lnTo>
                <a:lnTo>
                  <a:pt x="575" y="41"/>
                </a:lnTo>
                <a:lnTo>
                  <a:pt x="597" y="52"/>
                </a:lnTo>
                <a:lnTo>
                  <a:pt x="617" y="62"/>
                </a:lnTo>
                <a:lnTo>
                  <a:pt x="634" y="75"/>
                </a:lnTo>
                <a:lnTo>
                  <a:pt x="648" y="87"/>
                </a:lnTo>
                <a:lnTo>
                  <a:pt x="659" y="100"/>
                </a:lnTo>
                <a:lnTo>
                  <a:pt x="667" y="114"/>
                </a:lnTo>
                <a:lnTo>
                  <a:pt x="672" y="128"/>
                </a:lnTo>
                <a:lnTo>
                  <a:pt x="674" y="143"/>
                </a:lnTo>
                <a:close/>
              </a:path>
            </a:pathLst>
          </a:custGeom>
          <a:noFill/>
          <a:ln w="12600">
            <a:solidFill>
              <a:srgbClr val="6666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43240" y="4930920"/>
            <a:ext cx="4173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basic data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26160" y="3789360"/>
            <a:ext cx="1008000" cy="358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2160" y="3141720"/>
            <a:ext cx="647640" cy="287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719280" cy="443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3240" y="3095640"/>
            <a:ext cx="4173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46160" y="3141720"/>
            <a:ext cx="38862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stablishing environmental accounts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62160" y="4941720"/>
            <a:ext cx="3886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New surveys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51577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3500280"/>
            <a:ext cx="108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29440" y="414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340000" y="4292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8D9F-3735-468E-9792-F1B4BE16B5D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48E98-1951-4F26-AABE-1032FA4057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rot="20506200">
            <a:off x="2711520" y="1490400"/>
            <a:ext cx="2139840" cy="124128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1440" y="9050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3 Challenge of coordination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9640" y="2976480"/>
            <a:ext cx="1182960" cy="1389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0320" y="2374920"/>
            <a:ext cx="1003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E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1120680" cy="1317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04000" y="4653000"/>
            <a:ext cx="2305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MA</a:t>
            </a:r>
            <a:br>
              <a:rPr sz="30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nvironment Ministry, created in 1996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3573360"/>
            <a:ext cx="4032360" cy="513000"/>
          </a:xfrm>
          <a:prstGeom prst="line">
            <a:avLst/>
          </a:prstGeom>
          <a:ln w="38160">
            <a:solidFill>
              <a:srgbClr val="666666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1" name=""/>
          <p:cNvSpPr/>
          <p:nvPr/>
        </p:nvSpPr>
        <p:spPr>
          <a:xfrm rot="343800">
            <a:off x="1403280" y="3931920"/>
            <a:ext cx="496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ordination of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amework (questionnaires)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alysis of survey result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raft of the environmental account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y “Interdepartmental Commission of the High Council of Statistics”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847880" y="2041560"/>
            <a:ext cx="4040280" cy="1069920"/>
          </a:xfrm>
          <a:prstGeom prst="line">
            <a:avLst/>
          </a:prstGeom>
          <a:ln cap="rnd" w="38160">
            <a:solidFill>
              <a:srgbClr val="666666"/>
            </a:solidFill>
            <a:custDash>
              <a:ds d="100000" sp="1000"/>
            </a:custDash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197760" y="1658880"/>
            <a:ext cx="1120680" cy="1317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134120" y="1658880"/>
            <a:ext cx="17287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OSE</a:t>
            </a:r>
            <a:br>
              <a:rPr sz="30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Observatory of Sustainability, created in 2004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5" name=""/>
          <p:cNvSpPr/>
          <p:nvPr/>
        </p:nvSpPr>
        <p:spPr>
          <a:xfrm rot="20677800">
            <a:off x="2190600" y="1742760"/>
            <a:ext cx="49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ion? 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671880" y="3166920"/>
            <a:ext cx="358920" cy="503280"/>
          </a:xfrm>
          <a:prstGeom prst="line">
            <a:avLst/>
          </a:prstGeom>
          <a:ln w="38160">
            <a:solidFill>
              <a:srgbClr val="666666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604280" y="939960"/>
            <a:ext cx="718920" cy="442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141720" y="2463840"/>
            <a:ext cx="2793960" cy="148284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98760" y="294624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ponsible unit for reporting SD?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9AF0-3169-41DF-8108-8FBB6441B2C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5FBB5-1F1C-47D8-BA8F-66696D1959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4 Future perspectives, e.g.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559640" cy="44658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duction of requested EU indicato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provement of data qualit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eakdown of data to NUTS II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ision of easy access and expert advic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ximizing the interaction with other statistics producers and users of sustainability indicato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nitoring the eventual new set of sustainable development indicators for the revised national strateg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719280" cy="4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E762-923A-454F-A182-9B775E030B7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E96FB-2157-4C20-9952-F92860C716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3.4 Future perspective?</a:t>
            </a: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762440" y="2500200"/>
            <a:ext cx="4062600" cy="2876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319880" y="1138320"/>
            <a:ext cx="571680" cy="352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-380880" y="2527200"/>
            <a:ext cx="4749840" cy="2824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-1415880" y="3439800"/>
            <a:ext cx="3124080" cy="1219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08080" y="199080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09720" indent="-332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5360" y="2041560"/>
            <a:ext cx="1560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406440" indent="-40644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EE6C-F7E8-47E0-8AFE-D13AF3CA557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65E37-0736-420F-A794-508511E4BC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4. Questions for discussion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387600" cy="24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B2CB-656B-4272-99F8-D0C441FCAD7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EF3D6-0A99-4193-92AE-E0E695E81D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1. Introduction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600" y="1663560"/>
            <a:ext cx="8477280" cy="449928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Two invited paper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ng social solidarity, economic efficiency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ibility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Swiss experience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CES/2005/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, prepared by Andrea Scheller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easurement of sustain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p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nish experienc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ES/2005/25, prepared by Abilio Angulo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sar Berrade, Maria Luisa Egido, Pedro Revilla and Jorge Saralegui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Supporting paper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5000" y="3354480"/>
            <a:ext cx="640080" cy="439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77960" y="224784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3040" y="5181480"/>
            <a:ext cx="671400" cy="39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25440" y="5105520"/>
            <a:ext cx="76644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measuring the sustainability o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urism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CES/2005/30, 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pared by Peter Laimer and Petra Öhlböck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1B81-7B03-4F08-BC66-B59773ADB0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DF106-91A7-4DCF-881B-9C4A506C08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4.1 Location in the Cycle?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731680" y="2365200"/>
            <a:ext cx="2916720" cy="2916000"/>
            <a:chOff x="2731680" y="2365200"/>
            <a:chExt cx="2916720" cy="2916000"/>
          </a:xfrm>
        </p:grpSpPr>
        <p:sp>
          <p:nvSpPr>
            <p:cNvPr id="234" name="_s531483"/>
            <p:cNvSpPr/>
            <p:nvPr/>
          </p:nvSpPr>
          <p:spPr>
            <a:xfrm>
              <a:off x="2732040" y="2365200"/>
              <a:ext cx="2916360" cy="29160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5" name="_s531480"/>
            <p:cNvSpPr/>
            <p:nvPr/>
          </p:nvSpPr>
          <p:spPr>
            <a:xfrm rot="5400000">
              <a:off x="2731680" y="2364840"/>
              <a:ext cx="2916000" cy="29163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6" name="_s531478"/>
            <p:cNvSpPr/>
            <p:nvPr/>
          </p:nvSpPr>
          <p:spPr>
            <a:xfrm rot="10800000">
              <a:off x="2731680" y="2364840"/>
              <a:ext cx="2916360" cy="29160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7" name="_s531477"/>
            <p:cNvSpPr/>
            <p:nvPr/>
          </p:nvSpPr>
          <p:spPr>
            <a:xfrm rot="16200000">
              <a:off x="2732040" y="2364840"/>
              <a:ext cx="2916000" cy="29163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8" name="_s531475"/>
            <p:cNvSpPr/>
            <p:nvPr/>
          </p:nvSpPr>
          <p:spPr>
            <a:xfrm>
              <a:off x="2913120" y="2547720"/>
              <a:ext cx="74772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1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21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9" name="_s531476"/>
            <p:cNvSpPr/>
            <p:nvPr/>
          </p:nvSpPr>
          <p:spPr>
            <a:xfrm>
              <a:off x="2914560" y="4352760"/>
              <a:ext cx="74772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1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21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0" name="_s531479"/>
            <p:cNvSpPr/>
            <p:nvPr/>
          </p:nvSpPr>
          <p:spPr>
            <a:xfrm>
              <a:off x="4719600" y="4350960"/>
              <a:ext cx="74772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1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21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1" name="_s531482"/>
            <p:cNvSpPr/>
            <p:nvPr/>
          </p:nvSpPr>
          <p:spPr>
            <a:xfrm>
              <a:off x="4718160" y="2546280"/>
              <a:ext cx="7477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1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21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3979440" y="5070240"/>
              <a:ext cx="374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2928600" y="3594960"/>
              <a:ext cx="180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93560" y="1743120"/>
            <a:ext cx="2880000" cy="957240"/>
          </a:xfrm>
          <a:prstGeom prst="wedgeRoundRectCallout">
            <a:avLst>
              <a:gd name="adj1" fmla="val 35888"/>
              <a:gd name="adj2" fmla="val 64592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lightenment, creating awarenes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86560" y="1717560"/>
            <a:ext cx="2824200" cy="1274760"/>
          </a:xfrm>
          <a:prstGeom prst="wedgeRoundRectCallout">
            <a:avLst>
              <a:gd name="adj1" fmla="val -63601"/>
              <a:gd name="adj2" fmla="val 3543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fication of objectives, fixing the measuring metho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6520" y="4789440"/>
            <a:ext cx="2643120" cy="1452600"/>
          </a:xfrm>
          <a:prstGeom prst="wedgeRoundRectCallout">
            <a:avLst>
              <a:gd name="adj1" fmla="val -66037"/>
              <a:gd name="adj2" fmla="val -44314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asuring the development, monitoring the direction and spee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984920"/>
            <a:ext cx="2719440" cy="1158840"/>
          </a:xfrm>
          <a:prstGeom prst="wedgeRoundRectCallout">
            <a:avLst>
              <a:gd name="adj1" fmla="val 31550"/>
              <a:gd name="adj2" fmla="val -59041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aluationof the objectives attained, communicat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2552760"/>
            <a:ext cx="39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48240" y="36702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FDE2-F739-4B86-AFA6-CDBB607912F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07D3E-4427-4456-B2C3-E28F435A5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4.2 How has the trade-off been resolved?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65320" y="2212920"/>
            <a:ext cx="6457680" cy="3333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83040" y="4559400"/>
            <a:ext cx="1701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9920" y="3776760"/>
            <a:ext cx="1612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59120" y="2581200"/>
            <a:ext cx="129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29280" y="5084640"/>
            <a:ext cx="1905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Basic data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4720" y="4856040"/>
            <a:ext cx="290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Reporting system,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5580000"/>
            <a:ext cx="1981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62800" y="5607000"/>
            <a:ext cx="223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Measurability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1751040"/>
            <a:ext cx="2306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82760" y="5173560"/>
            <a:ext cx="256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olitical consultancy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25480" y="2336400"/>
            <a:ext cx="261612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43680" y="2349360"/>
            <a:ext cx="2616120" cy="261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69680" y="5816520"/>
            <a:ext cx="3699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A018-AF10-4130-92AE-EFB92E846EB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166A9-9F58-4D1F-A23F-C7D75483ED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6280" y="1336680"/>
            <a:ext cx="82774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3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How has Sustainable </a:t>
            </a:r>
            <a:r>
              <a:rPr b="1" lang="en-GB" sz="2400" spc="-1" strike="noStrike" u="sng">
                <a:solidFill>
                  <a:srgbClr val="666666"/>
                </a:solidFill>
                <a:uFillTx/>
                <a:latin typeface="Arial"/>
              </a:rPr>
              <a:t>Development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 been taken into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account (versus Sustainability)?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1440" y="2416320"/>
            <a:ext cx="8416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4 “Blank canvas” better than “gallery-walk” as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approach?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5880" y="3470400"/>
            <a:ext cx="8417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5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How to measure the stocks (What is the relationship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of stock data to flow data)? 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3280" y="4613400"/>
            <a:ext cx="8416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6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How to assess changes? 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3280" y="5273640"/>
            <a:ext cx="8416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62244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4.7 </a:t>
            </a:r>
            <a:r>
              <a:rPr b="1" lang="en-GB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How can the linkage and interdependency of indicators be presented and analyz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2DD2-A2F9-4C9A-BF87-EDFBAEAF999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40050-277B-4014-9B77-C643729C37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41440" y="2383920"/>
            <a:ext cx="8277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Thank you for your kind attention!</a:t>
            </a:r>
            <a:br>
              <a:rPr sz="3200"/>
            </a:b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____________________________________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666666"/>
                </a:solidFill>
                <a:latin typeface="Arial"/>
              </a:rPr>
              <a:t>Walter Radermacher</a:t>
            </a:r>
            <a:br>
              <a:rPr sz="3200"/>
            </a:br>
            <a:br>
              <a:rPr sz="3200"/>
            </a:br>
            <a:r>
              <a:rPr b="0" lang="de-DE" sz="2400" spc="-1" strike="noStrike">
                <a:solidFill>
                  <a:srgbClr val="666666"/>
                </a:solidFill>
                <a:latin typeface="Arial"/>
              </a:rPr>
              <a:t>tel: +49-611 75 2200</a:t>
            </a:r>
            <a:br>
              <a:rPr sz="2400"/>
            </a:br>
            <a:r>
              <a:rPr b="0" lang="de-DE" sz="2400" spc="-1" strike="noStrike">
                <a:solidFill>
                  <a:srgbClr val="666666"/>
                </a:solidFill>
                <a:latin typeface="Arial"/>
              </a:rPr>
              <a:t>e-mail: walter.radermacher@destatis.de</a:t>
            </a:r>
            <a:br>
              <a:rPr sz="2400"/>
            </a:b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1A3D-AD82-4196-9144-8CA4E6577D6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286AA-62F0-4736-936C-E8E1032F4F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 The Swiss experience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7160" y="5013360"/>
            <a:ext cx="7062480" cy="936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Starting point for the indicator system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New Approa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11280" y="1916280"/>
            <a:ext cx="3959280" cy="28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5373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FFE3-5339-4893-859F-7B2BF9F1F4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BB31B-2C4E-4AC9-837D-127A371ACB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1440" y="1133280"/>
            <a:ext cx="827712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 The Swiss experience </a:t>
            </a:r>
            <a:br>
              <a:rPr sz="3000"/>
            </a:b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3200" y="2459160"/>
            <a:ext cx="7134120" cy="35971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marL="41904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. Frame of referenc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 Indicator system’s gri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two-dimensional indicator matrix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. Selection proces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. Result: MONE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7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7360" y="1844640"/>
            <a:ext cx="40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2134-5D79-48C0-BE89-C32BE1BB67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270F1-4797-48FC-9B87-24EBD485A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667480" y="3187800"/>
            <a:ext cx="3132000" cy="177480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1 Frame of reference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108360" y="1752120"/>
            <a:ext cx="6991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lvl="1" marL="89388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undtland”-Defin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ement on qualitative objec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cial solida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onomic efficien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vironmental responsib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249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ulation of postul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option of 20 postul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67640" y="11984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05640" y="2019240"/>
            <a:ext cx="3132000" cy="177480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66000" y="242568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aspect in qualitative objectives?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4880" y="37465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fferences to the classical pillars?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57A9-2545-471C-AFC6-A3CA43F106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35361-3D15-42DC-9BBB-5EB5FC3293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1 Frame of reference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4440" y="2458800"/>
            <a:ext cx="6991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lvl="1" marL="893880" indent="-29844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cial solidarity (7 postulat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eneral principl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uring human r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d individual freed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125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bjective living condi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action of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a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promo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uggle aga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pover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0">
              <a:spcBef>
                <a:spcPts val="125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jective living condi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edness and happiness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97040" y="1895400"/>
            <a:ext cx="406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Examples for postulates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FD89-E3E1-4304-A55B-9E2BAAAD15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259CA-D5DA-4EEE-93AA-4AD2FEF2AC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56000" y="2421000"/>
            <a:ext cx="475272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2 Two-dimensional grid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752120"/>
            <a:ext cx="4062240" cy="38124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Indicator matrix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19640" y="2565000"/>
            <a:ext cx="0" cy="2592360"/>
          </a:xfrm>
          <a:prstGeom prst="line">
            <a:avLst/>
          </a:prstGeom>
          <a:ln w="12600">
            <a:solidFill>
              <a:srgbClr val="99003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2925720"/>
            <a:ext cx="0" cy="1944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4654440"/>
            <a:ext cx="338472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19640" y="2925720"/>
            <a:ext cx="0" cy="1944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925720"/>
            <a:ext cx="0" cy="1944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3862440"/>
            <a:ext cx="33847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141720"/>
            <a:ext cx="33847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3640" y="55101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 of indicato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90600" y="3262320"/>
            <a:ext cx="33116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or b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 (topic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03B5-38D5-4544-B395-81E501972C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207F9-0B2C-4F91-9A63-515CE3EB7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2 Two-dimensional grid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30480" y="1989000"/>
            <a:ext cx="7134120" cy="449928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50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doption of 26 topics, 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0">
              <a:spcBef>
                <a:spcPts val="400"/>
              </a:spcBef>
              <a:buNone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cial security and prospe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jective living condi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ture and leis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cial cohesion and particip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20 other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700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Axis referring to topic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80000" y="2349360"/>
            <a:ext cx="3492720" cy="309564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3213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ionship between topics and postulates? Function of topics?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BCC7-C594-4B72-B4EA-A6AAA3B874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8339D-D7D1-46E1-8F0D-E1B0A4F971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666666"/>
                </a:solidFill>
                <a:latin typeface="Arial"/>
              </a:rPr>
              <a:t>2.2 Two-dimensional grid</a:t>
            </a:r>
            <a:endParaRPr b="1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805880" y="1001880"/>
            <a:ext cx="679320" cy="67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1700280"/>
            <a:ext cx="511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Axis referring to type of indicator: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33400" y="2298600"/>
            <a:ext cx="7326360" cy="3540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8720" y="27082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document, p. 4)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4648320"/>
            <a:ext cx="2616120" cy="1825560"/>
          </a:xfrm>
          <a:prstGeom prst="irregularSeal1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24640" y="5130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rther explanation?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422B-9CF4-43C4-B736-FF6DE97AC8E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15235-DAAF-4AEE-8FAF-90533441B9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9:32:48Z</dcterms:created>
  <dc:creator>neeb-c</dc:creator>
  <dc:description/>
  <dc:language>en-US</dc:language>
  <cp:lastModifiedBy>Rauss</cp:lastModifiedBy>
  <cp:lastPrinted>2002-05-22T15:37:50Z</cp:lastPrinted>
  <dcterms:modified xsi:type="dcterms:W3CDTF">2005-06-06T06:24:58Z</dcterms:modified>
  <cp:revision>222</cp:revision>
  <dc:subject/>
  <dc:title>Kein Folientitel</dc:title>
</cp:coreProperties>
</file>