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1CFC-B339-49C1-81A6-93A15B1A6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3D24-A2D5-4390-A7E8-E6A4178F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EAF8-DC14-47F3-85EE-3D5798E6D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1205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363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47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1205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363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67FB-804F-4893-ADCC-3D80478FB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A2F5-125B-4302-B3A5-BAC7E37A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6F6F-73B4-4ED4-BBB1-82F5E631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A582-B7B4-4635-9696-4AAE64AB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A48E-66AE-4E84-AE0C-BFDABAF9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990360"/>
            <a:ext cx="6553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56B1-CC7A-4B81-A01B-AC69A069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5CF8-BBDE-4B79-932C-F9527D69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8AD6-D98D-4D93-95F2-1ACE3DCA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F602-8181-4DDF-8578-0EE2F580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665280" indent="-1857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3716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79064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20968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20968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20968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40E3578-D85F-4E5A-8362-6176A975A4B7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3716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26880" y="5715000"/>
            <a:ext cx="517680" cy="868320"/>
          </a:xfrm>
          <a:prstGeom prst="rect">
            <a:avLst/>
          </a:prstGeom>
          <a:ln w="0">
            <a:noFill/>
          </a:ln>
        </p:spPr>
      </p:pic>
      <p:sp>
        <p:nvSpPr>
          <p:cNvPr id="7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618920" y="90792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CES seminar on Sustainable Development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Session II Frameworks and analytical tools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14 June 2005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Discussant Jarig van Sinderen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Statistics Netherland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447920" y="9144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 u="sng">
                <a:solidFill>
                  <a:srgbClr val="fafd00"/>
                </a:solidFill>
                <a:uFillTx/>
                <a:latin typeface="Arial"/>
              </a:rPr>
              <a:t>Estonia: Summary</a:t>
            </a: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Dashboard: online tool designed to mak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indicator sets better accessibl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71628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Dashboard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- visualizes strong and weak points of count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aggregates various indicators into an overal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performance inde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- ranks countries</a:t>
            </a:r>
            <a:br>
              <a:rPr sz="2400"/>
            </a:b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447920" y="9144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 u="sng">
                <a:solidFill>
                  <a:srgbClr val="fafd00"/>
                </a:solidFill>
                <a:uFillTx/>
                <a:latin typeface="Arial"/>
              </a:rPr>
              <a:t>Estonia: Comment</a:t>
            </a: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Dashboard is a useful tool to enhance the communication on information contained in indicator set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213000"/>
            <a:ext cx="77724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However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- its focus on the ranking of individual countries is not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always usefu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its weighting scheme is necessarily arbit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performance valuation is relative to other countries; a clear benchmark would be of added val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447920" y="9144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 u="sng">
                <a:solidFill>
                  <a:srgbClr val="fafd00"/>
                </a:solidFill>
                <a:uFillTx/>
                <a:latin typeface="Arial"/>
              </a:rPr>
              <a:t>Canada: Summary</a:t>
            </a: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Conceptual basis: theory of natural capita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(renewable and non-renewable resource stocks, land, ecosystems)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2781360"/>
            <a:ext cx="777240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Measurement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stocks; ecosystems indirectly by state variables, e.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quality of air and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flows; e.g. resource extraction activities and was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flo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The compilation of natural capital balance she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and material flow accounts which are integrated i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the SN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447920" y="9144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 u="sng">
                <a:solidFill>
                  <a:srgbClr val="fafd00"/>
                </a:solidFill>
                <a:uFillTx/>
                <a:latin typeface="Arial"/>
              </a:rPr>
              <a:t>Canada: Comment</a:t>
            </a: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Integrating a SD-framework into the SNA is the best way forwar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3213000"/>
            <a:ext cx="77724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However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currently there is a lack of (consensus regarding) monetary valuation methods for natural capital stoc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Therefore Statistics Netherlands uses an accounting framework which extends the SNA with environmental accounts in physical units (NAMEA)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fafd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Estonia</a:t>
            </a:r>
            <a:br>
              <a:rPr sz="2400"/>
            </a:b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- Is the Dashboard able to consider trade-offs between the three dimensions?</a:t>
            </a:r>
            <a:br>
              <a:rPr sz="2400"/>
            </a:b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- How to deal with the arbitrairy weighting of the separate indicators?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Canada</a:t>
            </a:r>
            <a:br>
              <a:rPr sz="2400"/>
            </a:b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- What are the possibilities for extending the capital approach to include social aspects?</a:t>
            </a:r>
            <a:br>
              <a:rPr sz="2400"/>
            </a:b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- What are the possibilities in the capital approach to aggregate the various types of capital?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BKZR</dc:creator>
  <dc:description/>
  <dc:language>en-US</dc:language>
  <cp:lastModifiedBy>Rauss</cp:lastModifiedBy>
  <cp:lastPrinted>2000-11-06T13:59:46Z</cp:lastPrinted>
  <dcterms:modified xsi:type="dcterms:W3CDTF">2005-06-10T06:33:30Z</dcterms:modified>
  <cp:revision>96</cp:revision>
  <dc:subject/>
  <dc:title>Nationale Rekeningen &amp; Statlin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66442131</vt:r8>
  </property>
  <property fmtid="{D5CDD505-2E9C-101B-9397-08002B2CF9AE}" pid="3" name="_AuthorEmail">
    <vt:lpwstr>cber@CBS.nl</vt:lpwstr>
  </property>
  <property fmtid="{D5CDD505-2E9C-101B-9397-08002B2CF9AE}" pid="4" name="_AuthorEmailDisplayName">
    <vt:lpwstr>Boer, mevr. mr. C.M. de</vt:lpwstr>
  </property>
  <property fmtid="{D5CDD505-2E9C-101B-9397-08002B2CF9AE}" pid="5" name="_EmailSubject">
    <vt:lpwstr>Presentation UN CES 2005: the Netherlands</vt:lpwstr>
  </property>
</Properties>
</file>