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EC4-9EC0-4EA4-9839-A0A671D1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55F-CE42-4F04-B4FE-C453ACDB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40B-14F3-44D6-AD0E-738012AC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52E-C6FD-4CEC-AE84-FF4282CF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D04-594A-45AB-8764-55A2E8E6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2DA-F82A-4554-9F6E-C9F570DB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FE3-38F2-4B34-BF97-50F39FE1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AAA-C642-4FCC-BBA3-8915A12D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3D0-0E53-473E-B065-C3275777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5DA-DB3C-46B9-9625-5E0800E4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884-E082-4B56-BA92-A2C36054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A23-5619-4B17-A889-82433418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3716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79064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253F36-A321-4ED5-857B-DDFDF0D2385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3716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618920" y="9079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CES seminar on Sustainable Developme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Session II Frameworks and analytical tool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14 June 200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Discussant Jarig van Sindere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Statistics Netherland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Estonia: Summary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Dashboard: online tool designed to mak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indicator sets better accessibl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71628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Dashboar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- visualizes strong and weak points of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aggregates various indicators into an overa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performance ind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- ranks countries</a:t>
            </a:r>
            <a:br>
              <a:rPr sz="2400"/>
            </a:b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Estonia: Comment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Dashboard is a useful tool to enhance the communication on information contained in indicator set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Howev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- its focus on the ranking of individual countries is not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always use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its weighting scheme is necessarily arbit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performance valuation is relative to other countries; a clear benchmark would be of added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Canada: Summary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Conceptual basis: theory of natural capita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(renewable and non-renewable resource stocks, land, ecosystems)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781360"/>
            <a:ext cx="77724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Measurement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stocks; ecosystems indirectly by state variables, e.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quality of air an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flows; e.g. resource extraction activities and wa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fl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The compilation of natural capital balance she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and material flow accounts which are integrated i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the S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Canada: Comment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Integrating a SD-framework into the SNA is the best way forwar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Howev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currently there is a lack of (consensus regarding) monetary valuation methods for natural capital st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Therefore Statistics Netherlands uses an accounting framework which extends the SNA with environmental accounts in physical units (NAMEA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Estonia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- Is the Dashboard able to consider trade-offs between the three dimensions?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- How to deal with the arbitrairy weighting of the separate indicators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Canada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- What are the possibilities for extending the capital approach to include social aspects?</a:t>
            </a:r>
            <a:br>
              <a:rPr sz="2400"/>
            </a:b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- What are the possibilities in the capital approach to aggregate the various types of capital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BKZR</dc:creator>
  <dc:description/>
  <dc:language>en-US</dc:language>
  <cp:lastModifiedBy>Rauss</cp:lastModifiedBy>
  <cp:lastPrinted>2000-11-06T13:59:46Z</cp:lastPrinted>
  <dcterms:modified xsi:type="dcterms:W3CDTF">2005-06-10T06:33:30Z</dcterms:modified>
  <cp:revision>96</cp:revision>
  <dc:subject/>
  <dc:title>Nationale Rekeningen &amp; Statlin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66442131</vt:r8>
  </property>
  <property fmtid="{D5CDD505-2E9C-101B-9397-08002B2CF9AE}" pid="3" name="_AuthorEmail">
    <vt:lpwstr>cber@CBS.nl</vt:lpwstr>
  </property>
  <property fmtid="{D5CDD505-2E9C-101B-9397-08002B2CF9AE}" pid="4" name="_AuthorEmailDisplayName">
    <vt:lpwstr>Boer, mevr. mr. C.M. de</vt:lpwstr>
  </property>
  <property fmtid="{D5CDD505-2E9C-101B-9397-08002B2CF9AE}" pid="5" name="_EmailSubject">
    <vt:lpwstr>Presentation UN CES 2005: the Netherlands</vt:lpwstr>
  </property>
</Properties>
</file>