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1908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25440" y="5929200"/>
            <a:ext cx="211284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25440" y="5929200"/>
            <a:ext cx="2112840" cy="623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POLICY FRAMEWORKS MATTER AND HOW TO DESCRIBE THEM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ICATORS LINKING THE LISBON STRATEGY, SUSTAINABLE DEVELOPMEN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THE MDG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Supporting slides for the 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vited paper submitted by Statistical Office of Estoni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ATISTICAL COMMISSION and ECONOMIC COMMISSION FOR EUROP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NFERENCE OF EUROPEAN STATISTICIA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fty-third plenary ses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Geneva, 13-15 June 2005)</a:t>
            </a: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3809880"/>
            <a:ext cx="56390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shboard: Working with complex indicato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68580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ashboard tool, developed by IISD’s “Consultative Group on Sustainable Development Indices” is an attempt to put indicators at the service of democra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car driver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, they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have a dashboard in front of them, with an impressing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of instruments that help them to take their decisions. Likewise, the “captains” of nations need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ools to steer our modern societies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 a participatory democracy, citizens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o “look over the shoulder of the captain”, so that they can understand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cisions of their govern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ly, only a handful of indicators, namely the rates of GDP growth, unemployment and inflation, are communicated to th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publi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dging government performance with three indicators is like travelling with a captain who tells passengers “as long as there is fuel on board, and the compass points into the right direction, everything is OK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mplexity of decision-making in the 21st Century needs more adequate decision support tool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ashboard presents sets of indicators in a simple format based on three princi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114800"/>
            <a:ext cx="449568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 size of a segment reflects the relative importance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f the issue described by the indic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a colour code signals performance relative to others: green means “good”, red means “bad”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the central circle (PPI, Policy Performance Index) summarizes the information of the component 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“language” may seem a straight-jacket for many indicators; however, it is the only way to present very heterogenous indicators in a common form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57336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809880"/>
            <a:ext cx="56390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3824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3824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8839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The main,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l panels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iew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of the dashboar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he composition of th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adapted UN CS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ndicator se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the Agenda 21 structu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824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809880"/>
            <a:ext cx="56390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166680"/>
            <a:ext cx="871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Millenium Development Goals, Target 4: Eliminate gender disparity in primary and secondary education preferably by 2005 and to all levels of education no later than 2015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mple dashboard view: Y-axis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show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e number of points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-axis shows the respective ran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points are calculated as follows: 1000*(x-worst)/(best-worst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15328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3824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228600"/>
            <a:ext cx="914400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MDG them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Gender equality and empowerment of women“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ranking of the countries on the  world level ( for 165 countries in database)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On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the top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eden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and 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bottom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ad.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One could mov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use into the map and press Z to zoom in. The score of the index is the weighted average of the component indicator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3809880"/>
            <a:ext cx="56390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30560"/>
            <a:ext cx="871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shboard: Linkag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w is "Malaria prevalence" linked to "Malaria deaths"?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urkina Faso scores "excellent" for "Malaria prevalence " and "serious" for Malaria deaths. In contrast, Botswana gets a "critical" for "Malaria prevalence" and "excellent" for Malaria deaths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170496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809880"/>
            <a:ext cx="56390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63960"/>
            <a:ext cx="856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age Analysis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ample of CO2 emissions vs. GDP per capita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UN CSD se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th just one mouse click, the most relevant correlations between the indicators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could be displayed. 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er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 “negative” correlation between CO2 emissions and incom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. This example could serve also as an illustration for the trade-offs between economy and environment sp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04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555920"/>
            <a:ext cx="86104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3824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586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1821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Dashboard on regional level: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nvironmental indicators on local government level in Est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08:21:33Z</dcterms:created>
  <dc:creator>esko</dc:creator>
  <dc:description/>
  <dc:language>en-US</dc:language>
  <cp:lastModifiedBy>Statistikaamet</cp:lastModifiedBy>
  <cp:lastPrinted>2001-03-09T09:19:09Z</cp:lastPrinted>
  <dcterms:modified xsi:type="dcterms:W3CDTF">2005-06-12T22:11:05Z</dcterms:modified>
  <cp:revision>186</cp:revision>
  <dc:subject/>
  <dc:title>No Slide Title</dc:title>
</cp:coreProperties>
</file>