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4D0-8032-4104-9AB6-21DDEAE3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74A-43CD-48A7-B76B-45FB0C7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065-F770-4919-875F-DE871A84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ECA-4B5C-49DB-9A5F-B79BD011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2D0-E858-4535-A8C1-644DB360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1D9-9842-4DFA-9B12-805095DD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AD3-B696-4211-9452-6CB515BD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75B-7FB0-400D-880C-62CDD61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DBE-E1A6-4137-9C38-3CFA2F58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07D-88FC-4451-87ED-D8148C5F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86A-7D98-484B-BB80-AA42F93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19F-DD35-4FDF-8451-E3EE874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0B1-17B9-4BA7-AA89-3A8F62D1FE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075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4000" spc="-1" strike="noStrike">
                <a:solidFill>
                  <a:srgbClr val="ffff00"/>
                </a:solidFill>
                <a:latin typeface="Arial"/>
              </a:rPr>
              <a:t>53rd Conference of European Statisticians, 13 to 15 June 200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213000"/>
            <a:ext cx="77040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3200" spc="-1" strike="noStrike">
                <a:solidFill>
                  <a:srgbClr val="ffff00"/>
                </a:solidFill>
                <a:latin typeface="Arial"/>
              </a:rPr>
              <a:t>Seminar on Sustainable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BZ" sz="3200" spc="-1" strike="noStrike">
                <a:solidFill>
                  <a:srgbClr val="ffff00"/>
                </a:solidFill>
                <a:latin typeface="Arial"/>
              </a:rPr>
              <a:t>Session I: The role of official statist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ffff00"/>
                </a:solidFill>
                <a:latin typeface="Arial"/>
              </a:rPr>
              <a:t>Discussant: Heinrich Brüngger, UNE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o made decisions about the labels of the indicators (terminology): PL or O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was the relevance of individual indicators for sustainability ascertained so that a move in one indicator over time can be interpreted as a ceteris paribus improvement or decrease of SD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are the SD indicators disseminated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 results of national official statistics resp. Community statistics like GDP or CPI; 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 result of a special tabulation responding to user-defined specification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is the limited responsibility of OS indicated in the disseminated product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type of comments, and by whom, accompany the release of SD indicator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the floo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re indicators defined at the PL to be considered automatically as standards of official statistics (concerning definitions and terminology)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 the case OS does not consider indicators defined at PL good enough, what can we do to avoid that our role remains </a:t>
            </a: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permanently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limited to data collec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Questions to the floo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the use of the same indicator as part of different indicator sets, under different labels, something we should encourage or no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can we best indicate the limited responsibility/control of OS over SDI in the dissemination of result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far should the responsibility of OS go with respect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Questions to the floo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use of subjective weights for aggregating different indicato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conversion of physical indicators into values in cases where there are no observable market prices (or where market prices cover only a very small and specific part that cannot be generalised)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recasting- or scenario-based indicators of SD that are different from stock, asset or debt concepts?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in elements of the Swedish pap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SO has been involved in many indicator initi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 indicators focusing 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source productiv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stributional aspec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aptabil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gacy to future (e.g. avoidance of debt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 indicators presented separately (no aggregation or specification of trade-off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wedish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SO have advantages in working with SD measurement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ltidimens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overview of existing data; infrastructure for processing data in many w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ramework of official statistics ensures quality of data sources and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ssemination infra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contribute to policy analysis (methodological know-how within NS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wedish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ew challen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velopment of indicators for fuzzy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gration of various dimens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Is should vary between regions of the world and even countries of the same reg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in elements of the EUROSTAT pap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 single normative interpretation of SDI possible, no shared understanding of the concrete concept of S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dicators pyramid with three tiers, based on existing data (including from private sources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D strate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olicy develop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ementation and analy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UROSTAT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ome indicators use a modelling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olicy analysis requires integration of various dimensions using interdisciplinary approaches and cooperation with resear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ole of official statistics (OS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velopment of new concepts and new tools, especially of frameworks for integrating various dimens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ing statistical aspects into the debate in a proactive w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UROSTAT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ole of official statistics (ctd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tter provision of metadata together with the resul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UROSTAT is very restrictive in producing composite indicators, in spite of high demand (no scientific founda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DI should be core business for 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S has to engage in forecasting and model-building to be able to respond to “what – if” ques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the authors of the two invited pap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Division of work between policy level (PL) and official statisticians (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ich of three processes to SD indicators describes your case best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tween 90 and 100% of indicators defined at PL; tasks of OS are limited to the fine-tuning of specifications and above all to the provision of number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Question 1 continu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round 50% of indicators defined at PL, only description of components for the rest; tasks of OS like in a. for 50%, methodological development of indicators for the r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nly components of SD are defined at policy level; decisions about definitions of indicators and data collection completely left to 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12:24:48Z</dcterms:created>
  <dc:creator>Urs Brüngger</dc:creator>
  <dc:description/>
  <dc:language>en-US</dc:language>
  <cp:lastModifiedBy>Rauss</cp:lastModifiedBy>
  <dcterms:modified xsi:type="dcterms:W3CDTF">2005-06-08T11:38:48Z</dcterms:modified>
  <cp:revision>10</cp:revision>
  <dc:subject/>
  <dc:title>53rd Conference of European Statisticians, 13 to 15 June 2005</dc:title>
</cp:coreProperties>
</file>