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421-D1BD-4956-8E15-354E2AC4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415F-BF0C-4DAD-8830-4B289D8E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1BE-DA63-45B0-A837-506B6344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73E9-B808-47BF-A350-79455656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5A6-6311-44D0-9287-214479F2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953B-1114-4BAD-B9CB-0D132FB2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39B-1B4A-4DD2-BD93-F891AE0F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1016-F203-42DC-B50A-17374E2F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E88-D2C9-47B2-A5F3-4C0D3A6C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EE1-0A2B-40A0-8495-FA95B33A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764-5828-445D-8026-98FD5490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872-3F89-4A91-9A53-B4C10529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A2B0-2B0B-4964-83B2-7D3690F449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8075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4000" spc="-1" strike="noStrike">
                <a:solidFill>
                  <a:srgbClr val="ffff00"/>
                </a:solidFill>
                <a:latin typeface="Arial"/>
              </a:rPr>
              <a:t>53rd Conference of European Statisticians, 13 to 15 June 200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213000"/>
            <a:ext cx="770400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3200" spc="-1" strike="noStrike">
                <a:solidFill>
                  <a:srgbClr val="ffff00"/>
                </a:solidFill>
                <a:latin typeface="Arial"/>
              </a:rPr>
              <a:t>Seminar on Sustainable Develop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BZ" sz="3200" spc="-1" strike="noStrike">
                <a:solidFill>
                  <a:srgbClr val="ffff00"/>
                </a:solidFill>
                <a:latin typeface="Arial"/>
              </a:rPr>
              <a:t>Session I: The role of official statisti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3200" spc="-1" strike="noStrike">
                <a:solidFill>
                  <a:srgbClr val="ffff00"/>
                </a:solidFill>
                <a:latin typeface="Arial"/>
              </a:rPr>
              <a:t>Discussant: Heinrich Brüngger, UNE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Questions to authors (ctd.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ho made decisions about the labels of the indicators (terminology): PL or O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ow was the relevance of individual indicators for sustainability ascertained so that a move in one indicator over time can be interpreted as a ceteris paribus improvement or decrease of SD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Dissemin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Questions to authors (ctd.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ow are the SD indicators disseminated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s results of national official statistics resp. Community statistics like GDP or CPI; o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s result of a special tabulation responding to user-defined specifications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ow is the limited responsibility of OS indicated in the disseminated product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hat type of comments, and by whom, accompany the release of SD indicator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Questions to the floo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re indicators defined at the PL to be considered automatically as standards of official statistics (concerning definitions and terminology)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 the case OS does not consider indicators defined at PL good enough, what can we do to avoid that our role remains </a:t>
            </a:r>
            <a:r>
              <a:rPr b="0" lang="en-GB" sz="3200" spc="-1" strike="noStrike" u="sng">
                <a:solidFill>
                  <a:srgbClr val="ffff00"/>
                </a:solidFill>
                <a:uFillTx/>
                <a:latin typeface="Arial"/>
              </a:rPr>
              <a:t>permanently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limited to data collec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Questions to the floor (ctd.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s the use of the same indicator as part of different indicator sets, under different labels, something we should encourage or no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ow can we best indicate the limited responsibility/control of OS over SDI in the dissemination of result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ow far should the responsibility of OS go with respect to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Questions to the floor (ctd.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he use of subjective weights for aggregating different indicators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he conversion of physical indicators into values in cases where there are no observable market prices (or where market prices cover only a very small and specific part that cannot be generalised)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orecasting- or scenario-based indicators of SD that are different from stock, asset or debt concepts?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Main elements of the Swedish pap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SO has been involved in many indicator initiativ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D indicators focusing on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source productivi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istributional aspec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daptabili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Legacy to future (e.g. avoidance of debt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D indicators presented separately (no aggregation or specification of trade-off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wedish paper (ctd.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SO have advantages in working with SD measurement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ultidimension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st overview of existing data; infrastructure for processing data in many way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ramework of official statistics ensures quality of data sources and outpu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issemination infrastruc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an contribute to policy analysis (methodological know-how within NS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wedish paper (ctd.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ew challeng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evelopment of indicators for fuzzy concep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tegration of various dimens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DIs should vary between regions of the world and even countries of the same reg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Main elements of the EUROSTAT pap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o single normative interpretation of SDI possible, no shared understanding of the concrete concept of SD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dicators pyramid with three tiers, based on existing data (including from private sources)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D strateg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olicy develop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mplementation and analys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EUROSTAT paper (ctd.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ome indicators use a modelling approac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olicy analysis requires integration of various dimensions using interdisciplinary approaches and cooperation with researc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ole of official statistics (OS)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evelopment of new concepts and new tools, especially of frameworks for integrating various dimens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ring statistical aspects into the debate in a proactive wa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EUROSTAT paper (ctd.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ole of official statistics (ctd.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tter provision of metadata together with the resul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UROSTAT is very restrictive in producing composite indicators, in spite of high demand (no scientific foundatio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DI should be core business for 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S has to engage in forecasting and model-building to be able to respond to “what – if” ques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Questions to the authors of the two invited pape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Division of work between policy level (PL) and official statisticians (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hich of three processes to SD indicators describes your case best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tween 90 and 100% of indicators defined at PL; tasks of OS are limited to the fine-tuning of specifications and above all to the provision of number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Arial"/>
              </a:rPr>
              <a:t>Questions to authors (ctd.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Question 1 continu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round 50% of indicators defined at PL, only description of components for the rest; tasks of OS like in a. for 50%, methodological development of indicators for the r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nly components of SD are defined at policy level; decisions about definitions of indicators and data collection completely left to 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4T12:24:48Z</dcterms:created>
  <dc:creator>Urs Brüngger</dc:creator>
  <dc:description/>
  <dc:language>en-US</dc:language>
  <cp:lastModifiedBy>Rauss</cp:lastModifiedBy>
  <dcterms:modified xsi:type="dcterms:W3CDTF">2005-06-08T11:38:48Z</dcterms:modified>
  <cp:revision>10</cp:revision>
  <dc:subject/>
  <dc:title>53rd Conference of European Statisticians, 13 to 15 June 2005</dc:title>
</cp:coreProperties>
</file>