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24A-F789-4D22-89E7-69B6238C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33640" y="410040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097-E73C-433C-B323-D09B2ADE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5752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643-E9BE-4444-8745-EC2A19EC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2676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51988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3364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2676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51988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60C-7914-487C-9DE6-CC1EABEF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E816-FB6E-4778-B1CC-F0DBEF96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6363-A70C-4E83-8744-3AE164D8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650A-15BD-4776-9364-96DA9740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4F03-22E6-419C-AB53-35BA7F99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13C2-C746-48FC-9784-8DD6E951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8480" y="1066680"/>
            <a:ext cx="6435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CF08-84FC-4050-8680-A59017E3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58A1-9D68-4284-87B9-153E8D5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48A-5A93-403D-8AD3-45FB3DF0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5752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A765-97A8-4CB6-8E18-48561AB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B09B-3A3F-4FDC-B481-7C0030DC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33640" y="410040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48AA-BE95-49D7-AD7B-771A58B6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5752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CEB3-BA64-41B3-ADD0-4F753BCC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2676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19880" y="183816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3364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2676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19880" y="4100400"/>
            <a:ext cx="2088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28F8-C623-4B6C-8471-DEF7EB48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AD5-9DCD-4C70-A99B-8207E590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BFF-985F-45CF-9625-BFD92E7F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7AB-A075-4F64-AE89-494A785B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8480" y="1066680"/>
            <a:ext cx="6435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473-133A-4BD8-A88F-81AC91F6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4CA-87FB-4176-AD66-CBCD546B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57520" y="410040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818-38D4-4DDE-9FA7-815E936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3364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1838160"/>
            <a:ext cx="316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33640" y="4100400"/>
            <a:ext cx="648648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1B4-8B75-4E3A-8808-F0D421B9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46040"/>
            <a:ext cx="9144000" cy="6411960"/>
          </a:xfrm>
          <a:prstGeom prst="rect">
            <a:avLst/>
          </a:prstGeom>
          <a:solidFill>
            <a:srgbClr val="f0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25560" y="444600"/>
            <a:ext cx="75276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12800" y="6351480"/>
            <a:ext cx="8431200" cy="513000"/>
          </a:xfrm>
          <a:prstGeom prst="rect">
            <a:avLst/>
          </a:prstGeom>
          <a:solidFill>
            <a:srgbClr val="242166"/>
          </a:solidFill>
          <a:ln w="9360">
            <a:solidFill>
              <a:srgbClr val="242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09560" cy="436680"/>
          </a:xfrm>
          <a:prstGeom prst="rect">
            <a:avLst/>
          </a:prstGeom>
          <a:solidFill>
            <a:srgbClr val="242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1133640" y="1838160"/>
            <a:ext cx="64864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31428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-3333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38240" indent="-35244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23880" indent="-3045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47880" indent="-2952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47880" indent="-2952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47880" indent="-2952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444600"/>
            <a:ext cx="539640" cy="83880"/>
          </a:xfrm>
          <a:prstGeom prst="rect">
            <a:avLst/>
          </a:prstGeom>
          <a:solidFill>
            <a:srgbClr val="232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166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715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117080" y="6400800"/>
            <a:ext cx="406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381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0" y="6400800"/>
            <a:ext cx="71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FE0-25DB-431E-8C77-C3A9B9BC8255}" type="slidenum">
              <a:rPr b="0" lang="nn-NO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2600" y="6351480"/>
            <a:ext cx="915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158840" y="55440"/>
            <a:ext cx="41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064d"/>
                </a:solidFill>
                <a:latin typeface="Verdana"/>
              </a:rPr>
              <a:t>Finansdepartemen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048120"/>
            <a:ext cx="9145440" cy="3809880"/>
          </a:xfrm>
          <a:prstGeom prst="rect">
            <a:avLst/>
          </a:prstGeom>
          <a:solidFill>
            <a:srgbClr val="c3be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0" r="0" b="47127"/>
          <a:stretch/>
        </p:blipFill>
        <p:spPr>
          <a:xfrm>
            <a:off x="0" y="4957920"/>
            <a:ext cx="9144000" cy="1398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351480"/>
            <a:ext cx="9144000" cy="506520"/>
          </a:xfrm>
          <a:prstGeom prst="rect">
            <a:avLst/>
          </a:prstGeom>
          <a:solidFill>
            <a:srgbClr val="242166"/>
          </a:solidFill>
          <a:ln w="9360">
            <a:solidFill>
              <a:srgbClr val="242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3051000"/>
            <a:ext cx="539640" cy="73080"/>
          </a:xfrm>
          <a:prstGeom prst="rect">
            <a:avLst/>
          </a:prstGeom>
          <a:solidFill>
            <a:srgbClr val="232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381480" y="1649520"/>
            <a:ext cx="2360520" cy="957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3502080"/>
            <a:ext cx="62485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166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533412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1118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0" y="6400800"/>
            <a:ext cx="71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11DF-D03D-4A65-81D2-59B3CD17BBC8}" type="slidenum">
              <a:rPr b="0" lang="nn-NO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440" y="4041720"/>
            <a:ext cx="9177120" cy="2119320"/>
          </a:xfrm>
          <a:custGeom>
            <a:avLst/>
            <a:gdLst/>
            <a:ahLst/>
            <a:rect l="l" t="t" r="r" b="b"/>
            <a:pathLst>
              <a:path w="5568" h="1101">
                <a:moveTo>
                  <a:pt x="0" y="0"/>
                </a:moveTo>
                <a:cubicBezTo>
                  <a:pt x="1008" y="431"/>
                  <a:pt x="2016" y="863"/>
                  <a:pt x="2944" y="982"/>
                </a:cubicBezTo>
                <a:cubicBezTo>
                  <a:pt x="3872" y="1101"/>
                  <a:pt x="4871" y="1049"/>
                  <a:pt x="5568" y="715"/>
                </a:cubicBezTo>
              </a:path>
            </a:pathLst>
          </a:custGeom>
          <a:noFill/>
          <a:ln w="12600">
            <a:solidFill>
              <a:srgbClr val="2321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42166"/>
                </a:solidFill>
                <a:latin typeface="Verdana"/>
              </a:rPr>
              <a:t>Click to edit the outline text format</a:t>
            </a:r>
            <a:endParaRPr b="0" i="1" lang="en-US" sz="1400" spc="-1" strike="noStrike">
              <a:solidFill>
                <a:srgbClr val="242166"/>
              </a:solidFill>
              <a:latin typeface="Verdana"/>
            </a:endParaRPr>
          </a:p>
          <a:p>
            <a:pPr lvl="1" marL="33336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85800" algn="ctr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19320" algn="ctr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552680" algn="ctr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55268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55268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3068640"/>
            <a:ext cx="748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242166"/>
                </a:solidFill>
                <a:latin typeface="Verdana"/>
              </a:rPr>
              <a:t>A Framework for Constructing Indicators for Policies to enhance Sustainable Development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240" y="4379760"/>
            <a:ext cx="624852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800" spc="-1" strike="noStrike">
                <a:solidFill>
                  <a:srgbClr val="242166"/>
                </a:solidFill>
                <a:latin typeface="Verdana"/>
              </a:rPr>
              <a:t>Keynote speech at The Conference of European Statisticians, June 14 2005</a:t>
            </a:r>
            <a:endParaRPr b="0" i="1" lang="en-US" sz="1800" spc="-1" strike="noStrike">
              <a:solidFill>
                <a:srgbClr val="2421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800" spc="-1" strike="noStrike">
                <a:solidFill>
                  <a:srgbClr val="242166"/>
                </a:solidFill>
                <a:latin typeface="Verdana"/>
              </a:rPr>
              <a:t>Thorvald Moe, PH.D</a:t>
            </a:r>
            <a:endParaRPr b="0" i="1" lang="en-US" sz="1800" spc="-1" strike="noStrike">
              <a:solidFill>
                <a:srgbClr val="2421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800" spc="-1" strike="noStrike">
                <a:solidFill>
                  <a:srgbClr val="242166"/>
                </a:solidFill>
                <a:latin typeface="Verdana"/>
              </a:rPr>
              <a:t>Deputy Secretary General</a:t>
            </a:r>
            <a:endParaRPr b="0" i="1" lang="en-US" sz="1800" spc="-1" strike="noStrike">
              <a:solidFill>
                <a:srgbClr val="2421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800" spc="-1" strike="noStrike">
                <a:solidFill>
                  <a:srgbClr val="242166"/>
                </a:solidFill>
                <a:latin typeface="Verdana"/>
              </a:rPr>
              <a:t>Norwegian Ministry og Finance</a:t>
            </a:r>
            <a:endParaRPr b="0" i="1" lang="en-US" sz="1800" spc="-1" strike="noStrike">
              <a:solidFill>
                <a:srgbClr val="2421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1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Capital Approac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s a sound economic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entral Statisical Agencies compute (or shoul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mpute) NW estim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2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e need separate measures for the main capital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ategories: Financial, real, human, natural an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3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is work should as far as possible be carried out b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entral Statistical Agen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4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eed for an international framework an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ordination: The Conference of European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Statistician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5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 global set of SD indicators should focus on povert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nd the global environment. Point of departur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UN Millennium Go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242166"/>
                </a:solidFill>
                <a:latin typeface="Verdana"/>
              </a:rPr>
              <a:t>Content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3160" y="1685880"/>
            <a:ext cx="739944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  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  Sustainable Development and the Management of National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eal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1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The Consep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2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Sustainability for wh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National Wealth as the basis for welfare.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The Capital appro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National Wealth as an indicator of sustain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1  Critical re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2  System Comple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3  Practical proble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5157720"/>
            <a:ext cx="739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71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3.  The Norwegian Core Set of Indicators for Sustainabl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velopment: An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71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4.  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8480" y="990360"/>
            <a:ext cx="6435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242166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3640" y="1762200"/>
            <a:ext cx="718344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1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dicators for Sustainable Development (SD) should b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nstrained to key,long term economic,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nvironmental and social policy challenges an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teractions between them. Should focus on a few ke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dicators and policy are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2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For day to day (shorter term) policies one needs in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ddition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more detailed economic-, environmental an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social statist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3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hat the key longer term policy challenge are shoul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be determined by the political authorities (in each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untry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780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1.4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ational Wealth (NW) should be the point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p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8480" y="1066680"/>
            <a:ext cx="643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242166"/>
                </a:solidFill>
                <a:latin typeface="Verdana"/>
              </a:rPr>
              <a:t>SD and the Management of NW</a:t>
            </a:r>
            <a:endParaRPr b="0" lang="en-US" sz="2400" spc="-1" strike="noStrike">
              <a:solidFill>
                <a:srgbClr val="2421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33640" y="1762200"/>
            <a:ext cx="718344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1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Brundtland: ”SD is development that meets the needs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of the present without compromising the ability o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future generations to meet their own needs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2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SD: Developments that can contiue ”for ever”, or at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least the time horizon considered by policy. The level of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elfare, or living standards broadley defined, should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ot reduced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global versus the national perspectiv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Key global challenges: poverty and the global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nvironmental comm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4560" indent="0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ational SD policies and action plans in OECDs contries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make sense because 2/3 of GDP produced there, and a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”sustainable” OECD would contribute importantly to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global 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NW as a basis for welfare. The Capital Approach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1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What is the (best) future welfare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developments we can expect given the present day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point of departur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2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What resources do we have at our disposal today,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and how should we mange these over tim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2.4.3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Key resources a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  Financial C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eal assets (produced capital go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Natural resources (Non-renewable mineral resources and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petroleum) and conditional renewable resources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           (forests, fish, hydropower etc.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Environmental resources (Cleaning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services,functioning of the basic ecological syste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100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Human resources or human c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4.4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total resource base is termed our National Weath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(N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value of NW depends on the welfare effects that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use of its various components may yield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value of NW equals the discounted sum of welfar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produced by its various components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hether developments may be called sustainable,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pends on whether NW broadly defined increases or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cre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4.5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ritical resources. Without a reasonable stable climate, or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without a minimum of biological diversity, economic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velopments cannot be sustained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4.6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System complexity. Lack of knowledge. Key individual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lements of NW should be monito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2.4.7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Practical probl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  Difficult to get good shadow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dividual environmental services are not traded in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i="1" lang="nb-NO" sz="1800" spc="-1" strike="noStrike" u="sng">
                <a:solidFill>
                  <a:srgbClr val="000000"/>
                </a:solidFill>
                <a:uFillTx/>
                <a:latin typeface="Verdana"/>
              </a:rPr>
              <a:t>Summing up</a:t>
            </a:r>
            <a:r>
              <a:rPr b="0" i="1" lang="nb-NO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hose indicators that best reflect the value,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defined as the welfare effects, of the ke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components of NW. I.e: The Capital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6000" y="97920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Norwegian Core Set of SD indicato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n 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In the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3.1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16 indicators are referred to the 6 main policy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reas in the National Agenda 21 which is th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orwegian Action Plan for 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3.2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The set is, in the table to the right, related to the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five types 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of national capit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Financial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Real capia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Human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Natural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280" indent="0">
              <a:spcBef>
                <a:spcPts val="451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nvironmental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82640" y="898560"/>
            <a:ext cx="83613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0:30:20Z</dcterms:created>
  <dc:creator>bwi</dc:creator>
  <dc:description/>
  <dc:language>en-US</dc:language>
  <cp:lastModifiedBy>Rauss</cp:lastModifiedBy>
  <dcterms:modified xsi:type="dcterms:W3CDTF">2005-06-10T09:20:10Z</dcterms:modified>
  <cp:revision>13</cp:revision>
  <dc:subject/>
  <dc:title>A Framework for Constructing indicators for Policies to enhance Sustainable Develop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8518404</vt:r8>
  </property>
  <property fmtid="{D5CDD505-2E9C-101B-9397-08002B2CF9AE}" pid="3" name="_AuthorEmail">
    <vt:lpwstr>ingrid-torp.hagensen@finans.dep.no</vt:lpwstr>
  </property>
  <property fmtid="{D5CDD505-2E9C-101B-9397-08002B2CF9AE}" pid="4" name="_AuthorEmailDisplayName">
    <vt:lpwstr>Hågensen, Ingrid Torp</vt:lpwstr>
  </property>
  <property fmtid="{D5CDD505-2E9C-101B-9397-08002B2CF9AE}" pid="5" name="_EmailSubject">
    <vt:lpwstr>Plansjer som avtalt</vt:lpwstr>
  </property>
  <property fmtid="{D5CDD505-2E9C-101B-9397-08002B2CF9AE}" pid="6" name="_NewReviewCycle">
    <vt:lpwstr/>
  </property>
</Properties>
</file>