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3996-9442-4711-99EF-0827388E5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8480" y="1066680"/>
            <a:ext cx="643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33640" y="1838160"/>
            <a:ext cx="648648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33640" y="4100400"/>
            <a:ext cx="648648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D4B4-FA05-47DB-8C63-AE6EF119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8480" y="1066680"/>
            <a:ext cx="643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33640" y="1838160"/>
            <a:ext cx="31651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57520" y="1838160"/>
            <a:ext cx="31651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33640" y="4100400"/>
            <a:ext cx="31651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457520" y="4100400"/>
            <a:ext cx="31651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1032-81E4-4B0E-BD71-850E3F0CB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8480" y="1066680"/>
            <a:ext cx="643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33640" y="1838160"/>
            <a:ext cx="208836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26760" y="1838160"/>
            <a:ext cx="208836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519880" y="1838160"/>
            <a:ext cx="208836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33640" y="4100400"/>
            <a:ext cx="208836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26760" y="4100400"/>
            <a:ext cx="208836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519880" y="4100400"/>
            <a:ext cx="208836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B7B7-8726-47B3-98A3-089368BA9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6F18-E402-4582-8E2C-F0F80868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8480" y="1066680"/>
            <a:ext cx="643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33640" y="1838160"/>
            <a:ext cx="6486480" cy="43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218A-1B13-4BE2-B38F-6BD69135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8480" y="1066680"/>
            <a:ext cx="643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33640" y="1838160"/>
            <a:ext cx="648648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261E-CC7F-4F5D-B22A-689FA103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8480" y="1066680"/>
            <a:ext cx="643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33640" y="1838160"/>
            <a:ext cx="316512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57520" y="1838160"/>
            <a:ext cx="316512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765E-F195-4074-BEEA-DDD6C8C5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8480" y="1066680"/>
            <a:ext cx="643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3EB0-9652-4147-9D27-831405BF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58480" y="1066680"/>
            <a:ext cx="64357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630A-6C14-406F-B5EF-100382CF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8480" y="1066680"/>
            <a:ext cx="643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33640" y="1838160"/>
            <a:ext cx="31651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57520" y="1838160"/>
            <a:ext cx="316512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33640" y="4100400"/>
            <a:ext cx="31651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C1D4-8768-49EF-964C-05623014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8480" y="1066680"/>
            <a:ext cx="643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33640" y="1838160"/>
            <a:ext cx="6486480" cy="43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19B2-92A9-4B9A-AA09-7DD802D2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8480" y="1066680"/>
            <a:ext cx="643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33640" y="1838160"/>
            <a:ext cx="316512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57520" y="1838160"/>
            <a:ext cx="31651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457520" y="4100400"/>
            <a:ext cx="31651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0CC6-CA8F-4E66-B714-4FAD5F18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8480" y="1066680"/>
            <a:ext cx="643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33640" y="1838160"/>
            <a:ext cx="31651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57520" y="1838160"/>
            <a:ext cx="31651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33640" y="4100400"/>
            <a:ext cx="648648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DD91-EDAA-483F-A811-054536E7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8480" y="1066680"/>
            <a:ext cx="643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33640" y="1838160"/>
            <a:ext cx="648648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33640" y="4100400"/>
            <a:ext cx="648648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05B4-4EA0-4B5D-90E5-F56B0A93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8480" y="1066680"/>
            <a:ext cx="643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33640" y="1838160"/>
            <a:ext cx="31651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457520" y="1838160"/>
            <a:ext cx="31651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33640" y="4100400"/>
            <a:ext cx="31651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457520" y="4100400"/>
            <a:ext cx="31651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2A33-FEC1-48A2-AC21-9A649BA33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8480" y="1066680"/>
            <a:ext cx="643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33640" y="1838160"/>
            <a:ext cx="208836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26760" y="1838160"/>
            <a:ext cx="208836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519880" y="1838160"/>
            <a:ext cx="208836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33640" y="4100400"/>
            <a:ext cx="208836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26760" y="4100400"/>
            <a:ext cx="208836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519880" y="4100400"/>
            <a:ext cx="208836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C50C-856B-46C8-9A9D-5FD5E7EBA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8480" y="1066680"/>
            <a:ext cx="643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33640" y="1838160"/>
            <a:ext cx="648648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16EB-880F-42B2-8296-149C1FF9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8480" y="1066680"/>
            <a:ext cx="643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33640" y="1838160"/>
            <a:ext cx="316512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57520" y="1838160"/>
            <a:ext cx="316512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636C-653F-4A71-8933-C37EC268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8480" y="1066680"/>
            <a:ext cx="643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F326-518F-4376-A197-758F0E34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8480" y="1066680"/>
            <a:ext cx="64357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8356-169F-4D2F-908C-B5155591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8480" y="1066680"/>
            <a:ext cx="643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33640" y="1838160"/>
            <a:ext cx="31651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57520" y="1838160"/>
            <a:ext cx="316512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33640" y="4100400"/>
            <a:ext cx="31651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4BB4-DC89-485B-815A-01C13AE5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8480" y="1066680"/>
            <a:ext cx="643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33640" y="1838160"/>
            <a:ext cx="316512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57520" y="1838160"/>
            <a:ext cx="31651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457520" y="4100400"/>
            <a:ext cx="31651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C196-AFCD-4BC4-AFBF-ACEE9EB9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8480" y="1066680"/>
            <a:ext cx="643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33640" y="1838160"/>
            <a:ext cx="31651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57520" y="1838160"/>
            <a:ext cx="31651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33640" y="4100400"/>
            <a:ext cx="648648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B827-EE65-4FF9-8EB1-929AF1EB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46040"/>
            <a:ext cx="9144000" cy="6411960"/>
          </a:xfrm>
          <a:prstGeom prst="rect">
            <a:avLst/>
          </a:prstGeom>
          <a:solidFill>
            <a:srgbClr val="f0f0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-25560" y="444600"/>
            <a:ext cx="752760" cy="641664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12800" y="6351480"/>
            <a:ext cx="8431200" cy="513000"/>
          </a:xfrm>
          <a:prstGeom prst="rect">
            <a:avLst/>
          </a:prstGeom>
          <a:solidFill>
            <a:srgbClr val="242166"/>
          </a:solidFill>
          <a:ln w="9360">
            <a:solidFill>
              <a:srgbClr val="2421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709560" cy="436680"/>
          </a:xfrm>
          <a:prstGeom prst="rect">
            <a:avLst/>
          </a:prstGeom>
          <a:solidFill>
            <a:srgbClr val="2421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1133640" y="1838160"/>
            <a:ext cx="648648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-314280"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66720" indent="-3333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38240" indent="-35244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23880" indent="-3045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47880" indent="-2952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47880" indent="-2952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47880" indent="-2952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711360" y="444600"/>
            <a:ext cx="539640" cy="83880"/>
          </a:xfrm>
          <a:prstGeom prst="rect">
            <a:avLst/>
          </a:prstGeom>
          <a:solidFill>
            <a:srgbClr val="2321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158480" y="1066680"/>
            <a:ext cx="643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166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5715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1117080" y="6400800"/>
            <a:ext cx="406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0" y="6400800"/>
            <a:ext cx="712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D2D4-C3E3-4FD9-874C-650EE6CD1306}" type="slidenum">
              <a:rPr b="0" lang="nn-NO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-12600" y="6351480"/>
            <a:ext cx="915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1158840" y="55440"/>
            <a:ext cx="412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064d"/>
                </a:solidFill>
                <a:latin typeface="Verdana"/>
              </a:rPr>
              <a:t>Finansdepartement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048120"/>
            <a:ext cx="9145440" cy="3809880"/>
          </a:xfrm>
          <a:prstGeom prst="rect">
            <a:avLst/>
          </a:prstGeom>
          <a:solidFill>
            <a:srgbClr val="c3be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rcRect l="0" t="0" r="0" b="47127"/>
          <a:stretch/>
        </p:blipFill>
        <p:spPr>
          <a:xfrm>
            <a:off x="0" y="4957920"/>
            <a:ext cx="9144000" cy="1398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6351480"/>
            <a:ext cx="9144000" cy="506520"/>
          </a:xfrm>
          <a:prstGeom prst="rect">
            <a:avLst/>
          </a:prstGeom>
          <a:solidFill>
            <a:srgbClr val="242166"/>
          </a:solidFill>
          <a:ln w="9360">
            <a:solidFill>
              <a:srgbClr val="2421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8120" y="3051000"/>
            <a:ext cx="539640" cy="73080"/>
          </a:xfrm>
          <a:prstGeom prst="rect">
            <a:avLst/>
          </a:prstGeom>
          <a:solidFill>
            <a:srgbClr val="2321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381480" y="1649520"/>
            <a:ext cx="2360520" cy="957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3502080"/>
            <a:ext cx="624852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166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5334120" y="640080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11188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0" y="6400800"/>
            <a:ext cx="712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93E9-9CD9-4F1C-BE0A-8C54FD7AEC56}" type="slidenum">
              <a:rPr b="0" lang="nn-NO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-1440" y="4041720"/>
            <a:ext cx="9177120" cy="2119320"/>
          </a:xfrm>
          <a:custGeom>
            <a:avLst/>
            <a:gdLst/>
            <a:ahLst/>
            <a:rect l="l" t="t" r="r" b="b"/>
            <a:pathLst>
              <a:path w="5568" h="1101">
                <a:moveTo>
                  <a:pt x="0" y="0"/>
                </a:moveTo>
                <a:cubicBezTo>
                  <a:pt x="1008" y="431"/>
                  <a:pt x="2016" y="863"/>
                  <a:pt x="2944" y="982"/>
                </a:cubicBezTo>
                <a:cubicBezTo>
                  <a:pt x="3872" y="1101"/>
                  <a:pt x="4871" y="1049"/>
                  <a:pt x="5568" y="715"/>
                </a:cubicBezTo>
              </a:path>
            </a:pathLst>
          </a:custGeom>
          <a:noFill/>
          <a:ln w="12600">
            <a:solidFill>
              <a:srgbClr val="2321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42166"/>
                </a:solidFill>
                <a:latin typeface="Verdana"/>
              </a:rPr>
              <a:t>Click to edit the outline text format</a:t>
            </a:r>
            <a:endParaRPr b="0" i="1" lang="en-US" sz="1400" spc="-1" strike="noStrike">
              <a:solidFill>
                <a:srgbClr val="242166"/>
              </a:solidFill>
              <a:latin typeface="Verdana"/>
            </a:endParaRPr>
          </a:p>
          <a:p>
            <a:pPr lvl="1" marL="33336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685800" algn="ctr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19320" algn="ctr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552680" algn="ctr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55268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55268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640" y="3068640"/>
            <a:ext cx="7488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242166"/>
                </a:solidFill>
                <a:latin typeface="Verdana"/>
              </a:rPr>
              <a:t>A Framework for Constructing Indicators for Policies to enhance Sustainable Development</a:t>
            </a:r>
            <a:endParaRPr b="0" lang="en-US" sz="2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240" y="4379760"/>
            <a:ext cx="624852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800" spc="-1" strike="noStrike">
                <a:solidFill>
                  <a:srgbClr val="242166"/>
                </a:solidFill>
                <a:latin typeface="Verdana"/>
              </a:rPr>
              <a:t>Keynote speech at The Conference of European Statisticians, June 14 2005</a:t>
            </a:r>
            <a:endParaRPr b="0" i="1" lang="en-US" sz="1800" spc="-1" strike="noStrike">
              <a:solidFill>
                <a:srgbClr val="242166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800" spc="-1" strike="noStrike">
                <a:solidFill>
                  <a:srgbClr val="242166"/>
                </a:solidFill>
                <a:latin typeface="Verdana"/>
              </a:rPr>
              <a:t>Thorvald Moe, PH.D</a:t>
            </a:r>
            <a:endParaRPr b="0" i="1" lang="en-US" sz="1800" spc="-1" strike="noStrike">
              <a:solidFill>
                <a:srgbClr val="242166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800" spc="-1" strike="noStrike">
                <a:solidFill>
                  <a:srgbClr val="242166"/>
                </a:solidFill>
                <a:latin typeface="Verdana"/>
              </a:rPr>
              <a:t>Deputy Secretary General</a:t>
            </a:r>
            <a:endParaRPr b="0" i="1" lang="en-US" sz="1800" spc="-1" strike="noStrike">
              <a:solidFill>
                <a:srgbClr val="242166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800" spc="-1" strike="noStrike">
                <a:solidFill>
                  <a:srgbClr val="242166"/>
                </a:solidFill>
                <a:latin typeface="Verdana"/>
              </a:rPr>
              <a:t>Norwegian Ministry og Finance</a:t>
            </a:r>
            <a:endParaRPr b="0" i="1" lang="en-US" sz="1800" spc="-1" strike="noStrike">
              <a:solidFill>
                <a:srgbClr val="2421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116000" y="979200"/>
            <a:ext cx="763272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456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Conclus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456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456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4.1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The Capital Approach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456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Is a sound economic approa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456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Central Statisical Agencies compute (or should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compute) NW estima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456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4.2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We need separate measures for the main capital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categories: Financial, real, human, natural and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environment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456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4.3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This work should as far as possible be carried out by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Central Statistical Agenc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456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4.4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Need for an international framework and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coordination: The Conference of European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Statistician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456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4.5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A global set of SD indicators should focus on poverty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and the global environment. Point of departure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456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UN Millennium Goa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643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242166"/>
                </a:solidFill>
                <a:latin typeface="Verdana"/>
              </a:rPr>
              <a:t>Content</a:t>
            </a:r>
            <a:endParaRPr b="0" lang="en-US" sz="2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73160" y="1685880"/>
            <a:ext cx="739944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1.  Introdu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2.  Sustainable Development and the Management of National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Wealt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5712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2.1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The Consep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5712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2.2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Sustainability for wh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5712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2.3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National Wealth as the basis for welfare. 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5712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The Capital approa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5712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2.4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National Wealth as an indicator of sustainabil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5712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2.4.1  Critical resour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5712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2.4.2  System Complec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5712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2.4.3  Practical problem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1258920" y="5157720"/>
            <a:ext cx="7399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5712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3.  The Norwegian Core Set of Indicators for Sustainable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Development: An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5712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4.  Conclu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8480" y="990360"/>
            <a:ext cx="6435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242166"/>
                </a:solidFill>
                <a:latin typeface="Verdana"/>
              </a:rPr>
              <a:t>Introduction</a:t>
            </a:r>
            <a:endParaRPr b="0" lang="en-US" sz="2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33640" y="1762200"/>
            <a:ext cx="718344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07800" indent="0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1.1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Indicators for Sustainable Development (SD) should be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constrained to key,long term economic,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environmental and social policy challenges and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interactions between them. Should focus on a few key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indicators and policy are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7800" indent="0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7800" indent="0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1.2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For day to day (shorter term) policies one needs in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addition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more detailed economic-, environmental and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social statistic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7800" indent="0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7800" indent="0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1.3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What the key longer term policy challenge are should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be determined by the political authorities (in each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country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7800" indent="0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7800" indent="0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1.4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National Wealth (NW) should be the point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of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depatur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8480" y="1066680"/>
            <a:ext cx="643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242166"/>
                </a:solidFill>
                <a:latin typeface="Verdana"/>
              </a:rPr>
              <a:t>SD and the Management of NW</a:t>
            </a:r>
            <a:endParaRPr b="0" lang="en-US" sz="2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33640" y="1762200"/>
            <a:ext cx="718344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4560" indent="0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2.1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Brundtland: ”SD is development that meets the needs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of the present without compromising the ability of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4560" indent="0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future generations to meet their own needs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4560" indent="0"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4560" indent="0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2.2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SD: Developments that can contiue ”for ever”, or at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least the time horizon considered by policy. The level of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welfare, or living standards broadley defined, should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not reduced over ti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4560" indent="0"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4560" indent="0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2.3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The global versus the national perspectiv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4560" indent="0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Key global challenges: poverty and the global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environmental comm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4560" indent="0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National SD policies and action plans in OECDs contries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make sense because 2/3 of GDP produced there, and a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”sustainable” OECD would contribute importantly to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global S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16000" y="979200"/>
            <a:ext cx="763272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spcBef>
                <a:spcPts val="100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2.4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NW as a basis for welfare. The Capital Approach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100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2.4.1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What is the (best) future welfare 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developments we can expect given the present day 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point of departure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100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2.4.2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What resources do we have at our disposal today, 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and how should we mange these over time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100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2.4.3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Key resources ar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100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-  Financial Capit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100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Real assets (produced capital good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100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Natural resources (Non-renewable mineral resources and 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petroleum) and conditional renewable resources 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           (forests, fish, hydropower etc.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100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Environmental resources (Cleaning 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services,functioning of the basic ecological system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100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Human resources or human capit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116000" y="979200"/>
            <a:ext cx="763272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2.4.4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The total resource base is termed our National Weath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(NW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The value of NW depends on the welfare effects that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the use of its various components may yield over ti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The value of NW equals the discounted sum of welfare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produced by its various components over ti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Whether developments may be called sustainable,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depends on whether NW broadly defined increases or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decrea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2.4.5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Critical resources. Without a reasonable stable climate, or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without a minimum of biological diversity, economic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developments cannot be sustained over ti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2.4.6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System complexity. Lack of knowledge. Key individual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elements of NW should be monitor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116000" y="979200"/>
            <a:ext cx="763272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2.4.7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Practical proble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-  Difficult to get good shadow pri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Individual environmental services are not traded in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marke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i="1" lang="nb-NO" sz="1800" spc="-1" strike="noStrike" u="sng">
                <a:solidFill>
                  <a:srgbClr val="000000"/>
                </a:solidFill>
                <a:uFillTx/>
                <a:latin typeface="Verdana"/>
              </a:rPr>
              <a:t>Summing up</a:t>
            </a:r>
            <a:r>
              <a:rPr b="0" i="1" lang="nb-NO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i="1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Chose indicators that best reflect the value,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defined as the welfare effects, of the key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components of NW. I.e: The Capital Approa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16000" y="979200"/>
            <a:ext cx="763272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The Norwegian Core Set of SD indicator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An Exampl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In the T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3.1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The 16 indicators are referred to the 6 main policy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areas in the National Agenda 21 which is the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Norwegian Action Plan for S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3.2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The set is, in the table to the right, related to the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five types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of national capital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Financial capit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Real capiat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Human capit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Natural capit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Environmental capit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82640" y="898560"/>
            <a:ext cx="836136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7T10:30:20Z</dcterms:created>
  <dc:creator>bwi</dc:creator>
  <dc:description/>
  <dc:language>en-US</dc:language>
  <cp:lastModifiedBy>Rauss</cp:lastModifiedBy>
  <dcterms:modified xsi:type="dcterms:W3CDTF">2005-06-10T09:20:10Z</dcterms:modified>
  <cp:revision>13</cp:revision>
  <dc:subject/>
  <dc:title>A Framework for Constructing indicators for Policies to enhance Sustainable Develop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78518404</vt:r8>
  </property>
  <property fmtid="{D5CDD505-2E9C-101B-9397-08002B2CF9AE}" pid="3" name="_AuthorEmail">
    <vt:lpwstr>ingrid-torp.hagensen@finans.dep.no</vt:lpwstr>
  </property>
  <property fmtid="{D5CDD505-2E9C-101B-9397-08002B2CF9AE}" pid="4" name="_AuthorEmailDisplayName">
    <vt:lpwstr>Hågensen, Ingrid Torp</vt:lpwstr>
  </property>
  <property fmtid="{D5CDD505-2E9C-101B-9397-08002B2CF9AE}" pid="5" name="_EmailSubject">
    <vt:lpwstr>Plansjer som avtalt</vt:lpwstr>
  </property>
  <property fmtid="{D5CDD505-2E9C-101B-9397-08002B2CF9AE}" pid="6" name="_NewReviewCycle">
    <vt:lpwstr/>
  </property>
</Properties>
</file>