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6598-63BA-4918-934D-B40B8F5D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8C32-0F78-4009-91D2-1DDB31E8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4EB3-3B0E-4250-8E94-62B9F8C7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F2A0C-E769-4C0E-86BF-A0EB712B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3AF14-4722-4F33-9C5A-14ED19EB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94C0A-9490-4768-932E-B5577C69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5B02-7F29-402D-AB4A-94F8CD48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BEF48-89FB-4F3B-AC15-FCD079BE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0D86-40E8-4FE7-BDE0-F46D3678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1726-1B65-406F-B505-68F1FA6C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D9BE-FB5A-4B88-9D63-F66235D7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C591-409E-4D4F-BCE7-05C0D39A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01240" y="6552720"/>
            <a:ext cx="552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51DB-1888-4A4E-A60C-0E57DB892BDD}" type="slidenum">
              <a:rPr b="0" lang="fi-FI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409720" y="6552720"/>
            <a:ext cx="221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yhyt%20viiva" descr=""/>
          <p:cNvPicPr/>
          <p:nvPr/>
        </p:nvPicPr>
        <p:blipFill>
          <a:blip r:embed="rId2"/>
          <a:stretch/>
        </p:blipFill>
        <p:spPr>
          <a:xfrm>
            <a:off x="5459400" y="6516720"/>
            <a:ext cx="4446720" cy="36360"/>
          </a:xfrm>
          <a:prstGeom prst="rect">
            <a:avLst/>
          </a:prstGeom>
          <a:ln w="0">
            <a:noFill/>
          </a:ln>
        </p:spPr>
      </p:pic>
      <p:pic>
        <p:nvPicPr>
          <p:cNvPr id="6" name="englanti2" descr=""/>
          <p:cNvPicPr/>
          <p:nvPr/>
        </p:nvPicPr>
        <p:blipFill>
          <a:blip r:embed="rId3"/>
          <a:stretch/>
        </p:blipFill>
        <p:spPr>
          <a:xfrm>
            <a:off x="282600" y="304920"/>
            <a:ext cx="30700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englanti2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267080" cy="760680"/>
          </a:xfrm>
          <a:prstGeom prst="rect">
            <a:avLst/>
          </a:prstGeom>
          <a:ln w="0">
            <a:noFill/>
          </a:ln>
        </p:spPr>
      </p:pic>
      <p:pic>
        <p:nvPicPr>
          <p:cNvPr id="45" name="pitkapaksuviiva3" descr=""/>
          <p:cNvPicPr/>
          <p:nvPr/>
        </p:nvPicPr>
        <p:blipFill>
          <a:blip r:embed="rId3"/>
          <a:stretch/>
        </p:blipFill>
        <p:spPr>
          <a:xfrm>
            <a:off x="0" y="6361200"/>
            <a:ext cx="9926640" cy="573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6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18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2100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68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Internet Data Repor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90560" y="25142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S 13.6.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6576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Using the Web in Collecting Data for Business Statistics in Finl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s Finland’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420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ffer a WEB based option in all data collections by 2007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s is the respondent’s choice whether to use WEB or no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---&gt; it is his / her judgement what is sufficient in data securit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lkka Hypp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A67C-591B-488C-9604-37128DB116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6.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 data collections (excl. financial sta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45 survey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xcluding collections with less than 30 respondents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r approach is prag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24280" y="2133720"/>
            <a:ext cx="4896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 -collection in use 1.5.2005: 15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the end of year 2006:   45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per option remains for the foreseeable fu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&gt; decrease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lkka Hyppöne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A084-8DC9-4DFB-A618-46892C084C8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6.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r Fellegis </a:t>
            </a:r>
            <a:r>
              <a:rPr b="0" lang="en-GB" sz="2800" spc="-1" strike="noStrike">
                <a:solidFill>
                  <a:srgbClr val="06b81b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b81b"/>
                </a:solidFill>
                <a:latin typeface="Arial"/>
              </a:rPr>
              <a:t>What approach to use to protect the data from interception in both directions? Experiences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-&gt; Not a very big concern.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-- data is not super sensitiv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-- the respondents decide whether to use or no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-- no experienc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b81b"/>
                </a:solidFill>
                <a:latin typeface="Arial"/>
              </a:rPr>
              <a:t>Experiences with provision of past data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-&gt; ?? Past data is included in the response data base and is available to the respon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lkka Hypp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C255E-DD55-4BC9-ACA6-9D2A3E650C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6.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r Fellegis </a:t>
            </a:r>
            <a:r>
              <a:rPr b="0" lang="en-GB" sz="2800" spc="-1" strike="noStrike">
                <a:solidFill>
                  <a:srgbClr val="06b81b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b81b"/>
                </a:solidFill>
                <a:latin typeface="Arial"/>
              </a:rPr>
              <a:t>Any unreported experiences with respondent research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-&gt; not in this area (W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b81b"/>
                </a:solidFill>
                <a:latin typeface="Arial"/>
              </a:rPr>
              <a:t>Should we create an ad hoc working group on EDR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seem necessary from our point of view; possible solutions in various  countries are tied with the institutional condi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lkka Hypp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8F92-E2D2-4DBC-9923-FFBEA24ED0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6.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r Fellegis </a:t>
            </a:r>
            <a:r>
              <a:rPr b="0" lang="en-GB" sz="2800" spc="-1" strike="noStrike">
                <a:solidFill>
                  <a:srgbClr val="06b81b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975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b81b"/>
                </a:solidFill>
                <a:latin typeface="Arial"/>
              </a:rPr>
              <a:t>Why have you adopted both an in-house and a contracted approach? When do you use each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-&gt; in 1997 we did not have in-house expertis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-&gt; with limited in-house resources progress would be slow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--&gt; with both in-house / contracted  we can “double” the spe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lnSpc>
                <a:spcPct val="90000"/>
              </a:lnSpc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one works better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--&gt; Both seem to be doing all right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--&gt;  For short term --&gt; in-house because must have fast response        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--&gt; can not wait for a service provider to reac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lkka Hypp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F236-20BF-4DDE-A4BC-D05364EDA8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6.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3:23:47Z</dcterms:created>
  <dc:creator>Ilkka Hyppönen</dc:creator>
  <dc:description/>
  <dc:language>en-US</dc:language>
  <cp:lastModifiedBy>Rauss</cp:lastModifiedBy>
  <cp:lastPrinted>2004-03-02T12:43:08Z</cp:lastPrinted>
  <dcterms:modified xsi:type="dcterms:W3CDTF">2005-06-07T06:22:19Z</dcterms:modified>
  <cp:revision>5</cp:revision>
  <dc:subject/>
  <dc:title>Otsikkodia</dc:title>
</cp:coreProperties>
</file>