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12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50920" y="6165720"/>
            <a:ext cx="201744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lt-LT" sz="8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800" spc="-1" strike="noStrike">
                <a:solidFill>
                  <a:srgbClr val="003366"/>
                </a:solidFill>
                <a:latin typeface="Arial"/>
              </a:rPr>
              <a:t>13-15 June  2005, Genev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600" y="6400440"/>
            <a:ext cx="5943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lt-LT" sz="10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000" spc="-1" strike="noStrike">
                <a:solidFill>
                  <a:srgbClr val="003366"/>
                </a:solidFill>
                <a:latin typeface="Arial"/>
              </a:rPr>
              <a:t>Conference of European Statisticia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84360" y="1700280"/>
            <a:ext cx="8076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200" spc="-1" strike="noStrike">
                <a:solidFill>
                  <a:srgbClr val="000000"/>
                </a:solidFill>
                <a:latin typeface="Verdana"/>
              </a:rPr>
              <a:t>USERS’ NEEDS VERSUS RESPONSE BURDEN: HOW TO MAINTAIN THE BALANCE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724280" y="4921200"/>
            <a:ext cx="3810240" cy="78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Verdana"/>
              </a:rPr>
              <a:t>Algirdas Šemet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Verdana"/>
              </a:rPr>
              <a:t>Statistics Lithua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85800" y="3378240"/>
            <a:ext cx="3886200" cy="2717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aining schem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0'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SOME MORE FACTS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</a:rPr>
              <a:t>THE NUMBER OF SURVEYS DECREASED FROM 213 TO 193</a:t>
            </a: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</a:rPr>
              <a:t>CANCELLED SURVEYS</a:t>
            </a: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</a:rPr>
              <a:t>ANNUAL SURVEY ON EARNINGS - 37 thous. respondents </a:t>
            </a: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</a:rPr>
              <a:t>SURVEY ON INVESTMENT OF ENTERPRISES - 25 thous. respondents</a:t>
            </a: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NUAL ROAD TRANSPORT VEHICLES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000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</a:rPr>
              <a:t>respondents</a:t>
            </a: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</a:rPr>
              <a:t>ANNUAL SURVEY ON ADULTS EDUCATION (QUALIFICATION) -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60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</a:rPr>
              <a:t> respondents</a:t>
            </a: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</a:rPr>
              <a:t>ANNUAL SURVEYS ON CAMPING –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800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</a:rPr>
              <a:t> respondents</a:t>
            </a: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</a:rPr>
              <a:t>ANNUAL ENTERPRISE INDUSTRIAL ACTIVITY SURVEY - 4000 respondents</a:t>
            </a: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aa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1E5466-2B8B-4B96-9F57-9C9433A723C7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MID-TERM PLANS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</a:rPr>
              <a:t>INITIATIVE ON USING BUSINESS ACCOUNTANCY DATA (PLANNED) </a:t>
            </a: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</a:rPr>
              <a:t>INDICATOR REFLECTING THE BURDEN </a:t>
            </a: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</a:rPr>
              <a:t>10 NEW E-QUESTIONNAIRES</a:t>
            </a: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URTHER REVISION OF SURVEYS AND QUESTIONNAIRES</a:t>
            </a: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UMBER OF SURVEYS PER ENTERPRISE AMOUNTS TO 3.5</a:t>
            </a: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aa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BAD7EF-B9FF-4DEC-9619-72B5BDF76263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MORE ACTIVE COOPERATION WITH THOSE FORMULATING DEMANDS </a:t>
            </a:r>
            <a:endParaRPr b="1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IMPORTANCE OF PRIORITISATION OF REQUIREMENTS </a:t>
            </a:r>
            <a:endParaRPr b="1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SIMPLIFICATION OF LEGISLATION SHOULD ACQUIRE CONCRETE SHAPE</a:t>
            </a:r>
            <a:endParaRPr b="1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DEVELOPMENT OF AN INTERNATIONALLY HARMONIZED INDICATOR FOR MEASUREMENT OF RESPONSE BURDEN</a:t>
            </a:r>
            <a:endParaRPr b="1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ONLY JOINT EFFORTS COULD BEAR TANGIBLE RESULTS</a:t>
            </a:r>
            <a:endParaRPr b="1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lt-LT" sz="16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lt-LT" sz="16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lt-LT" sz="16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aa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B6EFE3-1B9B-4636-90C3-5835F9110851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INCREASING DEMANDS </a:t>
            </a:r>
            <a:endParaRPr b="1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STRATEGIC GOALS OF THE EU</a:t>
            </a:r>
            <a:endParaRPr b="1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INTERNAL USERS</a:t>
            </a:r>
            <a:endParaRPr b="1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INTERNATIONAL ORGANISATIONS</a:t>
            </a:r>
            <a:endParaRPr b="1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THEORETICAL ENDEAVOUR TO DECREASE THE BURDEN</a:t>
            </a:r>
            <a:endParaRPr b="1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0">
              <a:spcBef>
                <a:spcPts val="675"/>
              </a:spcBef>
              <a:spcAft>
                <a:spcPts val="67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aa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5693CC-7772-47FD-9A87-4123FF21D3F6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20640"/>
            <a:ext cx="777240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QUESTIONNAIRES 2000 - 2004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116000" y="1670040"/>
          <a:ext cx="673884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670040"/>
                    <a:ext cx="673884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1908000" y="3789360"/>
            <a:ext cx="6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Arial"/>
              </a:rPr>
              <a:t>2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59280" y="378936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Arial"/>
              </a:rPr>
              <a:t>2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356000" y="3357720"/>
            <a:ext cx="43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Arial"/>
              </a:rPr>
              <a:t>26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508720" y="242100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Arial"/>
              </a:rPr>
              <a:t>44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04000" y="1916280"/>
            <a:ext cx="4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Arial"/>
              </a:rPr>
              <a:t>54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aining schem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0'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MEASURES TAKEN BY STATISTICS LITHUANIA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PERMANENT WORKING GROUP ON RESPONSE BURDEN</a:t>
            </a:r>
            <a:endParaRPr b="1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DEFINITION OF RESPONSE BURDEN</a:t>
            </a:r>
            <a:endParaRPr b="1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ACTION PLAN</a:t>
            </a:r>
            <a:endParaRPr b="1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aa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2846C8-E90A-4FD4-962E-4144737F3FA0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CONCRETE STEPS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POSSIBILITY TO DECREASE THE NUMBER OF QUESTIONNAIRES SEARCHED FOR</a:t>
            </a:r>
            <a:endParaRPr b="1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CANCELLING OF SURVEYS</a:t>
            </a:r>
            <a:endParaRPr b="1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USE OF THE INFORMATION AVAILABLE IN THE STATS. OFFICE</a:t>
            </a:r>
            <a:endParaRPr b="1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ROTATION OF ENTERPRISES  </a:t>
            </a:r>
            <a:endParaRPr b="1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REVIEW OF STATISTICAL QUESTIONNAIRES</a:t>
            </a:r>
            <a:endParaRPr b="1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TO AVOID RECURRENT INDICATORS</a:t>
            </a:r>
            <a:endParaRPr b="1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ESTIMATE COHERENCE AND RELEVANCE OF INDICATORS</a:t>
            </a:r>
            <a:endParaRPr b="1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aa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4BDDCA-9095-4A41-BC2F-CF93BC92070B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USE OF ADMINISTRATIVE DATA SOURCES</a:t>
            </a:r>
            <a:br>
              <a:rPr sz="1800"/>
            </a:b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</a:rPr>
              <a:t>PROBLEMS</a:t>
            </a: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</a:rPr>
              <a:t>DIFFERENCES IN DEFINITIONS OF INDICATORS</a:t>
            </a: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</a:rPr>
              <a:t>SHORTAGE OF DATA </a:t>
            </a: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</a:rPr>
              <a:t>QUALITY</a:t>
            </a: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</a:rPr>
              <a:t>DIFFERENT DEADLINES FOR REPORTING</a:t>
            </a: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</a:rPr>
              <a:t>TECHNICAL PROBLEMS</a:t>
            </a: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</a:rPr>
              <a:t>LEGAL AND ORGANISATIONAL ASPECTS</a:t>
            </a: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</a:rPr>
              <a:t>ACIEVEMENTS</a:t>
            </a: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</a:rPr>
              <a:t>110 ADMINSTRATIVE DATA SOURCES USED</a:t>
            </a: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</a:rPr>
              <a:t>COOPERATION ENHANCED - INTERINSTITUTIONAL DATA WAREHOUSE</a:t>
            </a: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aa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650EEC-19CA-4203-A9A6-DB4408691860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CONCRETE STEPS (continued)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</a:rPr>
              <a:t>INCREASED PARTNERSHIP WITH RESPONDENTS</a:t>
            </a: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</a:rPr>
              <a:t>REGULAR MEETINGS, DISCUSSIONS</a:t>
            </a: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</a:rPr>
              <a:t>FEEDBACK</a:t>
            </a: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</a:rPr>
              <a:t>CREATION OF FAVOURABLE CONDITIONS  FOR RESPONDENTS</a:t>
            </a: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</a:rPr>
              <a:t>E-QUESTIONNAIRES</a:t>
            </a: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</a:rPr>
              <a:t>INITIATIVE ON USING BUSINESS ACCOUNTANCY DATA (PLANNED) </a:t>
            </a: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</a:rPr>
              <a:t>USE OF ADMINISTRATIVE DATA SOURCES</a:t>
            </a: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aa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E34D12-86EC-457B-AAAA-A31931A51082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PARTICIPATION OF ENTERPRISES IN 2005 STATISTICAL SURVEYS AS COMPARED WITH 2004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6095880"/>
            <a:ext cx="784692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lt-LT" sz="9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755640" y="2133720"/>
          <a:ext cx="7702560" cy="4039920"/>
        </p:xfrm>
        <a:graphic>
          <a:graphicData uri="http://schemas.openxmlformats.org/drawingml/2006/table">
            <a:tbl>
              <a:tblPr/>
              <a:tblGrid>
                <a:gridCol w="2808360"/>
                <a:gridCol w="1512720"/>
                <a:gridCol w="1727280"/>
                <a:gridCol w="16542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                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sults achiev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surveyed enterprises</a:t>
                      </a:r>
                      <a:r>
                        <a:rPr b="1" lang="lt-LT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.33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.78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54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om which small enterprises (0-4 employee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.96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.73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3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questionnaires per small enterpri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small enterpr. receiving over 5 questionnaires</a:t>
                      </a: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1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g enterpr.  participating in over 20 surveys</a:t>
                      </a: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aining schem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0'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erage number of surveys per enterprise by size groups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755640" y="1413000"/>
          <a:ext cx="7737480" cy="4632120"/>
        </p:xfrm>
        <a:graphic>
          <a:graphicData uri="http://schemas.openxmlformats.org/drawingml/2006/table">
            <a:tbl>
              <a:tblPr/>
              <a:tblGrid>
                <a:gridCol w="1079640"/>
                <a:gridCol w="1187280"/>
                <a:gridCol w="2197080"/>
                <a:gridCol w="1187640"/>
                <a:gridCol w="2085840"/>
              </a:tblGrid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spcAft>
                          <a:spcPts val="6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4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spcAft>
                          <a:spcPts val="6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3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ze of enterpri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enterprises</a:t>
                      </a: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verage number of surveys per enterpri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enterpri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verage number of surveys per enterpri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-4 empl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72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19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-9 empl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9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9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-19 empl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2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8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-49 empl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8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5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-99 empl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7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2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- empl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3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4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aining schem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0'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8T12:26:36Z</dcterms:created>
  <dc:creator>daiva</dc:creator>
  <dc:description/>
  <dc:language>en-US</dc:language>
  <cp:lastModifiedBy>DaivaN</cp:lastModifiedBy>
  <dcterms:modified xsi:type="dcterms:W3CDTF">2005-06-10T13:07:47Z</dcterms:modified>
  <cp:revision>85</cp:revision>
  <dc:subject/>
  <dc:title>SLAIDO PAVADINIMAS</dc:title>
</cp:coreProperties>
</file>