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C6F-F2FC-4A46-B3A1-CC50626F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73454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19280" y="4072680"/>
            <a:ext cx="73454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4AF-A35C-4B07-9203-0328F8B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19280" y="407268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83440" y="407268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303-3990-4907-8D0D-579D1A5B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2920" y="177336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86200" y="177336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19280" y="407268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02920" y="407268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86200" y="407268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5ED-CEB0-4886-AB7D-76D44AF3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D12E-F542-48BE-9061-D39B75B8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19280" y="1773360"/>
            <a:ext cx="73454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C72C-EE68-43FE-8B63-81386EB4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73454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4227-5BA6-48AF-ADD3-657293CE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E1CD-4B6E-4483-8C2D-6C09ECE7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CA10-FA09-49EB-BBEB-C72EDA0A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19280" y="259920"/>
            <a:ext cx="7345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0DBD-285C-4BCD-A550-224EEDCC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19280" y="407268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5629-6EB1-4FFB-8E8F-64F4266D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19280" y="1773360"/>
            <a:ext cx="73454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58C-8D45-4D8D-9D49-6D1D443D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83440" y="407268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23D8-8666-40AE-A0A6-086CF01E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9280" y="4072680"/>
            <a:ext cx="73454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DEE7-5FAA-4F70-B8EE-8032C6A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73454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19280" y="4072680"/>
            <a:ext cx="73454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6651-F1B5-4565-820D-EC65A903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19280" y="407268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83440" y="407268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F76E-7C5C-4726-B29E-1A368C19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02920" y="177336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86200" y="177336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19280" y="407268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02920" y="407268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86200" y="4072680"/>
            <a:ext cx="23648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5302-1C63-4CD8-8E35-B60A373A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73454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D4B-0DEC-4045-9EAC-BD473E9E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5BE-1C54-4889-90A4-D7D509CF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6B1-0A4B-4E00-97C6-8F9D9AF8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9280" y="259920"/>
            <a:ext cx="7345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303-438C-4B72-8B04-7EC1EBCB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19280" y="407268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3C7-C893-47CF-9F72-7B36F100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83440" y="407268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CA1-46FC-436F-A7CE-C01728D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83440" y="1773360"/>
            <a:ext cx="358452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19280" y="4072680"/>
            <a:ext cx="7345440" cy="209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330-EFA8-405C-9426-E32B8C8F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9280" y="1773360"/>
            <a:ext cx="73454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8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99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0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000" spc="-1" strike="noStrike">
                <a:solidFill>
                  <a:srgbClr val="0099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000" spc="-1" strike="noStrike">
                <a:solidFill>
                  <a:srgbClr val="0099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000" spc="-1" strike="noStrike">
                <a:solidFill>
                  <a:srgbClr val="0099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B726F3-7D71-433D-BFC4-39CD456739F1}" type="slidenum">
              <a:rPr b="0" lang="nl-NL" sz="1000" spc="-1" strike="noStrike">
                <a:solidFill>
                  <a:srgbClr val="0099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34544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618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99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90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000" spc="-1" strike="noStrike">
                <a:solidFill>
                  <a:srgbClr val="0099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000" spc="-1" strike="noStrike">
                <a:solidFill>
                  <a:srgbClr val="0099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000" spc="-1" strike="noStrike">
                <a:solidFill>
                  <a:srgbClr val="0099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08C286-0D77-4E72-B95F-F908D47AAFE0}" type="slidenum">
              <a:rPr b="0" lang="nl-NL" sz="1000" spc="-1" strike="noStrike">
                <a:solidFill>
                  <a:srgbClr val="0099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25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e Annual Dutch Business Inquiry</a:t>
            </a: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veloping and Tes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electronic form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19280" y="2924280"/>
            <a:ext cx="7524720" cy="34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r Snijk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vrim On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Jo Tongle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Statistics Netherland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Division of Business Statistic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2FBF-DBAC-485D-845A-F596DA4422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75C-0F46-44CE-A256-B5FAA98F5AC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617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981000"/>
            <a:ext cx="766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61800" indent="-361800">
              <a:spcBef>
                <a:spcPts val="624"/>
              </a:spcBef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ctr">
              <a:spcBef>
                <a:spcPts val="901"/>
              </a:spcBef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b questionnaire design is communication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1D7-7131-44D6-A8A1-EEA5E9500A4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8F5-356D-46F6-8A6E-B5E360591B8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CDB-8CED-4C79-B0F4-B82D10EA829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CF7-EBEF-4090-B71B-9AC4B57C9BC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veloping the electronic form</a:t>
            </a:r>
            <a:br>
              <a:rPr sz="3200"/>
            </a:b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75247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452520"/>
                <a:tab algn="l" pos="803160"/>
                <a:tab algn="l" pos="52052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ree steps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2520"/>
                <a:tab algn="l" pos="803160"/>
                <a:tab algn="l" pos="52052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 scale usability te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31-1-’05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452520"/>
                <a:tab algn="l" pos="803160"/>
                <a:tab algn="l" pos="52052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ll development tea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452520"/>
                <a:tab algn="l" pos="803160"/>
                <a:tab algn="l" pos="52052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totype of the e-for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2520"/>
                <a:tab algn="l" pos="803160"/>
                <a:tab algn="l" pos="52052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mproving the e-form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1-10-’05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452520"/>
                <a:tab algn="l" pos="803160"/>
                <a:tab algn="l" pos="52052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dditional usability tes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2520"/>
                <a:tab algn="l" pos="803160"/>
                <a:tab algn="l" pos="52052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mplementation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15-2-’06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2520"/>
                <a:tab algn="l" pos="803160"/>
                <a:tab algn="l" pos="52052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C7E-9B91-43E0-B020-CA20544C64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sted e-form</a:t>
            </a:r>
            <a:br>
              <a:rPr sz="3200"/>
            </a:b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7451640" cy="596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1280" y="333360"/>
            <a:ext cx="133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es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Researc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803-778F-42B3-9EAE-5BFAE3016A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st waves </a:t>
            </a:r>
            <a:br>
              <a:rPr sz="3200"/>
            </a:b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19280" y="1052640"/>
          <a:ext cx="7345440" cy="5163840"/>
        </p:xfrm>
        <a:graphic>
          <a:graphicData uri="http://schemas.openxmlformats.org/drawingml/2006/table">
            <a:tbl>
              <a:tblPr/>
              <a:tblGrid>
                <a:gridCol w="1512720"/>
                <a:gridCol w="2160720"/>
                <a:gridCol w="1835280"/>
                <a:gridCol w="183672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cc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cc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cc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est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cc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eri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ug. 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ct. 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Nov./Dec. 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Blaise 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Blaise -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E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Blaise -CBSqu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n/off-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n-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ff-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ff-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Brow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D-r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Download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umber of  interview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5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BS employ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37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busines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busines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1934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ested b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BS employee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external desig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6 business interview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2 cogn. lab interviewer +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2 business intervie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44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sul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ost bugs ident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Experiences from interview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Most result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Inexperienced respon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99cc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71280" y="333360"/>
            <a:ext cx="133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est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Researc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958-AA0C-4A5C-90C2-ABA5681185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Research issues</a:t>
            </a:r>
            <a:br>
              <a:rPr sz="3200"/>
            </a:b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1773360"/>
            <a:ext cx="752472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528840" indent="-528840">
              <a:spcBef>
                <a:spcPts val="624"/>
              </a:spcBef>
              <a:tabLst>
                <a:tab algn="l" pos="0"/>
                <a:tab algn="l" pos="539640"/>
                <a:tab algn="l" pos="80316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How does the e-form work in practice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28840" indent="-528840">
              <a:spcBef>
                <a:spcPts val="499"/>
              </a:spcBef>
              <a:tabLst>
                <a:tab algn="l" pos="0"/>
                <a:tab algn="l" pos="539640"/>
                <a:tab algn="l" pos="80316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mpleting the questionn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840" indent="-528840">
              <a:tabLst>
                <a:tab algn="l" pos="0"/>
                <a:tab algn="l" pos="539640"/>
                <a:tab algn="l" pos="80316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stion-and-answ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840" indent="-528840">
              <a:spcBef>
                <a:spcPts val="938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539640"/>
                <a:tab algn="l" pos="80316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What features should be included to make it </a:t>
            </a: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easy to use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28840" indent="-528840">
              <a:spcBef>
                <a:spcPts val="499"/>
              </a:spcBef>
              <a:tabLst>
                <a:tab algn="l" pos="0"/>
                <a:tab algn="l" pos="539640"/>
                <a:tab algn="l" pos="80316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‘Computer-assisted’ tools to make it respondent friend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840" indent="-528840">
              <a:tabLst>
                <a:tab algn="l" pos="0"/>
                <a:tab algn="l" pos="539640"/>
                <a:tab algn="l" pos="80316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ser wi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840" indent="-528840">
              <a:spcBef>
                <a:spcPts val="624"/>
              </a:spcBef>
              <a:tabLst>
                <a:tab algn="l" pos="0"/>
                <a:tab algn="l" pos="539640"/>
                <a:tab algn="l" pos="80316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How should the e-form be designed in relation </a:t>
            </a: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to the paper form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28840" indent="-528840">
              <a:spcBef>
                <a:spcPts val="499"/>
              </a:spcBef>
              <a:tabLst>
                <a:tab algn="l" pos="0"/>
                <a:tab algn="l" pos="539640"/>
                <a:tab algn="l" pos="80316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same or a different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840" indent="-528840">
              <a:tabLst>
                <a:tab algn="l" pos="0"/>
                <a:tab algn="l" pos="539640"/>
                <a:tab algn="l" pos="80316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‘look-and-feel’ of paper and e-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280" y="333360"/>
            <a:ext cx="133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earc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3EE-AE72-4AC7-BF49-5D2D41865B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earch issues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does the questionnaire work?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1773360"/>
            <a:ext cx="7524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65040" indent="-36504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Laborious and complex proce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ong, complex questionnaire 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≥ 25 i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Complex completion process: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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several sessions, several inform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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kick-and-rush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Imagine ...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a respondent sitting behind his/her computer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280" y="333360"/>
            <a:ext cx="133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earc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5013360"/>
            <a:ext cx="7524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252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Wingdings"/>
                <a:ea typeface="Wingdings"/>
              </a:rPr>
              <a:t></a:t>
            </a: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Respondent got lost in the questionnai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254-972C-46CB-9C10-79FB6841B2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earch issues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atures to make it easy to use?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1557360"/>
            <a:ext cx="7524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65040" indent="-36504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What am I supposed to do (next)?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Easy to download and inst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lear instructions and expla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Easy to send data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How is the questionnaire built up?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Show how the questionnaire is struct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Help to find the way in the questionn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No hidden rules, no unexpected functiona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Where am I? What did I do so far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Provide overview of the completion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lear navigation, no scro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Printing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Where can I put these data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Entry-search (goog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280" y="333360"/>
            <a:ext cx="133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earc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6F5-AF5D-4B40-B6B7-33B2533562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earch issues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sign of paper and e-form?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1773360"/>
            <a:ext cx="75247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17520" indent="-31752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The computer is different than pap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e-form reacts to the respo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ading from the screen is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Navigating and getting an overview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works differ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Kick-and-rush behaviou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even stronger than on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365040"/>
                <a:tab algn="l" pos="803160"/>
                <a:tab algn="l" pos="11653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280" y="333360"/>
            <a:ext cx="133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earc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5157720"/>
            <a:ext cx="7524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5040" indent="-36504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6504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Wingdings"/>
                <a:ea typeface="Wingdings"/>
              </a:rPr>
              <a:t></a:t>
            </a: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500" spc="-1" strike="noStrike">
                <a:solidFill>
                  <a:srgbClr val="ffff00"/>
                </a:solidFill>
                <a:latin typeface="Arial"/>
              </a:rPr>
              <a:t>In order </a:t>
            </a: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to get good data in time …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DFB-B85F-47C4-A3AC-D8D3BE5BA1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4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617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br>
              <a:rPr sz="3200"/>
            </a:br>
            <a:endParaRPr b="1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1773360"/>
            <a:ext cx="752472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61800" indent="-36180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Visual desig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ear and 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mple, transparent,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 hidden and unexpected functiona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938"/>
              </a:spcBef>
              <a:buClr>
                <a:srgbClr val="ffff00"/>
              </a:buClr>
              <a:buFont typeface="Arial"/>
              <a:buChar char="•"/>
              <a:tabLst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938"/>
              </a:spcBef>
              <a:buClr>
                <a:srgbClr val="ffff00"/>
              </a:buClr>
              <a:buFont typeface="Arial"/>
              <a:buChar char="•"/>
              <a:tabLst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3357720"/>
            <a:ext cx="752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61800" indent="-361800">
              <a:spcBef>
                <a:spcPts val="938"/>
              </a:spcBef>
              <a:buClr>
                <a:srgbClr val="ffff00"/>
              </a:buClr>
              <a:buFont typeface="Arial"/>
              <a:buChar char="•"/>
              <a:tabLst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Support the completion proce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ther mode, other features, other visual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ifferent than paper form, same ‘look-and-feel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4581360"/>
            <a:ext cx="752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61800" indent="-361800">
              <a:spcBef>
                <a:spcPts val="938"/>
              </a:spcBef>
              <a:buClr>
                <a:srgbClr val="ffff00"/>
              </a:buClr>
              <a:buFont typeface="Arial"/>
              <a:buChar char="•"/>
              <a:tabLst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Tailor to kick-and-rush behaviou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Small sections,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mall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361800"/>
                <a:tab algn="l" pos="80172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Short and clear expla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280" y="333360"/>
            <a:ext cx="133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Test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Researc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176"/>
              </a:spcBef>
              <a:tabLst>
                <a:tab algn="l" pos="0"/>
                <a:tab algn="l" pos="181080"/>
                <a:tab algn="l" pos="900000"/>
                <a:tab algn="l" pos="38592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S, 13-15 June 2005,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3C3-0A1F-4A19-95A2-DE2F770675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une 2005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1:32:52Z</dcterms:created>
  <dc:creator>Ger Snijkers</dc:creator>
  <dc:description/>
  <dc:language>en-US</dc:language>
  <cp:lastModifiedBy>Rauss</cp:lastModifiedBy>
  <dcterms:modified xsi:type="dcterms:W3CDTF">2005-06-07T06:29:42Z</dcterms:modified>
  <cp:revision>114</cp:revision>
  <dc:subject/>
  <dc:title>Project pilot e-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74882012</vt:r8>
  </property>
  <property fmtid="{D5CDD505-2E9C-101B-9397-08002B2CF9AE}" pid="3" name="_AuthorEmail">
    <vt:lpwstr>GSKS@CBS.nl</vt:lpwstr>
  </property>
  <property fmtid="{D5CDD505-2E9C-101B-9397-08002B2CF9AE}" pid="4" name="_AuthorEmailDisplayName">
    <vt:lpwstr>Snijkers, Dr G.J.M.E.</vt:lpwstr>
  </property>
  <property fmtid="{D5CDD505-2E9C-101B-9397-08002B2CF9AE}" pid="5" name="_EmailSubject">
    <vt:lpwstr>CES Seminar: PPT Presentation Statistics Netherlands</vt:lpwstr>
  </property>
</Properties>
</file>