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36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4448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03824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flipH="1">
            <a:off x="1739520" y="3619440"/>
            <a:ext cx="74041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93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428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8920" y="3860640"/>
            <a:ext cx="705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 versus Paper Questionnaires: A Design and Functionality Comparis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92360" y="5373720"/>
            <a:ext cx="6618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cqui Jones, Carina Fraser &amp; Zoë Dow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 Office for National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lanning the design and functionality of paper and web questionnaires it is important that both the survey organisation’s perspective and the respondent’s perspective are consi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lance is important for controlling actual and perceived respondent burden, survey costs and data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ms of the pap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ompare &amp; contrast the design and functionality of web and paper questionnaires from the perspectives of the survey organisation and respon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mparison of web &amp; paper design &amp; function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ations for the survey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within the control of the survey organis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 versus Pap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l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questionnair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211040"/>
            <a:ext cx="41832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ising questionn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382920" y="0"/>
            <a:ext cx="576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211040"/>
            <a:ext cx="41832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ising questionnai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700360" y="404640"/>
            <a:ext cx="64436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iderations for the Survey Organis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dent burden (actual &amp; perceiv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pons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ey organisation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dent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thin the control of the Survey Organis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both Web and Paper the survey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control ov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l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questionnair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isation of questionn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ide of the control of the Survey Organis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rvey organisation does not have control ov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isual display of web questionn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r questionnaire comp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0T11:57:21Z</dcterms:created>
  <dc:creator>Kitty Maccoll</dc:creator>
  <dc:description/>
  <dc:language>en-US</dc:language>
  <cp:lastModifiedBy>Rauss</cp:lastModifiedBy>
  <dcterms:modified xsi:type="dcterms:W3CDTF">2005-06-07T12:58:59Z</dcterms:modified>
  <cp:revision>96</cp:revision>
  <dc:subject/>
  <dc:title>Looking for a way</dc:title>
</cp:coreProperties>
</file>