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64CD-A716-480E-9C6A-71BA6A256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DE1A-9AF0-481B-9128-663A8CDC0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56E6-DE0B-45E5-83D8-B6AA6A95E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37B8-5280-47DD-93B9-EF6DA2ECE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9AE3-F107-40F0-A62F-1E81A8F08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6A86-109B-4E2D-A3EB-45AE006498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0362-497D-441D-A821-BBCF945742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DC51-3297-4504-A0EB-FC70FB2794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8629-8D0B-458F-AD07-9E5BD7E81C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6F63-FC52-4BFD-AC55-91E3F36F1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6F65-1DA3-44CA-8796-919998A76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9498-148C-4369-9AF6-65C977A51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6208-AE44-4B85-B8AF-7D8451B4A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FCA8-67C1-4C24-A0EF-DF211D3AF9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3AED-4041-41D4-9FD9-0048B0ABE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06FC-1903-4C80-AC68-3FADC1D06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D311-9A45-4857-9165-C5D86D414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8D4C-9F5A-4AF6-B4D8-BB01E7E14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F644-869E-4C2B-86BB-02AFB8B3D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F896-C11B-4EAC-80A7-39EE1F403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FC72-217B-4A50-BDED-1934FC88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853C-9291-43F6-89B3-AC2CB9C1E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F94C-4536-4FBE-A28D-ADDE8291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0ACF-8346-441B-9D9E-4F0E4A566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ordBW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B5EE-EF50-4445-AE30-B63F43713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wordBW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042-07E2-45B5-86B1-5A2C90E91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bility and Accessibility Testing in Support of Internet Rep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y-third Plenar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Conference of European Statis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va, 13-15 June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D. Murphy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ensus Bu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jor Lessons Learne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1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90720"/>
            <a:ext cx="83055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leting the online form itself is not a probl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umbersome, confusing log-in process &gt;&gt; loss of responden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ability and accessibility testing reveal problems not revealed by other kinds of software test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smooth experience for the respondent requires end-to-end desi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s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prototypes of the Census Internet form:  2000 –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completing the Interne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from log-in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s of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ing Prototypes of the Census Internet Form:  2000 - 20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us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 National Censu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Overseas Enumer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National Censu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71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219320"/>
          <a:ext cx="381024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38102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image10" descr=""/>
          <p:cNvPicPr/>
          <p:nvPr/>
        </p:nvPicPr>
        <p:blipFill>
          <a:blip r:embed="rId3"/>
          <a:stretch/>
        </p:blipFill>
        <p:spPr>
          <a:xfrm>
            <a:off x="4876920" y="1143000"/>
            <a:ext cx="236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Accessing and Completing the Internet Fo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open mailing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Internet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rive at housing unit log-in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form &gt;&gt;&gt; Submi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“Thank You” screen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og-in Requirement in Census 2000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at…where is my Census ID Numbe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71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148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28232"/>
          <a:stretch/>
        </p:blipFill>
        <p:spPr>
          <a:xfrm>
            <a:off x="762120" y="1752480"/>
            <a:ext cx="662940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sus 2000:  Graphic in Hel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20800" r="0" b="0"/>
          <a:stretch/>
        </p:blipFill>
        <p:spPr>
          <a:xfrm>
            <a:off x="838080" y="1295280"/>
            <a:ext cx="6934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 National Census Tes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totype Log-in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400" t="15000" r="0" b="0"/>
          <a:stretch/>
        </p:blipFill>
        <p:spPr>
          <a:xfrm>
            <a:off x="1371600" y="1828800"/>
            <a:ext cx="61722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792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ability testing with 22 tes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6386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 I have a Census ID number?  What I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 National Census Tes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ed Log-in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28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7200" t="15000" r="0" b="0"/>
          <a:stretch/>
        </p:blipFill>
        <p:spPr>
          <a:xfrm>
            <a:off x="1295280" y="1981080"/>
            <a:ext cx="6019920" cy="381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nges based on usability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6:59Z</dcterms:created>
  <dc:creator>Statistical Research Division</dc:creator>
  <dc:description/>
  <dc:language>en-US</dc:language>
  <cp:lastModifiedBy>Rauss</cp:lastModifiedBy>
  <dcterms:modified xsi:type="dcterms:W3CDTF">2005-06-09T06:15:46Z</dcterms:modified>
  <cp:revision>31</cp:revision>
  <dc:subject/>
  <dc:title>Usability and Accessability Testing in Support of Internet Reporting</dc:title>
</cp:coreProperties>
</file>