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5DE-FD71-4244-AF44-F831D8B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5A7-1E49-49CF-AA70-B3BA5E4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357-E95A-4F14-A526-F625EB83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350-2C3A-4A17-A8D7-C4939076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9A73-9709-404E-8709-25E9A03A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1C9F-BE8E-473D-AD9B-00740448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E6D3-DE80-485C-957D-74A1ED85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3786-7069-44E9-AFFF-D91EE85D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4FA9-1B2B-4607-9167-88AC0F45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EAC7-3E3A-4F68-AAE5-808D576F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6AD-7E63-4070-84C0-ACF4B18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FF0-0EDC-4C22-95AA-9185BB5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0742-26E9-4B55-8878-71D0CAA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3F58-362E-4458-A51B-16465A3C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CD64-F0CC-4D3C-8C1A-87DEA878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9E63-18B7-46C8-AF82-EE4F95DE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25C1-D7ED-470E-A645-22E741DD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39D-580E-4A89-B2FD-325E3FA6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6A0-BB7D-4C57-80AC-158DAEE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139-D05F-4C37-9521-04070945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54D-99A8-41AF-8AA4-9DDF9665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13F-9276-4D57-BF70-828EFB6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E3C-2D8A-4339-A1D6-EF9A06C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F73-EEA9-49B7-88C1-EA33A19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CE3-87B0-4898-96FA-0B67737E48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B44-CE41-4E61-B9F3-45CFD67943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nadequate employment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16</a:t>
            </a:r>
            <a:r>
              <a:rPr b="0" lang="en-GB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ICLS (October 199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ituations in the workplace that reduce the capacities and well-being of workers as compared to an alternative employment situ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mployed persons who want to change their current work situation, or make changes to their work activities or environment for specific reas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cent work balance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5280" y="1600200"/>
          <a:ext cx="8569440" cy="5073480"/>
        </p:xfrm>
        <a:graphic>
          <a:graphicData uri="http://schemas.openxmlformats.org/drawingml/2006/table">
            <a:tbl>
              <a:tblPr/>
              <a:tblGrid>
                <a:gridCol w="3292560"/>
                <a:gridCol w="1098360"/>
                <a:gridCol w="1222560"/>
                <a:gridCol w="973080"/>
                <a:gridCol w="876240"/>
                <a:gridCol w="1106640"/>
              </a:tblGrid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bour fo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’0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’0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ver-emplo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hourly p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’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23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62-3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75-3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96-64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adequate 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ismatch of occupation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w p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cessive hours of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carious jo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adequate tools, equipment or trai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adequate social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ifficult travel to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convenient work sched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ecurring work stopp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longed non-payment of</a:t>
            </a:r>
            <a:r>
              <a:rPr b="0" lang="fr-CH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ages or long overdue payments from custom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leven indicators of decent 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w hourly p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2. Excessive hours of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3. Hazardous occup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4. Short expected job ten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5. Lack of representation at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6. Informal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7. Old-age without pen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8. Adult uninsured un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9. Youth un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0. Children not at sch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1. Employment of women (20-49 yrs old) with children under compulsory school 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137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ILO “Decent Work Friendly” Pilot LFS</a:t>
            </a:r>
            <a:br>
              <a:rPr sz="4000"/>
            </a:b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Philippines, Laguna Province, May 2004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ample size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932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op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(15 yrs +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’1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abour force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2’062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65.5 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ploye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’718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54.6 %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nemploye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344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6.7 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ployed seek or want change in work situ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678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39.5 %</a:t>
            </a: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98508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94880" y="1266120"/>
            <a:ext cx="7146360" cy="4814280"/>
            <a:chOff x="794880" y="1266120"/>
            <a:chExt cx="7146360" cy="4814280"/>
          </a:xfrm>
        </p:grpSpPr>
        <p:sp>
          <p:nvSpPr>
            <p:cNvPr id="167" name=""/>
            <p:cNvSpPr/>
            <p:nvPr/>
          </p:nvSpPr>
          <p:spPr>
            <a:xfrm>
              <a:off x="828720" y="1266120"/>
              <a:ext cx="7112520" cy="481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75360" y="2376360"/>
              <a:ext cx="5883120" cy="251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75360" y="456804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75360" y="426312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75360" y="394416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75360" y="363816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75360" y="331920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75360" y="300024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75360" y="269532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75360" y="237636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75360" y="2376360"/>
              <a:ext cx="5883120" cy="2510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5360" y="3944160"/>
              <a:ext cx="730800" cy="13680"/>
            </a:xfrm>
            <a:prstGeom prst="rect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75360" y="3958200"/>
              <a:ext cx="730800" cy="13680"/>
            </a:xfrm>
            <a:prstGeom prst="rect">
              <a:avLst/>
            </a:prstGeom>
            <a:solidFill>
              <a:srgbClr val="7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75360" y="3971880"/>
              <a:ext cx="730800" cy="13680"/>
            </a:xfrm>
            <a:prstGeom prst="rect">
              <a:avLst/>
            </a:pr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75360" y="3985560"/>
              <a:ext cx="730800" cy="1368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75360" y="3999600"/>
              <a:ext cx="730800" cy="13680"/>
            </a:xfrm>
            <a:prstGeom prst="rect">
              <a:avLst/>
            </a:prstGeom>
            <a:solidFill>
              <a:srgbClr val="8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5360" y="4013280"/>
              <a:ext cx="730800" cy="14040"/>
            </a:xfrm>
            <a:prstGeom prst="rect">
              <a:avLst/>
            </a:prstGeom>
            <a:solidFill>
              <a:srgbClr val="8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5360" y="4027320"/>
              <a:ext cx="730800" cy="13680"/>
            </a:xfrm>
            <a:prstGeom prst="rect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75360" y="4041360"/>
              <a:ext cx="730800" cy="13680"/>
            </a:xfrm>
            <a:prstGeom prst="rect">
              <a:avLst/>
            </a:pr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5360" y="4055040"/>
              <a:ext cx="730800" cy="13680"/>
            </a:xfrm>
            <a:prstGeom prst="rect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75360" y="4069080"/>
              <a:ext cx="730800" cy="13680"/>
            </a:xfrm>
            <a:prstGeom prst="rect">
              <a:avLst/>
            </a:prstGeom>
            <a:solidFill>
              <a:srgbClr val="9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5360" y="4082760"/>
              <a:ext cx="730800" cy="13680"/>
            </a:xfrm>
            <a:prstGeom prst="rect">
              <a:avLst/>
            </a:prstGeom>
            <a:solidFill>
              <a:srgbClr val="9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5360" y="4096440"/>
              <a:ext cx="730800" cy="13680"/>
            </a:xfrm>
            <a:prstGeom prst="rect">
              <a:avLst/>
            </a:pr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5360" y="4110480"/>
              <a:ext cx="730800" cy="14040"/>
            </a:xfrm>
            <a:prstGeom prst="rect">
              <a:avLst/>
            </a:pr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75360" y="4124520"/>
              <a:ext cx="730800" cy="13680"/>
            </a:xfrm>
            <a:prstGeom prst="rect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75360" y="4138200"/>
              <a:ext cx="730800" cy="13680"/>
            </a:xfrm>
            <a:prstGeom prst="rect">
              <a:avLst/>
            </a:prstGeom>
            <a:solidFill>
              <a:srgbClr val="b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5360" y="4152240"/>
              <a:ext cx="730800" cy="136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5360" y="4165920"/>
              <a:ext cx="730800" cy="13680"/>
            </a:xfrm>
            <a:prstGeom prst="rect">
              <a:avLst/>
            </a:prstGeom>
            <a:solidFill>
              <a:srgbClr val="c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5360" y="4179960"/>
              <a:ext cx="730800" cy="13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75360" y="4193640"/>
              <a:ext cx="730800" cy="13680"/>
            </a:xfrm>
            <a:prstGeom prst="rect">
              <a:avLst/>
            </a:prstGeom>
            <a:solidFill>
              <a:srgbClr val="d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75360" y="4207320"/>
              <a:ext cx="730800" cy="14040"/>
            </a:xfrm>
            <a:prstGeom prst="rect">
              <a:avLst/>
            </a:prstGeom>
            <a:solidFill>
              <a:srgbClr val="d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75360" y="4221360"/>
              <a:ext cx="730800" cy="1368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75360" y="4235400"/>
              <a:ext cx="730800" cy="13680"/>
            </a:xfrm>
            <a:prstGeom prst="rect">
              <a:avLst/>
            </a:pr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75360" y="4249080"/>
              <a:ext cx="730800" cy="13680"/>
            </a:xfrm>
            <a:prstGeom prst="rect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5360" y="4263120"/>
              <a:ext cx="730800" cy="1368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75360" y="4276800"/>
              <a:ext cx="730800" cy="13680"/>
            </a:xfrm>
            <a:prstGeom prst="rect">
              <a:avLst/>
            </a:prstGeom>
            <a:solidFill>
              <a:srgbClr val="e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75360" y="4290840"/>
              <a:ext cx="730800" cy="13680"/>
            </a:xfrm>
            <a:prstGeom prst="rect">
              <a:avLst/>
            </a:prstGeom>
            <a:solidFill>
              <a:srgbClr val="f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75360" y="4304520"/>
              <a:ext cx="730800" cy="14040"/>
            </a:xfrm>
            <a:prstGeom prst="rect">
              <a:avLst/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5360" y="4318560"/>
              <a:ext cx="730800" cy="13680"/>
            </a:xfrm>
            <a:prstGeom prst="rect">
              <a:avLst/>
            </a:pr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75360" y="4332600"/>
              <a:ext cx="730800" cy="13680"/>
            </a:xfrm>
            <a:prstGeom prst="rect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75360" y="4346280"/>
              <a:ext cx="730800" cy="13680"/>
            </a:xfrm>
            <a:prstGeom prst="rect">
              <a:avLst/>
            </a:prstGeom>
            <a:solidFill>
              <a:srgbClr val="f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75360" y="4359960"/>
              <a:ext cx="730800" cy="1368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5360" y="4374000"/>
              <a:ext cx="730800" cy="13680"/>
            </a:xfrm>
            <a:prstGeom prst="rect">
              <a:avLst/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75360" y="4387680"/>
              <a:ext cx="730800" cy="14040"/>
            </a:xfrm>
            <a:prstGeom prst="rect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75360" y="4401720"/>
              <a:ext cx="73080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5360" y="4429440"/>
              <a:ext cx="730800" cy="13680"/>
            </a:xfrm>
            <a:prstGeom prst="rect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5360" y="4443480"/>
              <a:ext cx="730800" cy="13680"/>
            </a:xfrm>
            <a:prstGeom prst="rect">
              <a:avLst/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75360" y="4457160"/>
              <a:ext cx="730800" cy="1368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75360" y="4470840"/>
              <a:ext cx="730800" cy="13680"/>
            </a:xfrm>
            <a:prstGeom prst="rect">
              <a:avLst/>
            </a:prstGeom>
            <a:solidFill>
              <a:srgbClr val="f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5360" y="4484880"/>
              <a:ext cx="730800" cy="14040"/>
            </a:xfrm>
            <a:prstGeom prst="rect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5360" y="4498920"/>
              <a:ext cx="730800" cy="13680"/>
            </a:xfrm>
            <a:prstGeom prst="rect">
              <a:avLst/>
            </a:pr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75360" y="4512600"/>
              <a:ext cx="730800" cy="13680"/>
            </a:xfrm>
            <a:prstGeom prst="rect">
              <a:avLst/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75360" y="4526640"/>
              <a:ext cx="730800" cy="13680"/>
            </a:xfrm>
            <a:prstGeom prst="rect">
              <a:avLst/>
            </a:prstGeom>
            <a:solidFill>
              <a:srgbClr val="f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75360" y="4540320"/>
              <a:ext cx="730800" cy="13680"/>
            </a:xfrm>
            <a:prstGeom prst="rect">
              <a:avLst/>
            </a:prstGeom>
            <a:solidFill>
              <a:srgbClr val="e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75360" y="4554360"/>
              <a:ext cx="730800" cy="1368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5360" y="4568040"/>
              <a:ext cx="730800" cy="13680"/>
            </a:xfrm>
            <a:prstGeom prst="rect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5360" y="4581720"/>
              <a:ext cx="730800" cy="14040"/>
            </a:xfrm>
            <a:prstGeom prst="rect">
              <a:avLst/>
            </a:pr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75360" y="4595760"/>
              <a:ext cx="730800" cy="1368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5360" y="4609800"/>
              <a:ext cx="730800" cy="13680"/>
            </a:xfrm>
            <a:prstGeom prst="rect">
              <a:avLst/>
            </a:prstGeom>
            <a:solidFill>
              <a:srgbClr val="d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75360" y="4623480"/>
              <a:ext cx="730800" cy="13680"/>
            </a:xfrm>
            <a:prstGeom prst="rect">
              <a:avLst/>
            </a:prstGeom>
            <a:solidFill>
              <a:srgbClr val="d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75360" y="4637520"/>
              <a:ext cx="730800" cy="13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5360" y="4651200"/>
              <a:ext cx="730800" cy="13680"/>
            </a:xfrm>
            <a:prstGeom prst="rect">
              <a:avLst/>
            </a:prstGeom>
            <a:solidFill>
              <a:srgbClr val="c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75360" y="4665240"/>
              <a:ext cx="730800" cy="136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75360" y="4678920"/>
              <a:ext cx="730800" cy="14040"/>
            </a:xfrm>
            <a:prstGeom prst="rect">
              <a:avLst/>
            </a:prstGeom>
            <a:solidFill>
              <a:srgbClr val="b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75360" y="4692960"/>
              <a:ext cx="730800" cy="13680"/>
            </a:xfrm>
            <a:prstGeom prst="rect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75360" y="4706640"/>
              <a:ext cx="730800" cy="13680"/>
            </a:xfrm>
            <a:prstGeom prst="rect">
              <a:avLst/>
            </a:pr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75360" y="4720680"/>
              <a:ext cx="730800" cy="13680"/>
            </a:xfrm>
            <a:prstGeom prst="rect">
              <a:avLst/>
            </a:pr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75360" y="4734360"/>
              <a:ext cx="730800" cy="13680"/>
            </a:xfrm>
            <a:prstGeom prst="rect">
              <a:avLst/>
            </a:prstGeom>
            <a:solidFill>
              <a:srgbClr val="9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75360" y="4748400"/>
              <a:ext cx="730800" cy="13680"/>
            </a:xfrm>
            <a:prstGeom prst="rect">
              <a:avLst/>
            </a:prstGeom>
            <a:solidFill>
              <a:srgbClr val="9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75360" y="4762080"/>
              <a:ext cx="730800" cy="13680"/>
            </a:xfrm>
            <a:prstGeom prst="rect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75360" y="4776120"/>
              <a:ext cx="730800" cy="14040"/>
            </a:xfrm>
            <a:prstGeom prst="rect">
              <a:avLst/>
            </a:pr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75360" y="4790160"/>
              <a:ext cx="730800" cy="13680"/>
            </a:xfrm>
            <a:prstGeom prst="rect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75360" y="4803840"/>
              <a:ext cx="730800" cy="13680"/>
            </a:xfrm>
            <a:prstGeom prst="rect">
              <a:avLst/>
            </a:prstGeom>
            <a:solidFill>
              <a:srgbClr val="8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75360" y="4817880"/>
              <a:ext cx="730800" cy="13680"/>
            </a:xfrm>
            <a:prstGeom prst="rect">
              <a:avLst/>
            </a:prstGeom>
            <a:solidFill>
              <a:srgbClr val="8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75360" y="4831560"/>
              <a:ext cx="730800" cy="13680"/>
            </a:xfrm>
            <a:prstGeom prst="rect">
              <a:avLst/>
            </a:prstGeom>
            <a:solidFill>
              <a:srgbClr val="7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5360" y="4845240"/>
              <a:ext cx="730800" cy="13680"/>
            </a:xfrm>
            <a:prstGeom prst="rect">
              <a:avLst/>
            </a:pr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75360" y="4859280"/>
              <a:ext cx="730800" cy="13680"/>
            </a:xfrm>
            <a:prstGeom prst="rect">
              <a:avLst/>
            </a:prstGeom>
            <a:solidFill>
              <a:srgbClr val="7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75360" y="4872960"/>
              <a:ext cx="730800" cy="14040"/>
            </a:xfrm>
            <a:prstGeom prst="rect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75360" y="3944160"/>
              <a:ext cx="730800" cy="94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06520" y="2639880"/>
              <a:ext cx="746280" cy="2247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3160" y="3360960"/>
              <a:ext cx="732240" cy="1526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85400" y="4359960"/>
              <a:ext cx="730800" cy="526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560" y="4415760"/>
              <a:ext cx="731880" cy="471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48440" y="4609800"/>
              <a:ext cx="746280" cy="27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5080" y="4720680"/>
              <a:ext cx="732240" cy="166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7320" y="4762080"/>
              <a:ext cx="730800" cy="12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5360" y="2376360"/>
              <a:ext cx="1080" cy="251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7040" y="488700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7040" y="456804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17040" y="426312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7040" y="394416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17040" y="363816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17040" y="331920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17040" y="300024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17040" y="269532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17040" y="2376360"/>
              <a:ext cx="58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75360" y="4887000"/>
              <a:ext cx="5883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575360" y="4886640"/>
              <a:ext cx="108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30652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053160" y="4886640"/>
              <a:ext cx="108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8540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51656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24844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995080" y="4886640"/>
              <a:ext cx="108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72732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458480" y="4886640"/>
              <a:ext cx="7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4880" y="1349280"/>
              <a:ext cx="593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able 2b  Hourly pay distribu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67040" y="1738440"/>
              <a:ext cx="474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ime-rated wage and salary workers in main job</a:t>
              </a:r>
              <a:r>
                <a:rPr b="1" lang="fr-CH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10760" y="477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10760" y="445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95200" y="4152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5200" y="3834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95200" y="35254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95200" y="3206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95200" y="2889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5200" y="25822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95200" y="22654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700000">
              <a:off x="2082600" y="5105880"/>
              <a:ext cx="23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&lt;1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700000">
              <a:off x="3020760" y="50598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-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700000">
              <a:off x="3767040" y="50616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-4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700000">
              <a:off x="4498920" y="50616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5-6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700000">
              <a:off x="5230440" y="50598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-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700000">
              <a:off x="6094800" y="50230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-15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700000">
              <a:off x="6975000" y="49831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-3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700000">
              <a:off x="7382160" y="5058000"/>
              <a:ext cx="31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+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1280" y="5748480"/>
              <a:ext cx="146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ourly pay in Pe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18560" y="208404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8720" y="1266120"/>
              <a:ext cx="7112520" cy="481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124000" y="1197000"/>
          <a:ext cx="475308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4753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2333520" y="3919320"/>
            <a:ext cx="1363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697200" y="2873160"/>
            <a:ext cx="13604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57640" y="2873520"/>
            <a:ext cx="13622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057640" y="1829880"/>
            <a:ext cx="136224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197000"/>
            <a:ext cx="1871640" cy="633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Con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(written-o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27664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Social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con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16360" y="3357720"/>
            <a:ext cx="155736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Paid sick 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4365720"/>
            <a:ext cx="1719360" cy="59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b76"/>
                </a:solidFill>
                <a:latin typeface="Verdana"/>
              </a:rPr>
              <a:t>Paid annual 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19880" y="1830240"/>
            <a:ext cx="136188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97200" y="3919680"/>
            <a:ext cx="13604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33520" y="4965840"/>
            <a:ext cx="136368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972720" y="4965840"/>
            <a:ext cx="136044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42120" y="2325600"/>
            <a:ext cx="1042920" cy="10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92840" y="3371760"/>
            <a:ext cx="1041480" cy="10461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57600" y="4417920"/>
            <a:ext cx="1036800" cy="10429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43160" y="5486400"/>
            <a:ext cx="1041480" cy="104616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3440" y="5460840"/>
            <a:ext cx="1039680" cy="10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189000"/>
            <a:ext cx="506268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Table 3e  Hierarchical pattern of employees’ social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6600"/>
                </a:solidFill>
                <a:latin typeface="Verdana"/>
              </a:rPr>
              <a:t>(Total number of employees = 99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5880" y="1689120"/>
            <a:ext cx="579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54640" y="2720880"/>
            <a:ext cx="60336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35520" y="3789360"/>
            <a:ext cx="62388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02160" y="4871880"/>
            <a:ext cx="631800" cy="5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4941720"/>
            <a:ext cx="647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0920" y="3860640"/>
            <a:ext cx="57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51320" y="2852640"/>
            <a:ext cx="5443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03640" y="177336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00"/>
                </a:solidFill>
                <a:latin typeface="Verdan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4280" y="5748480"/>
            <a:ext cx="7779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06600" y="5748480"/>
            <a:ext cx="779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70280" y="4703760"/>
            <a:ext cx="776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31080" y="3659040"/>
            <a:ext cx="779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1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2960" y="2612880"/>
            <a:ext cx="777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5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177336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292428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3933720"/>
            <a:ext cx="50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941720"/>
            <a:ext cx="504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7:34:58Z</dcterms:created>
  <dc:creator>STAT</dc:creator>
  <dc:description/>
  <dc:language>en-US</dc:language>
  <cp:lastModifiedBy>STAT</cp:lastModifiedBy>
  <dcterms:modified xsi:type="dcterms:W3CDTF">2005-05-10T19:14:56Z</dcterms:modified>
  <cp:revision>51</cp:revision>
  <dc:subject/>
  <dc:title>The employment problem in a country</dc:title>
</cp:coreProperties>
</file>