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A75-3A97-4CD1-9393-48399FAD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F1D-FD03-4620-A0EE-697A9BAB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D11-DB22-42A7-B4F1-B3834025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10E-D568-4402-B388-EB0AA841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0F29-BFFE-4074-B651-ED0664E6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ECA5-3A6F-4C64-88A2-3E74DF44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844F-C2A9-4953-960B-EF6D1BB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4A95-E743-4AFD-9DE0-93984E25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6E19-AEE1-4992-A096-714C83F8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0F8F-EDE8-419D-96F3-E36EFFC2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8EDC-BB2F-4C2F-BEB0-0372D76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FE0-EBFB-40CE-8A54-68388290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AE51-9EC5-4C24-ACBE-6C36ADF3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B0E0-D324-4AE0-A9C5-4E5B89C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039D-B68A-4355-89F8-038A556A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478F-3E5A-4608-BB1F-5857A679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FCAE-7325-4B8F-B452-A905E6F2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900-8D79-496B-A313-72811838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F13-D38E-4DE5-9865-2C69633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12D-ED51-4A8B-8903-3C55284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F04-AC33-4EE4-B246-45F8C572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30A-E2C8-4FE0-887C-1A644FC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6C2-62E4-4B4C-A2CD-842851B1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4FA-C7C1-4C59-9C02-54178DE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66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00cc"/>
                    </a:gs>
                    <a:gs pos="100000">
                      <a:srgbClr val="cc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F831-17E7-44BE-80E3-E59B16852C90}" type="slidenum">
              <a:rPr b="0" lang="ru-RU" sz="1400" spc="-1" strike="noStrike">
                <a:solidFill>
                  <a:srgbClr val="660033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ff006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B5A3-E767-45DF-8A9A-42992A6FDD0C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33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33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44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d60093"/>
                </a:solidFill>
                <a:latin typeface="Times New Roman"/>
              </a:rPr>
              <a:t>Национальные аспекты измерения достойного труда в Украине</a:t>
            </a:r>
            <a:br>
              <a:rPr sz="4800"/>
            </a:br>
            <a:endParaRPr b="0" lang="en-US" sz="48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240" y="380988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Impact"/>
              </a:rPr>
              <a:t>Григорович Надежда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Impact"/>
              </a:rPr>
              <a:t>Госкомстат Украины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60093"/>
                </a:solidFill>
                <a:latin typeface="Times New Roman"/>
              </a:rPr>
              <a:t>Причины неудовлетворенности работой</a:t>
            </a: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92360"/>
          <a:ext cx="7759440" cy="56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2360"/>
                    <a:ext cx="775944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Возможность сочетания трудовой </a:t>
            </a:r>
            <a:br>
              <a:rPr sz="2800"/>
            </a:b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деятельности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 семейной жизни</a:t>
            </a:r>
            <a:r>
              <a:rPr b="0" lang="uk-UA" sz="4400" spc="-1" strike="noStrike">
                <a:solidFill>
                  <a:srgbClr val="660033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1600200"/>
          <a:ext cx="8029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8029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ценка работниками условий труда</a:t>
            </a:r>
            <a:br>
              <a:rPr sz="2800"/>
            </a:b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197000"/>
          <a:ext cx="73152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97000"/>
                    <a:ext cx="73152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Средний размер почасового заработк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 зависимости от продолжительности рабочего времени</a:t>
            </a:r>
            <a:r>
              <a:rPr b="1" lang="ru-RU" sz="4400" spc="-1" strike="noStrike">
                <a:solidFill>
                  <a:srgbClr val="66003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057400"/>
          <a:ext cx="739152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7391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Отношение работников к профсоюзам</a:t>
            </a: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1523880"/>
          <a:ext cx="7772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772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Дополнительные показатели для национального мониторинга достойного труда</a:t>
            </a:r>
            <a:r>
              <a:rPr b="0" lang="uk-UA" sz="3200" spc="-1" strike="noStrike">
                <a:solidFill>
                  <a:srgbClr val="660033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57168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Коэффициент мобильности рабочей силы, % принятых и выбывших к общему числу занятых в течение года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ровень вынужденной неполной занятости работников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Соотношение среднемесячной заработной платы к: 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прожиточному минимуму; 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минимальной заработной плате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среднемесячному пособию по безработице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533520" algn="just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Удельный вес работников, которые не используют полученную специальность в своей работе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% социальных выплат и льгот в затратах работодателей на рабочую силу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Индекс реальной заработной</a:t>
            </a: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платы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Удельный вес работников, которым своевременно не выплачивалась заработная плата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Количество женщин, находящихся в отпуске по уходу за ребенком, с гарантией возвращения на прежнее место работы.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5335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ровень профессиональной заболеваемости (дней на 1000 работников)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дельный вес основной зарплаты в общем фонде оплаты труда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Показатели межквалификационной/ межотраслевой/ региональной дифференциации заработной платы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дельный вес самозанятых в общей численности занятых.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60093"/>
                </a:solidFill>
                <a:latin typeface="Impact"/>
              </a:rPr>
              <a:t>Спасибо за внимание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Thank you for your kind attention!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60093"/>
                </a:solidFill>
                <a:latin typeface="Times New Roman"/>
              </a:rPr>
              <a:t>Предпосылки для улучшения показателей</a:t>
            </a:r>
            <a:br>
              <a:rPr sz="2800"/>
            </a:br>
            <a:r>
              <a:rPr b="1" lang="uk-UA" sz="2800" spc="-1" strike="noStrike">
                <a:solidFill>
                  <a:srgbClr val="d60093"/>
                </a:solidFill>
                <a:latin typeface="Times New Roman"/>
              </a:rPr>
              <a:t> достойного труда в Украине :</a:t>
            </a:r>
            <a:br>
              <a:rPr sz="2800"/>
            </a:b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21337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работа должна быть содержательной и выполняться в условиях высокого уровня организации труда; 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участие работников в принятии управленческих решений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создание условий для профессионального роста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обеспечение безопасных условий труда</a:t>
            </a:r>
            <a:r>
              <a:rPr b="0" lang="uk-UA" sz="2200" spc="-1" strike="noStrike">
                <a:solidFill>
                  <a:srgbClr val="660033"/>
                </a:solidFill>
                <a:latin typeface="Impact"/>
              </a:rPr>
              <a:t>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адекватная оплата труда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гарантии стабильности и уверенности в сохранении занятости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возможности профессионального и карьерного роста.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456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6972120" cy="799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сточники статистической информации про рынок труда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205000"/>
            <a:ext cx="7056360" cy="571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Выборочные обследования населения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3429000"/>
            <a:ext cx="7086600" cy="571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Отчетность предприятий, учреждений, организаций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653000"/>
            <a:ext cx="7086600" cy="571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Отчетность Государственного центра занятости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00000" y="1052640"/>
            <a:ext cx="432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052640"/>
            <a:ext cx="0" cy="388908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941720"/>
            <a:ext cx="35892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716280"/>
            <a:ext cx="35892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2492280"/>
            <a:ext cx="43200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836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Impact"/>
              </a:rPr>
              <a:t>Предприятия, учреждения, организации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197000"/>
            <a:ext cx="3886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ыборочные обследования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197000"/>
            <a:ext cx="4229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ериодическая отчетность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276640"/>
            <a:ext cx="3886200" cy="38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олитика гибкости труда на промышленных предприятиях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Стоимость рабочей силы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Структура заработной платы работников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276640"/>
            <a:ext cx="4249800" cy="38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Численность работников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плата труда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абочее время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задолженность по заработной плате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забастовки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коллективные договора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условия труда и другие качественные характеристики рабочей силы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844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1844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907920"/>
            <a:ext cx="4572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907920"/>
            <a:ext cx="4572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26920" y="765000"/>
          <a:ext cx="7874280" cy="51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874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19280" y="1025640"/>
          <a:ext cx="828828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025640"/>
                    <a:ext cx="828828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9800" y="533520"/>
          <a:ext cx="819792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3520"/>
                    <a:ext cx="819792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60093"/>
                </a:solidFill>
                <a:latin typeface="Times New Roman"/>
              </a:rPr>
              <a:t>Уровень безработицы населения (по методологии </a:t>
            </a:r>
            <a:br>
              <a:rPr sz="2400"/>
            </a:br>
            <a:r>
              <a:rPr b="1" lang="uk-UA" sz="2400" spc="-1" strike="noStrike">
                <a:solidFill>
                  <a:srgbClr val="d60093"/>
                </a:solidFill>
                <a:latin typeface="Times New Roman"/>
              </a:rPr>
              <a:t>МОТ) в Украине и странах ЕС (9 мес. 2004 г.)</a:t>
            </a:r>
            <a:endParaRPr b="0" lang="en-US" sz="2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04840" y="1600200"/>
          <a:ext cx="7442280" cy="46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600200"/>
                    <a:ext cx="744228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60093"/>
                </a:solidFill>
                <a:latin typeface="Arial"/>
              </a:rPr>
              <a:t>Среднемесячная заработная плата в странах Центральной и Восточной Европы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uk-UA" sz="2400" spc="-1" strike="noStrike">
                <a:solidFill>
                  <a:srgbClr val="d60093"/>
                </a:solidFill>
                <a:latin typeface="Arial"/>
              </a:rPr>
              <a:t> 2003 г. (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$US)</a:t>
            </a:r>
            <a:endParaRPr b="0" lang="en-US" sz="2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716120"/>
          <a:ext cx="7658280" cy="39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16120"/>
                    <a:ext cx="765828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6:11:40Z</dcterms:created>
  <dc:creator>alf</dc:creator>
  <dc:description/>
  <dc:language>en-US</dc:language>
  <cp:lastModifiedBy>User</cp:lastModifiedBy>
  <cp:lastPrinted>2005-04-12T18:36:06Z</cp:lastPrinted>
  <dcterms:modified xsi:type="dcterms:W3CDTF">2005-05-10T09:36:32Z</dcterms:modified>
  <cp:revision>52</cp:revision>
  <dc:subject/>
  <dc:title>“Якби у Вас був вибір, щоб Ви обрали: працювати та заробляти стільки, щоб вистачало на пристойне життя, або мати джерело достойного прибутку і при цьому не працювати?”.</dc:title>
</cp:coreProperties>
</file>