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1FF-27E0-440C-8E1D-1DEB2829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D31-217B-4EDA-BD57-3B045A47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056-4E75-40D8-9AA7-081DD82B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542-BF45-4602-BFF5-9688EBD8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ADFB-50E9-4C9D-BBF8-4A170984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D304-3D46-43D9-84D2-B460CF0C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68FE-85B0-48FF-8A99-8FA6642F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D9AD-B63D-4FF3-AF48-BC9A36D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5E13-9CE6-4AAD-87D3-1572A327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733-44CC-49D1-B55E-657972B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69B0-11E3-4B88-AFCE-7E849951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E24-CFCE-43BD-B954-35C3B35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A81B-1670-4AD2-AADC-A690F7D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0E33-F7FB-43C4-9BC8-B214666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1C8E-CE2E-4B77-B7CC-F34EA4C5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55B8-52EE-4A79-A9CE-2314A4DE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A1FF-7BCC-4CF3-9791-964B3FCB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82B-0D25-4974-B7A6-28091E8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238-217E-4EED-A376-C08816C9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07E-D9BB-48C1-9C61-8D2072BD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7D7-5D21-42FF-BFC4-6B0F8FF1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5A0-F4BF-4E56-82D6-D50DD77C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585-246B-4990-8077-D7A2BBD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186-E454-4FD8-85CD-057C5B8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66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00cc"/>
                    </a:gs>
                    <a:gs pos="100000">
                      <a:srgbClr val="cc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F5F3-86D0-4103-B94F-88470C2443F3}" type="slidenum">
              <a:rPr b="0" lang="ru-RU" sz="1400" spc="-1" strike="noStrike">
                <a:solidFill>
                  <a:srgbClr val="660033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ff006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A587-1482-4D1B-8ED4-A7D63DDF8F1B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33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33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44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d60093"/>
                </a:solidFill>
                <a:latin typeface="Times New Roman"/>
              </a:rPr>
              <a:t>Национальные аспекты измерения достойного труда в Украине</a:t>
            </a:r>
            <a:br>
              <a:rPr sz="4800"/>
            </a:br>
            <a:endParaRPr b="0" lang="en-US" sz="48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240" y="380988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Impact"/>
              </a:rPr>
              <a:t>Григорович Надежда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Impact"/>
              </a:rPr>
              <a:t>Госкомстат Украины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60093"/>
                </a:solidFill>
                <a:latin typeface="Times New Roman"/>
              </a:rPr>
              <a:t>Причины неудовлетворенности работой</a:t>
            </a: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92360"/>
          <a:ext cx="7759440" cy="56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2360"/>
                    <a:ext cx="775944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Возможность сочетания трудовой </a:t>
            </a:r>
            <a:br>
              <a:rPr sz="2800"/>
            </a:b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деятельности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 семейной жизни</a:t>
            </a:r>
            <a:r>
              <a:rPr b="0" lang="uk-UA" sz="4400" spc="-1" strike="noStrike">
                <a:solidFill>
                  <a:srgbClr val="660033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1600200"/>
          <a:ext cx="8029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8029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ценка работниками условий труда</a:t>
            </a:r>
            <a:br>
              <a:rPr sz="2800"/>
            </a:b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197000"/>
          <a:ext cx="73152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97000"/>
                    <a:ext cx="73152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Средний размер почасового заработк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 зависимости от продолжительности рабочего времени</a:t>
            </a:r>
            <a:r>
              <a:rPr b="1" lang="ru-RU" sz="4400" spc="-1" strike="noStrike">
                <a:solidFill>
                  <a:srgbClr val="66003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057400"/>
          <a:ext cx="739152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7391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Times New Roman"/>
              </a:rPr>
              <a:t>Отношение работников к профсоюзам</a:t>
            </a: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1523880"/>
          <a:ext cx="7772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772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Дополнительные показатели для национального мониторинга достойного труда</a:t>
            </a:r>
            <a:r>
              <a:rPr b="0" lang="uk-UA" sz="3200" spc="-1" strike="noStrike">
                <a:solidFill>
                  <a:srgbClr val="660033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57168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Коэффициент мобильности рабочей силы, % принятых и выбывших к общему числу занятых в течение года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ровень вынужденной неполной занятости работников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Соотношение среднемесячной заработной платы к: 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прожиточному минимуму; 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минимальной заработной плате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5716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среднемесячному пособию по безработице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533520" algn="just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Удельный вес работников, которые не используют полученную специальность в своей работе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% социальных выплат и льгот в затратах работодателей на рабочую силу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Индекс реальной заработной</a:t>
            </a: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платы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Times New Roman"/>
              </a:rPr>
              <a:t>Удельный вес работников, которым своевременно не выплачивалась заработная плата;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Количество женщин, находящихся в отпуске по уходу за ребенком, с гарантией возвращения на прежнее место работы.</a:t>
            </a:r>
            <a:endParaRPr b="0" lang="en-US" sz="24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5335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ровень профессиональной заболеваемости (дней на 1000 работников)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дельный вес основной зарплаты в общем фонде оплаты труда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Показатели межквалификационной/ межотраслевой/ региональной дифференциации заработной платы;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33"/>
                </a:solidFill>
                <a:latin typeface="Times New Roman"/>
              </a:rPr>
              <a:t>Удельный вес самозанятых в общей численности занятых.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 lvl="2" marL="380880" indent="533520" algn="just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cover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60093"/>
                </a:solidFill>
                <a:latin typeface="Impact"/>
              </a:rPr>
              <a:t>Спасибо за внимание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Thank you for your kind attention!</a:t>
            </a:r>
            <a:endParaRPr b="0" lang="en-US" sz="4400" spc="-1" strike="noStrike">
              <a:solidFill>
                <a:srgbClr val="d60093"/>
              </a:solidFill>
              <a:latin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60093"/>
                </a:solidFill>
                <a:latin typeface="Times New Roman"/>
              </a:rPr>
              <a:t>Предпосылки для улучшения показателей</a:t>
            </a:r>
            <a:br>
              <a:rPr sz="2800"/>
            </a:br>
            <a:r>
              <a:rPr b="1" lang="uk-UA" sz="2800" spc="-1" strike="noStrike">
                <a:solidFill>
                  <a:srgbClr val="d60093"/>
                </a:solidFill>
                <a:latin typeface="Times New Roman"/>
              </a:rPr>
              <a:t> достойного труда в Украине :</a:t>
            </a:r>
            <a:br>
              <a:rPr sz="2800"/>
            </a:br>
            <a:endParaRPr b="0" lang="en-US" sz="2800" spc="-1" strike="noStrike">
              <a:solidFill>
                <a:srgbClr val="d60093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21337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работа должна быть содержательной и выполняться в условиях высокого уровня организации труда; 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участие работников в принятии управленческих решений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создание условий для профессионального роста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обеспечение безопасных условий труда</a:t>
            </a:r>
            <a:r>
              <a:rPr b="0" lang="uk-UA" sz="2200" spc="-1" strike="noStrike">
                <a:solidFill>
                  <a:srgbClr val="660033"/>
                </a:solidFill>
                <a:latin typeface="Impact"/>
              </a:rPr>
              <a:t>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адекватная оплата труда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гарантии стабильности и уверенности в сохранении занятости;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6600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660033"/>
                </a:solidFill>
                <a:latin typeface="Times New Roman"/>
              </a:rPr>
              <a:t>возможности профессионального и карьерного роста.</a:t>
            </a:r>
            <a:endParaRPr b="0" lang="en-US" sz="22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456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6972120" cy="799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сточники статистической информации про рынок труда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205000"/>
            <a:ext cx="7056360" cy="571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Выборочные обследования населения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3429000"/>
            <a:ext cx="7086600" cy="571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Отчетность предприятий, учреждений, организаций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653000"/>
            <a:ext cx="7086600" cy="571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Отчетность Государственного центра занятости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00000" y="1052640"/>
            <a:ext cx="432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052640"/>
            <a:ext cx="0" cy="388908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941720"/>
            <a:ext cx="35892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716280"/>
            <a:ext cx="35892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2492280"/>
            <a:ext cx="43200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836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Impact"/>
              </a:rPr>
              <a:t>Предприятия, учреждения, организации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197000"/>
            <a:ext cx="3886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ыборочные обследования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197000"/>
            <a:ext cx="4229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ериодическая отчетность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276640"/>
            <a:ext cx="3886200" cy="38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олитика гибкости труда на промышленных предприятиях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Стоимость рабочей силы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Структура заработной платы работников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276640"/>
            <a:ext cx="4249800" cy="38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Численность работников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плата труда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абочее время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задолженность по заработной плате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забастовки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коллективные договора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▪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условия труда и другие качественные характеристики рабочей силы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844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1844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907920"/>
            <a:ext cx="4572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907920"/>
            <a:ext cx="4572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26920" y="765000"/>
          <a:ext cx="7874280" cy="51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874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19280" y="1025640"/>
          <a:ext cx="828828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025640"/>
                    <a:ext cx="828828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9800" y="533520"/>
          <a:ext cx="819792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3520"/>
                    <a:ext cx="819792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60093"/>
                </a:solidFill>
                <a:latin typeface="Times New Roman"/>
              </a:rPr>
              <a:t>Уровень безработицы населения (по методологии </a:t>
            </a:r>
            <a:br>
              <a:rPr sz="2400"/>
            </a:br>
            <a:r>
              <a:rPr b="1" lang="uk-UA" sz="2400" spc="-1" strike="noStrike">
                <a:solidFill>
                  <a:srgbClr val="d60093"/>
                </a:solidFill>
                <a:latin typeface="Times New Roman"/>
              </a:rPr>
              <a:t>МОТ) в Украине и странах ЕС (9 мес. 2004 г.)</a:t>
            </a:r>
            <a:endParaRPr b="0" lang="en-US" sz="2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04840" y="1600200"/>
          <a:ext cx="7442280" cy="46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600200"/>
                    <a:ext cx="744228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60093"/>
                </a:solidFill>
                <a:latin typeface="Arial"/>
              </a:rPr>
              <a:t>Среднемесячная заработная плата в странах Центральной и Восточной Европы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uk-UA" sz="2400" spc="-1" strike="noStrike">
                <a:solidFill>
                  <a:srgbClr val="d60093"/>
                </a:solidFill>
                <a:latin typeface="Arial"/>
              </a:rPr>
              <a:t> 2003 г. (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$US)</a:t>
            </a:r>
            <a:endParaRPr b="0" lang="en-US" sz="2400" spc="-1" strike="noStrike">
              <a:solidFill>
                <a:srgbClr val="d60093"/>
              </a:solidFill>
              <a:latin typeface="Impac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716120"/>
          <a:ext cx="7658280" cy="39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16120"/>
                    <a:ext cx="765828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6:11:40Z</dcterms:created>
  <dc:creator>alf</dc:creator>
  <dc:description/>
  <dc:language>en-US</dc:language>
  <cp:lastModifiedBy>User</cp:lastModifiedBy>
  <cp:lastPrinted>2005-04-12T18:36:06Z</cp:lastPrinted>
  <dcterms:modified xsi:type="dcterms:W3CDTF">2005-05-10T09:36:32Z</dcterms:modified>
  <cp:revision>52</cp:revision>
  <dc:subject/>
  <dc:title>“Якби у Вас був вибір, щоб Ви обрали: працювати та заробляти стільки, щоб вистачало на пристойне життя, або мати джерело достойного прибутку і при цьому не працювати?”.</dc:title>
</cp:coreProperties>
</file>