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609840" cy="465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838080"/>
            <a:ext cx="9144000" cy="15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324000" y="404640"/>
          <a:ext cx="8567640" cy="609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85676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640640" y="228600"/>
            <a:ext cx="119844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6760" y="6414480"/>
            <a:ext cx="704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E/ILO/Eurostat seminar on measurement of the quality of work (11-13 May 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15238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U Labour Force Survey and indicators of quality in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improvements plan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of the explanatory notes, new manual for the EU-L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he coverage of the income variable; ultimately covering all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evelop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hoc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nts – foreign bor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hours 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the improved EU-LFS may contribute to better quality-in-work indic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Intrinsic job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context indicator: Job satisfaction not measured in the EU-SI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d persons looking for another job and reasons for doing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 of atypical working times for personal life situation in the ad hoc module on work organisation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kills, life-long learning and career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re module since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of training field and job specialis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of level and field of completed education and job skill and specialisation require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of certain key training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Gender e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re modul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y responsibilities; gender a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etter coverage of in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outcomes by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 segregation indices may need furthe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Health and safety at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No index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d hoc module on accidents at work and work related deceas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Flexibility and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Use of part-time and involuntary part-time unsatis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Since 2005 possible to use in ALL Member States the ILO definition from 1998 of “time-related underemploy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Work organisation and work-life ba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New cor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Need for care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lso changes to existi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enabling measurement of care for children and incapacitated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See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d hoc modules on working times 2001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d hoc module in 2005 on reconciliation of family and working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Diversity and non-discri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Ad hoc module 2008 on labour situation of migrants and their descend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mprovement of the coverage of the foreign born population in the core EU-L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Note 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d hoc module in 2002 on the employment of disabled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n work as understood by the Europe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EU-LFS affecting the quality-in-work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how the improved EU-LFS may contribute to better quality-in-work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verall work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mprovements in methodology and imputation of annual hours 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The EU-LFS is the major source for measuring quality in work within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Recent developments and improvements of the EU-LFS enable still better and more precise quality-in-work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This presentation suggests some avenues of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uality in work as understood by the European Commi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dimensions of quality in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insic job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, life-long learning and care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and safety 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on and access to the labou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rganisation and work-lif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dialogue and work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and non-discr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wor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statistical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istical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all dimensions but No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8 key indicators, one for each dimension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context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-LFS the sourc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ke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context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nges in the EU-LFS affecting the quality-in-work indi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 of the EU-L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new variables and changes to exis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 and training 2003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Participation in formal education vs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Field of this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s the course job related or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s the course participation during paid working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Field of attaine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revision 2006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New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Supervisory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Need for care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+ four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Oth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Better measurements of family responsibilities, incl. Care for children and incapacitated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Income variables from 5 to 1; restricted to main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1:53Z</dcterms:created>
  <dc:creator>Omar S Hardarson</dc:creator>
  <dc:description/>
  <dc:language>en-US</dc:language>
  <cp:lastModifiedBy>Omar S Hardarson</cp:lastModifiedBy>
  <cp:lastPrinted>2002-11-11T13:55:00Z</cp:lastPrinted>
  <dcterms:modified xsi:type="dcterms:W3CDTF">2005-05-10T14:47:59Z</dcterms:modified>
  <cp:revision>12</cp:revision>
  <dc:subject/>
  <dc:title>The EU Labour Force Survey and indicators of quality in work</dc:title>
</cp:coreProperties>
</file>