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99F-5171-4F34-8267-507F243F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853-1BAA-4296-A446-F9F820E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B9D-5094-44F8-BFA7-8A918338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EC2-568F-4D7C-8202-03883584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B3E-4E54-403A-BEAE-B4729D5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7A0-2BF0-4869-A091-C83F3BE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64A-B727-4A43-B135-ADF94D5B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8FB-9F6C-406A-B152-A3DD058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8BD-D651-40A4-80CC-92FE8BF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62D-168D-4226-997A-A43252C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AFB-D60D-4E9A-A18C-6EBDFAC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277-3F5A-4D57-8BE9-B855625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D179-5C67-4D9D-B714-3D49F0C3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ent Work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Moldova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2492280"/>
            <a:ext cx="2744640" cy="161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4724280"/>
            <a:ext cx="36212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NA VUTCARIO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ad of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for Labour Force Statistics and Sample Surveys</a:t>
            </a:r>
            <a:br>
              <a:rPr sz="1200"/>
            </a:br>
            <a:br>
              <a:rPr sz="12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NA BASARAB</a:t>
            </a:r>
            <a:br>
              <a:rPr sz="14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puty head of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for Labour Force Statistics and Sample Survey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549360"/>
          <a:ext cx="7920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620640"/>
          <a:ext cx="7777080" cy="4680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476280"/>
          <a:ext cx="7848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48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55640" y="4581360"/>
          <a:ext cx="7632360" cy="1519560"/>
        </p:xfrm>
        <a:graphic>
          <a:graphicData uri="http://schemas.openxmlformats.org/drawingml/2006/table">
            <a:tbl>
              <a:tblPr/>
              <a:tblGrid>
                <a:gridCol w="732960"/>
                <a:gridCol w="3084120"/>
                <a:gridCol w="879840"/>
                <a:gridCol w="293544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al, banking and insurance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ion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estate and other services mainly for enterpris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s and restaurant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 and social assistanc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 and stora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+O+P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5640" y="549360"/>
          <a:ext cx="7704000" cy="54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0400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549360"/>
          <a:ext cx="777708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7708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692280"/>
          <a:ext cx="763272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632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549360"/>
          <a:ext cx="763272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632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620640"/>
          <a:ext cx="7920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7920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549360"/>
          <a:ext cx="792000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549360"/>
          <a:ext cx="748800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74880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692280"/>
          <a:ext cx="8280360" cy="584172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                          Employ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                                        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ur for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articipation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                                           Employment-population rat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                                            Un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                                            Youth un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                                            Share of wage employment in non-agricultural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cceptabl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                                           Children in wage employment or self-employment activ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                                            Children not in school by employm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quate earnings and productiv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                                             Inadequate pa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                                             Average earnings in selected occup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                                            Employees with recent job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ent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                                            Excessive hours of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                                            Time-related underemployment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bility and security of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                                            Tenure less then one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                                            Temporary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lancing work and family li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                                             Employment rate for women with children under compulsory 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V="1">
            <a:off x="900000" y="72036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720" y="18828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indicators of dec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907920"/>
          <a:ext cx="741996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74199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549360"/>
          <a:ext cx="770400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704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49360"/>
          <a:ext cx="792000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549360"/>
          <a:ext cx="7920000" cy="52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549360"/>
          <a:ext cx="792000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55640" y="4005360"/>
          <a:ext cx="7488360" cy="2054160"/>
        </p:xfrm>
        <a:graphic>
          <a:graphicData uri="http://schemas.openxmlformats.org/drawingml/2006/table">
            <a:tbl>
              <a:tblPr/>
              <a:tblGrid>
                <a:gridCol w="719280"/>
                <a:gridCol w="3025800"/>
                <a:gridCol w="574560"/>
                <a:gridCol w="316872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ultur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al, banking and insurance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estry, fishery and hunting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estate and other services mainly for enterpris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administr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ion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 and social assistanc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s and restaurant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-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activitie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 and stora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6120" y="546120"/>
          <a:ext cx="7942320" cy="43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46120"/>
                    <a:ext cx="794232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907920"/>
          <a:ext cx="71280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71280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00000" y="789120"/>
          <a:ext cx="7559640" cy="50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789120"/>
                    <a:ext cx="7559640" cy="50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549360"/>
          <a:ext cx="755964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55964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549360"/>
          <a:ext cx="792000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109440"/>
          <a:ext cx="8280360" cy="656748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r treatment in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                                                  Occupational segregation by s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                                                  Female share of employment in managerial and administrative occup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II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                                                   Fatal injur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                                                 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ur insp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                                                   Occupational injury insurance co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X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prot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                                                    Public social security expend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                                                     Public expenditure on needs-based cash incom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                                                     Beneficiaries of cash incom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                                                    Share of population over 65 year benefiting from a p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                                                    Share of economically active population contributing to a pension f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                                                    Average monthly p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 dialogue and workplace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                                                     Union dens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                                                    Collective wage bargaining coverage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                                                    Strikes and lock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nomic and social context of decent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                                                     Informal economy emplo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 per employed 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wth of output per employed 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ucation of adult po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sition of employment by economic s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 ine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v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900000" y="117360"/>
            <a:ext cx="0" cy="65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547560"/>
            <a:ext cx="7993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547560"/>
          <a:ext cx="792144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7560"/>
                    <a:ext cx="79214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549360"/>
          <a:ext cx="7920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549360"/>
          <a:ext cx="799308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93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549360"/>
          <a:ext cx="792144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9214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620640"/>
          <a:ext cx="7777080" cy="5472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4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549360"/>
          <a:ext cx="792000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9200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0:05:41Z</dcterms:created>
  <dc:creator>Oleg Verdeş</dc:creator>
  <dc:description/>
  <dc:language>en-US</dc:language>
  <cp:lastModifiedBy>Utilizator</cp:lastModifiedBy>
  <dcterms:modified xsi:type="dcterms:W3CDTF">2005-05-03T08:38:37Z</dcterms:modified>
  <cp:revision>13</cp:revision>
  <dc:subject/>
  <dc:title>Слайд 1</dc:title>
</cp:coreProperties>
</file>