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DF9-43AF-45EB-8448-4B777FB7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4DF-BD48-48D6-B312-978F63F3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767-463B-4537-8504-49C17250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3BA-9F30-4975-A0BE-1F5ECB46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B9A-A49A-4714-BA7D-B796176E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E8D-31A0-4A47-9100-D5EFDA5C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881-1F6A-42C7-A8CA-BDBEE8AC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DFF-82BA-47DA-A1B3-1BF2D7D9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F9E-08D5-4757-B891-7C120517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D14-0394-4B69-A822-B310B60B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005E-D1EE-4AA1-87E7-BB800CEB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742-38D6-414C-A16E-9AE69BC2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69F3-7B55-4FE3-A9D6-9ED936576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cent Work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Moldova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al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76720" y="2492280"/>
            <a:ext cx="2744640" cy="1614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92720" y="4724280"/>
            <a:ext cx="36212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LENA VUTCARIO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ad of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 for Labour Force Statistics and Sample Surveys</a:t>
            </a:r>
            <a:br>
              <a:rPr sz="1200"/>
            </a:br>
            <a:br>
              <a:rPr sz="1200"/>
            </a:b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LENA BASARAB</a:t>
            </a:r>
            <a:br>
              <a:rPr sz="14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Deputy head of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 for Labour Force Statistics and Sample Surveys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549360"/>
          <a:ext cx="7920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1280" y="620640"/>
          <a:ext cx="7777080" cy="4680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68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1280" y="476280"/>
          <a:ext cx="784836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84836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55640" y="4581360"/>
          <a:ext cx="7632360" cy="1519560"/>
        </p:xfrm>
        <a:graphic>
          <a:graphicData uri="http://schemas.openxmlformats.org/drawingml/2006/table">
            <a:tbl>
              <a:tblPr/>
              <a:tblGrid>
                <a:gridCol w="732960"/>
                <a:gridCol w="3084120"/>
                <a:gridCol w="879840"/>
                <a:gridCol w="2935440"/>
              </a:tblGrid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-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stry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ial, banking and insurance activitie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ion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estate and other services mainly for enterprise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d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s and restaurant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 and social assistanc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port and storag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+O+P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activitie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55640" y="549360"/>
          <a:ext cx="7704000" cy="541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770400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549360"/>
          <a:ext cx="7777080" cy="53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7777080" cy="53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6920" y="692280"/>
          <a:ext cx="7632720" cy="54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92280"/>
                    <a:ext cx="763272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549360"/>
          <a:ext cx="7632720" cy="54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549360"/>
                    <a:ext cx="763272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9640" y="620640"/>
          <a:ext cx="7920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7920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9640" y="549360"/>
          <a:ext cx="792000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1640" y="549360"/>
          <a:ext cx="748800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49360"/>
                    <a:ext cx="748800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20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95280" y="692280"/>
          <a:ext cx="8280360" cy="584172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                           Employment 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                                          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bour forc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articipation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                                            Employment-population rat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                                            Unemployment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                                            Youth unemployment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                                            Share of wage employment in non-agricultural employ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acceptable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                                            Children in wage employment or self-employment activit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                                            Children not in school by employment 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equate earnings and productive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                                             Inadequate pa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                                             Average earnings in selected occup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                                            Employees with recent job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V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cent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                                            Excessive hours of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                                            Time-related underemployment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bility and security of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                                             Tenure less then one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                                             Temporary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lancing work and family li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                                             Employment rate for women with children under compulsory 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V="1">
            <a:off x="900000" y="720360"/>
            <a:ext cx="0" cy="57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720" y="18828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al indicators of decen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42920" y="907920"/>
          <a:ext cx="741996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07920"/>
                    <a:ext cx="74199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55640" y="549360"/>
          <a:ext cx="7704000" cy="54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770400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549360"/>
          <a:ext cx="792000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9640" y="549360"/>
          <a:ext cx="7920000" cy="52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549360"/>
          <a:ext cx="7920000" cy="34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755640" y="4005360"/>
          <a:ext cx="7488360" cy="2054160"/>
        </p:xfrm>
        <a:graphic>
          <a:graphicData uri="http://schemas.openxmlformats.org/drawingml/2006/table">
            <a:tbl>
              <a:tblPr/>
              <a:tblGrid>
                <a:gridCol w="719280"/>
                <a:gridCol w="3025800"/>
                <a:gridCol w="574560"/>
                <a:gridCol w="3168720"/>
              </a:tblGrid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icultur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ial, banking and insurance activitie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estry, fishery and hunting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estate and other services mainly for enterprise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-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stry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administratio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ion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d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 and social assistanc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s and restaurant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-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activitie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port and storag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46120" y="546120"/>
          <a:ext cx="7942320" cy="43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546120"/>
                    <a:ext cx="7942320" cy="43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26920" y="907920"/>
          <a:ext cx="712800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07920"/>
                    <a:ext cx="71280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00000" y="789120"/>
          <a:ext cx="7559640" cy="50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789120"/>
                    <a:ext cx="7559640" cy="50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00000" y="549360"/>
          <a:ext cx="755964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49360"/>
                    <a:ext cx="755964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9640" y="549360"/>
          <a:ext cx="792000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68360" y="109440"/>
          <a:ext cx="8280360" cy="656748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I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r treatment in employ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                                                   Occupational segregation by s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                                                   Female share of employment in managerial and administrative occup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II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                                                    Fatal injur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                                                  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bour inspec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                                                   Occupational injury insurance co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X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al prot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                                                     Public social security expend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                                                     Public expenditure on needs-based cash income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                                                     Beneficiaries of cash income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                                                     Share of population over 65 year benefiting from a pen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                                                    Share of economically active population contributing to a pension fu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                                                     Average monthly pen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al dialogue and workplace rel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                                                     Union densit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                                                     Collective wage bargaining coverage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                                                     Strikes and locko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I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onomic and social context of decent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                                                      Informal economy employ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put per employed p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wth of output per employed p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ducation of adult po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osition of employment by economic se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 ine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ver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900000" y="117360"/>
            <a:ext cx="0" cy="65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547560"/>
            <a:ext cx="79930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547560"/>
          <a:ext cx="7921440" cy="554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7560"/>
                    <a:ext cx="792144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9640" y="549360"/>
          <a:ext cx="7920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549360"/>
          <a:ext cx="799308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930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11280" y="549360"/>
          <a:ext cx="792144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9360"/>
                    <a:ext cx="792144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549360"/>
          <a:ext cx="792000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10:05:41Z</dcterms:created>
  <dc:creator>Oleg Verdeş</dc:creator>
  <dc:description/>
  <dc:language>en-US</dc:language>
  <cp:lastModifiedBy>Utilizator</cp:lastModifiedBy>
  <dcterms:modified xsi:type="dcterms:W3CDTF">2005-05-03T08:38:37Z</dcterms:modified>
  <cp:revision>13</cp:revision>
  <dc:subject/>
  <dc:title>Слайд 1</dc:title>
</cp:coreProperties>
</file>