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CDC-0C65-4F20-A49F-51E7AA47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CEA-7BE8-4B2A-B54E-3B4320F1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DC1-0F61-47F6-B0EB-D87CC9CF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249-C8FD-483E-A1AA-7D4CB2C3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ECE3-77C2-494A-91EC-943982E9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F26-463A-427C-BA97-9441442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9FA-20C0-4750-97F0-A58D79D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DFF3-EBBF-4A32-B060-69A060F8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E996-ED77-4984-A2D3-B55C1443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C34F-15A3-410D-B600-54C15B1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732-CAAA-45B0-8352-C641579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BA6-00DA-47FC-AAB1-633987B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CB1-D29D-4BF4-A464-15FB0C2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B662-2182-42CF-8E29-BC9408A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1462-1069-444D-BF99-44F3E86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B2D-CB49-4535-B31C-ECAACDCD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7A2-6E65-4FD6-9BC9-7D2910A2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64F-D05E-40DB-ACF6-689395D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34C-D8D4-4A19-A216-32370C0D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8E0-1D55-497D-B40B-1C16A9C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46-03C1-4BE5-B933-444BE91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6E3-A10A-47C7-A626-91470009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476-2E87-44FC-9090-CD6DC5C6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288-1A08-4F6E-8993-49F3A9F4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0F0-71BD-4D57-95C2-4BEA7C59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F6E-E997-47D1-A09C-D100F5232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2492280"/>
            <a:ext cx="6858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Work and Quality in Work Statistical Indicators:  Prospects for conver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3440" y="5589720"/>
            <a:ext cx="210924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33cc"/>
                </a:solidFill>
                <a:latin typeface="Arial"/>
              </a:rPr>
              <a:t>Geneva, May 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4581360"/>
            <a:ext cx="279504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Igor Chernys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28195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71160" y="787320"/>
            <a:ext cx="48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tatistical Development and Analysis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olicy Integration Departmen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15960" y="38088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000" spc="-1" strike="noStrike">
                <a:solidFill>
                  <a:srgbClr val="000000"/>
                </a:solidFill>
                <a:latin typeface="Kudriashov"/>
              </a:rPr>
              <a:t>International  Labour Office (I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h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Percentage of employees with excessive hours of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600" spc="-1" strike="noStrike">
                <a:solidFill>
                  <a:srgbClr val="0033cc"/>
                </a:solidFill>
                <a:latin typeface="Arial"/>
              </a:rPr>
              <a:t>Time-related underemploy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526-4D48-4805-9F69-EA0E766AAE78}" type="slidenum">
              <a:t>10</a:t>
            </a:fld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tability and security of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d persons with job tenure of less than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es with temporary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ption of future job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Flexibility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employees working part-time and those with fixed-term contr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B93-BE34-4920-9F77-225627CAEB28}" type="slidenum">
              <a:t>11</a:t>
            </a:fld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Balancing work and family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the employment rate for women with children under compulsory school age to the employmnet rate of all women aged 20-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Work organisation and work-life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Absolute difference in employment rates without presence of any children with the presence of a child aged 0-6, by s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C06-693E-4B51-A13F-C8A61A37BA49}" type="slidenum">
              <a:t>12</a:t>
            </a:fld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Fair treatment in emplo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Occupational segregation on the basis of g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the female share of employment in managerial and administrative occupations to the female share of non-agricultural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Gender e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Ratio of women’s hourly earnings index to men’s for paid employees at work 15+ h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D54-C7A1-4A54-8832-D971F6876AAF}" type="slidenum">
              <a:t>13</a:t>
            </a:fld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af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Fatal injury rate per 100,000 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Labour inspection (inspectors per 100,000 employ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Occupational injury insurance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Health and safety a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Evolution of the incident rate (number of accidents at work per 100,000 persons in employmen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81D-BDA3-4E57-BE12-E38FD068CEB3}" type="slidenum">
              <a:t>14</a:t>
            </a:fld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cc6600"/>
                </a:solidFill>
                <a:latin typeface="Arial"/>
              </a:rPr>
              <a:t>Social prot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ublic social security expendi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ublic expenditure on needs-based cash income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Share of population over 65 benefiting from 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Share of the EAP contributing to pension f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Average monthly pension expressed as a percentage of median/minimum earning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40C-425F-4324-A9FB-6EE9512750CB}" type="slidenum">
              <a:t>15</a:t>
            </a:fld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ocial dialogue and workplace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Union density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Collective wage bargaining coverage r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Strikes and lockouts per 1,000 employ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ocial dialogue and work invol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No agreed indicator so f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C67-C47E-443E-AD5C-440E2E769569}" type="slidenum">
              <a:t>16</a:t>
            </a:fld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Social and economic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come inequa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Pov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Education of adult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come per employed person (PP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Growth of output per employed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Informal economy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Overal work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Growth in labour productivity, measured as change in the levels of GDP per capita of the employed population per hour worked (in perc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F9B-8441-4FA7-9092-D17C92E1A644}" type="slidenum">
              <a:t>17</a:t>
            </a:fld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Decent work measuring tool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0256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Labour Forces Survey (LFS) based Modular Decent Work Surve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Regular LF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Regular statistical repor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33cc"/>
                </a:solidFill>
                <a:latin typeface="Tahoma"/>
              </a:rPr>
              <a:t>Adminstrative recor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</a:t>
            </a:r>
            <a:r>
              <a:rPr b="0" lang="fr-CH" sz="3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What about Qualty in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11D-E367-434C-BED9-10369FC807CE}" type="slidenum">
              <a:t>18</a:t>
            </a:fld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ILO DW – EU QW data base: Utopia or reality?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Create a special regional database organised in a standardised format according to the ILO decent work and EUROSTAT quality in work dimensions with the core ILO decent work and EUROSTAT quality in work indicators – 50 countries in to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The data will be regularly updated and analysed in a summary publications, allowing easy reading and dissemin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The database will be linked with relevant databases of EUROSTAT, national statistical offices of non-EU member countries and ILO Gene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Furthermore, the above database will be linked to the ILO Panorama Laboral (Latin America), as well as South-East Asia and the Arab State data 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4D4-FB86-4035-AE35-9C58A7ED6429}" type="slidenum">
              <a:t>19</a:t>
            </a:fld>
          </a:p>
        </p:txBody>
      </p:sp>
    </p:spTree>
  </p:cSld>
  <p:transition spd="med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Decent Work:  ILO organising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Opportunities for women and men to obtain decent and produ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ork, in conditions of freedom, equity, security and human dignity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Arial"/>
              </a:rPr>
              <a:t>Juan Somavia, ILO Director General, 87th ILC Report,19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0560" y="378936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cc6600"/>
                </a:solidFill>
                <a:latin typeface="Arial"/>
              </a:rPr>
              <a:t>Quiality in Work:  Guiding principle of EU Social Policy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Central issue in employment and social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One of the three overarching objectives in the Employment Guidelines 2003-2005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700-936A-4489-943D-D6795111816D}" type="slidenum">
              <a:t>2</a:t>
            </a:fld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Reducing decent work deficits globally</a:t>
            </a:r>
            <a:br>
              <a:rPr sz="3200"/>
            </a:br>
            <a:r>
              <a:rPr b="1" lang="fr-CH" sz="3200" spc="-1" strike="noStrike">
                <a:solidFill>
                  <a:srgbClr val="cc6600"/>
                </a:solidFill>
                <a:latin typeface="Arial"/>
              </a:rPr>
              <a:t>Enhancing quality in work performance</a:t>
            </a:r>
            <a:r>
              <a:rPr b="1" i="1" lang="fr-CH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71500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EA4-06EB-4CAA-8185-5826B8188E3E}" type="slidenum">
              <a:t>20</a:t>
            </a:fld>
          </a:p>
        </p:txBody>
      </p:sp>
    </p:spTree>
  </p:cSld>
  <p:transition spd="med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142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Need for specific decent work/quality in work statistical indicators for EU,  ILO and member States</a:t>
            </a:r>
            <a:endParaRPr b="0" i="1" lang="en-US" sz="3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025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Objectively measure extent and pattern of decent work /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Objectively monitor and evaluate progress on decent work/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</a:rPr>
              <a:t>Communicate with constituents/member States and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153280" y="304920"/>
          <a:ext cx="3812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30492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28A-8050-48C6-94E6-365924CCE158}" type="slidenum">
              <a:t>3</a:t>
            </a:fld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33cc"/>
                </a:solidFill>
                <a:latin typeface="Arial"/>
              </a:rPr>
              <a:t>Decent Work and Quality in Work Paradigm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0920" y="2205000"/>
            <a:ext cx="3809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Decen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pportunities for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Equity in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Security at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Productive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Dignity at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Freedom of choice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00360" y="2133720"/>
            <a:ext cx="380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Quality in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Ensuring career and employment secur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Maintaining and promoting health and well-being of work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Developing skills and compet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33cc"/>
                </a:solidFill>
                <a:latin typeface="Arial"/>
              </a:rPr>
              <a:t>Reconciling working and non-working lif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4D5-8012-47DC-86AB-FBBF9C50489A}" type="slidenum">
              <a:t>4</a:t>
            </a:fld>
          </a:p>
        </p:txBody>
      </p:sp>
    </p:spTree>
  </p:cSld>
  <p:transition spd="med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cc6600"/>
                </a:solidFill>
                <a:latin typeface="Arial"/>
              </a:rPr>
              <a:t>Four global pillars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Decent Work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+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Quality in 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33cc"/>
                </a:solidFill>
                <a:latin typeface="Tahoma"/>
              </a:rPr>
              <a:t>= Employment, social protection, social dialogue and rights at work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B3A-3F56-4218-8CE8-659B45197030}" type="slidenum">
              <a:t>5</a:t>
            </a:fld>
          </a:p>
        </p:txBody>
      </p:sp>
    </p:spTree>
  </p:cSld>
  <p:transition spd="med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246240" y="930240"/>
          <a:ext cx="8718480" cy="5614920"/>
        </p:xfrm>
        <a:graphic>
          <a:graphicData uri="http://schemas.openxmlformats.org/drawingml/2006/table">
            <a:tbl>
              <a:tblPr/>
              <a:tblGrid>
                <a:gridCol w="4251240"/>
                <a:gridCol w="44672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nt Work Dimen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Quality in Work Dimensions</a:t>
                      </a:r>
                      <a:r>
                        <a:rPr b="1" lang="fr-CH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Employment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Intricit job quality    2.  Inclusio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the labour market    3.  Divers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non-discri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Unacceptable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dequate earninigs and productive work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Skills, lifelong training and career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nt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Stability and security o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Flexibility and securit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Balancing work and familiy l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Work organisation and work-life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Fair treatment in emplo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Gender e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Safe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Health and safety a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Social pro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itly includ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Social dialogue and workplace rela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Social dialogue and worker invol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+ Social and economic con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Overal work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906-7FF4-4844-93F7-38EFB483F420}" type="slidenum">
              <a:t>6</a:t>
            </a:fld>
          </a:p>
        </p:txBody>
      </p: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Employment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Labour force participation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Employment population rat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Unemployment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Youth unemployment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200" spc="-1" strike="noStrike">
                <a:solidFill>
                  <a:srgbClr val="0033cc"/>
                </a:solidFill>
                <a:latin typeface="Arial"/>
              </a:rPr>
              <a:t>Share of wage employment in non- agricultural em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Intricit job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Transition between non-employment and within empl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Inclusion and access to the labou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Transition between E, U and in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6600"/>
                </a:solidFill>
                <a:latin typeface="Arial"/>
              </a:rPr>
              <a:t>Diversity and non-discrimo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33cc"/>
                </a:solidFill>
                <a:latin typeface="Arial"/>
              </a:rPr>
              <a:t>E and /or U gaps of 55-64 old, immigrants, disabled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C07-D173-4574-B1BD-40662B888777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Unacceptabl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children not at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children in wage or self-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Of relevance to the E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877-359E-4341-886E-960059EC6F88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33cc"/>
                </a:solidFill>
                <a:latin typeface="Arial"/>
              </a:rPr>
              <a:t>Statistical Indicators cont’d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214776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Adequate earnings and productiv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centage of employment with low pay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Average earnings in selected occup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Employees with recent job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8320" y="21477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6600"/>
                </a:solidFill>
                <a:latin typeface="Arial"/>
              </a:rPr>
              <a:t>Skills, lifelong training and career devlpm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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33cc"/>
                </a:solidFill>
                <a:latin typeface="Arial"/>
              </a:rPr>
              <a:t>Percentage of working age population participating in education an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/ILO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C3-34EB-4706-B836-394AACA4B835}" type="slidenum">
              <a:t>9</a:t>
            </a:fld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8:30:21Z</dcterms:created>
  <dc:creator> </dc:creator>
  <dc:description/>
  <dc:language>en-US</dc:language>
  <cp:lastModifiedBy>stat</cp:lastModifiedBy>
  <cp:lastPrinted>2000-11-07T08:33:29Z</cp:lastPrinted>
  <dcterms:modified xsi:type="dcterms:W3CDTF">2005-05-11T00:12:09Z</dcterms:modified>
  <cp:revision>134</cp:revision>
  <dc:subject/>
  <dc:title>PowerPoint Presentation</dc:title>
</cp:coreProperties>
</file>