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b82b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E0CF-A31B-48CE-91FD-13B5D7FA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BF3-8EEC-44F8-A692-D2826D8BB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side working hours - Working conditions not seasonal  - For int weighting, ‘persons in employment’ as provided by the l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ow response rates dans 2 pays, diminue la qualite des donnes et aurait pour impact d’enjoliver la realite car les travailleurs ayant les conditions de travail les plus difficiles seraient ceux qui ne repondraient p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ethode d’enquè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irage au sort de point de depart pa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uis toutes les 3 maisons, je rentre et cherche a identifier si quelqu un est dans ma cible (en emploi), je l’interroge si disponible, sinon prend RV. Un nombre maximal d’adresses est tire par point de de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6E20-09B8-4099-B537-EB115152F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FF38-C806-4934-84F6-D5E34DBF8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0E5E-99E3-4DC9-9D40-5E3E5FA3A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B92F-156C-4FF3-87F6-04663BF6A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32A4E-77A0-4106-BF07-79FDA4F1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1135C-86DC-4991-9448-F88B29F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E5C06-7857-4E0A-AF19-943DCDA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F7B2-6A59-441A-9FD2-97C6CEB9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02FDD-888B-4913-914D-D7120361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724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3BDC4-6995-4456-A095-0B4A796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C32C0-1A9F-4237-871B-D9045C9D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B1EE-6E88-4F65-BF98-77A1F5D1B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E3714-1C84-4A93-A7A9-7455DFE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5860-832D-4104-BE58-525930B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D3F1-BC64-4150-8273-978B8360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8D1EC-09B1-44D6-8D63-8843F2E8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30A85-A900-408A-AFA5-22B73242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E65D-539F-461E-A054-418BF49BE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0F5A-493C-4F34-8C8B-828047EEC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A93D-5B78-4504-B8B5-DE7E0277E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724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5C78-57AC-43DE-985F-3B117DF4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B049-0530-4787-A453-A0E2DEBD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32D1-CC4C-48DF-9A07-DD452B4D3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0744-0B80-42A5-A6E7-9F4FA4751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0720"/>
            <a:ext cx="990720" cy="533376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spcBef>
                <a:spcPts val="64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195120">
              <a:spcBef>
                <a:spcPts val="649"/>
              </a:spcBef>
              <a:buClr>
                <a:srgbClr val="e8b81c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89200" indent="-228600">
              <a:spcBef>
                <a:spcPts val="64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8240" indent="-228600">
              <a:spcBef>
                <a:spcPts val="64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8240" indent="-228600">
              <a:spcBef>
                <a:spcPts val="64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8240" indent="-228600">
              <a:spcBef>
                <a:spcPts val="64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3.01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07F8-8668-4100-9E82-73C7F2FD396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990720" y="990720"/>
            <a:ext cx="0" cy="533376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14893" b="0"/>
          <a:stretch/>
        </p:blipFill>
        <p:spPr>
          <a:xfrm>
            <a:off x="76320" y="63360"/>
            <a:ext cx="8305560" cy="8794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34320" y="2590920"/>
            <a:ext cx="18097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629400" y="590400"/>
            <a:ext cx="22669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323040"/>
            <a:ext cx="9144000" cy="53352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b82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EFFD-1C74-4EC4-8BE4-BB08A91B512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5331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542-AD6B-4A95-8C4F-959A5DB3C46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14893" b="0"/>
          <a:stretch/>
        </p:blipFill>
        <p:spPr>
          <a:xfrm>
            <a:off x="76320" y="63360"/>
            <a:ext cx="8305560" cy="87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131760" algn="ctr">
              <a:spcBef>
                <a:spcPts val="550"/>
              </a:spcBef>
              <a:buClr>
                <a:srgbClr val="e8b81c"/>
              </a:buClr>
              <a:buSzPct val="3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189000" algn="ctr">
              <a:spcBef>
                <a:spcPts val="49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150840" algn="ctr">
              <a:spcBef>
                <a:spcPts val="49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15084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15084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eb82b"/>
                </a:solidFill>
                <a:latin typeface="Arial"/>
              </a:rPr>
              <a:t>Quality of work and employment </a:t>
            </a:r>
            <a:br>
              <a:rPr sz="3200"/>
            </a:br>
            <a:r>
              <a:rPr b="1" lang="en-GB" sz="3200" spc="-1" strike="noStrike">
                <a:solidFill>
                  <a:srgbClr val="deb82b"/>
                </a:solidFill>
                <a:latin typeface="Arial"/>
              </a:rPr>
              <a:t>in the European Working Conditions Survey</a:t>
            </a:r>
            <a:endParaRPr b="1" lang="en-US" sz="32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W" sz="2000" spc="-1" strike="noStrike">
                <a:solidFill>
                  <a:srgbClr val="ffffff"/>
                </a:solidFill>
                <a:latin typeface="Arial"/>
              </a:rPr>
              <a:t>Greet Vermeylen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W" sz="2000" spc="-1" strike="noStrike">
                <a:solidFill>
                  <a:srgbClr val="ffffff"/>
                </a:solidFill>
                <a:latin typeface="Arial"/>
              </a:rPr>
              <a:t>European Foundation for the Improvement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W" sz="2000" spc="-1" strike="noStrike">
                <a:solidFill>
                  <a:srgbClr val="ffffff"/>
                </a:solidFill>
                <a:latin typeface="Arial"/>
              </a:rPr>
              <a:t>of Living and Working Condition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25E3-3147-4379-ADE0-1C91064C4F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ADE86780-F103-45BB-BB88-6B9D1B46D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1143000"/>
            <a:ext cx="8534520" cy="4710960"/>
            <a:chOff x="380880" y="1143000"/>
            <a:chExt cx="8534520" cy="4710960"/>
          </a:xfrm>
        </p:grpSpPr>
        <p:sp>
          <p:nvSpPr>
            <p:cNvPr id="133" name=""/>
            <p:cNvSpPr/>
            <p:nvPr/>
          </p:nvSpPr>
          <p:spPr>
            <a:xfrm>
              <a:off x="2666880" y="4724640"/>
              <a:ext cx="3962520" cy="112932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BINING WORKING AND NON-WORKING 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ganisation of 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ial infrastructures and prov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143000"/>
              <a:ext cx="3505320" cy="146556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REER AND JOB SECURIT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t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c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ial prot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ers righ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2590920"/>
              <a:ext cx="2438640" cy="222660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ALTH AND WELL-B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alth and safety out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posure to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ccupational Health and Safety prevention framewor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720" y="2895840"/>
              <a:ext cx="2514600" cy="152640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0800" y="2667240"/>
              <a:ext cx="2514600" cy="195228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ETENCE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il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ining and edu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reer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arning 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D435-7215-4EFC-BCCD-2ED67012915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MENT STATUS AND QW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: Increase in non permanent employ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xed-term and temporary agency 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: Correlation between non permanent employment and working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: lesser skills and less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OUTCOME: who takes responsibility for training (and  skills) of this increasing part of working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8006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D79-5659-4847-9A06-67FC2361BA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ployees having been les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han one year in the company (%) (E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20720"/>
                <a:tab algn="l" pos="107964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905120"/>
          <a:ext cx="7619760" cy="43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61976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4B75-CB2C-4120-9874-45811D5C13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57200" y="1125360"/>
            <a:ext cx="4038480" cy="2227320"/>
            <a:chOff x="457200" y="1125360"/>
            <a:chExt cx="4038480" cy="2227320"/>
          </a:xfrm>
        </p:grpSpPr>
        <p:sp>
          <p:nvSpPr>
            <p:cNvPr id="146" name=""/>
            <p:cNvSpPr/>
            <p:nvPr/>
          </p:nvSpPr>
          <p:spPr>
            <a:xfrm>
              <a:off x="457200" y="1142280"/>
              <a:ext cx="4029120" cy="21848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57200" y="1360800"/>
              <a:ext cx="4038480" cy="1966680"/>
              <a:chOff x="457200" y="1360800"/>
              <a:chExt cx="4038480" cy="196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457200" y="13608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200" y="13608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200" y="14763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7200" y="147636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200" y="15908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159084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" y="17064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200" y="17064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7200" y="18212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200" y="182124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" y="19368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" y="193680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200" y="20527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7200" y="20527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1675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" y="21675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22831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" y="22831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23986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" y="239868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7200" y="25131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25131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7200" y="26287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200" y="26287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7200" y="27435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" y="27435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200" y="28594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285948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" y="29750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7200" y="297504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" y="30898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7200" y="308988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7200" y="32054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7200" y="320544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" y="33210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200" y="33210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046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04680" y="1360800"/>
                <a:ext cx="756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28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52880" y="1360800"/>
                <a:ext cx="720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0144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0144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4892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4892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712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9712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446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446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244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2440" y="1360800"/>
                <a:ext cx="720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402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40280" y="1360800"/>
                <a:ext cx="756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892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892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3600" y="2976840"/>
                <a:ext cx="37720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9000" y="198432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480" y="1367280"/>
              <a:ext cx="3859200" cy="1836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1440" y="2211120"/>
              <a:ext cx="453960" cy="996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2040" y="1518840"/>
              <a:ext cx="447480" cy="1688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5720" y="266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8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04280" y="2315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51240" y="3215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3000" y="3215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58040" y="1125360"/>
              <a:ext cx="29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on-Permanent</a:t>
              </a: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mployment (EU 11 LF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16360" y="2421000"/>
            <a:ext cx="3962520" cy="2388600"/>
            <a:chOff x="4716360" y="2421000"/>
            <a:chExt cx="3962520" cy="2388600"/>
          </a:xfrm>
        </p:grpSpPr>
        <p:sp>
          <p:nvSpPr>
            <p:cNvPr id="215" name=""/>
            <p:cNvSpPr/>
            <p:nvPr/>
          </p:nvSpPr>
          <p:spPr>
            <a:xfrm>
              <a:off x="4716360" y="2421000"/>
              <a:ext cx="3962520" cy="23814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4851000" y="2691720"/>
            <a:ext cx="3692880" cy="2117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1000" y="2691720"/>
                      <a:ext cx="3692880" cy="21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5163480" y="2449440"/>
              <a:ext cx="31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tatus</a:t>
              </a: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nd Working Conditions (EWSC 20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57200" y="4038480"/>
            <a:ext cx="4065480" cy="2013120"/>
            <a:chOff x="457200" y="4038480"/>
            <a:chExt cx="4065480" cy="2013120"/>
          </a:xfrm>
        </p:grpSpPr>
        <p:sp>
          <p:nvSpPr>
            <p:cNvPr id="220" name=""/>
            <p:cNvSpPr/>
            <p:nvPr/>
          </p:nvSpPr>
          <p:spPr>
            <a:xfrm>
              <a:off x="457200" y="4038480"/>
              <a:ext cx="4065480" cy="20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6600" y="4332240"/>
              <a:ext cx="3845520" cy="1273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1720" y="4491000"/>
              <a:ext cx="856800" cy="11145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08520" y="4619520"/>
              <a:ext cx="850680" cy="986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59560" y="4873680"/>
              <a:ext cx="856800" cy="7318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1880" y="4994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39720" y="5184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2920" y="50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920" y="4917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1720" y="5816520"/>
              <a:ext cx="49680" cy="507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800" y="57783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Indefinite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70480" y="5816520"/>
              <a:ext cx="49680" cy="507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240" y="5778360"/>
              <a:ext cx="113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Fixed-term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74760" y="5816520"/>
              <a:ext cx="49680" cy="507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3480" y="577836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Temp. agency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7920" y="4076640"/>
              <a:ext cx="327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Training provided by Companies (ESWC 20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E27-B10D-4FE7-BF94-23F5F7365B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TRAINTS AND QW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TRAINTS: work intensity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: strong effects of work intensity on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ORGANISATION: correlation between work intensity and work organisation (lean production mode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OUTCOME: compatibility between “sustainable work” and “modernising” work orga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20E6-6C78-4C24-B530-B0F0D0DF58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511200"/>
            <a:ext cx="4419720" cy="223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00" y="544680"/>
            <a:ext cx="4329000" cy="2523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8600" y="898560"/>
            <a:ext cx="402588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898560"/>
            <a:ext cx="4025880" cy="127008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400" y="1298520"/>
            <a:ext cx="498600" cy="87012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65520" y="1265400"/>
            <a:ext cx="500040" cy="90324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1000" y="1189080"/>
            <a:ext cx="507960" cy="979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65560" y="1152360"/>
            <a:ext cx="507960" cy="1016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8960" y="1152360"/>
            <a:ext cx="500040" cy="101628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3520" y="1077840"/>
            <a:ext cx="498600" cy="109080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8600" y="2168640"/>
            <a:ext cx="4025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5680" y="636480"/>
            <a:ext cx="339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orking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 very high speed or to tight deadlines (ESW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31320" y="1671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4080" y="1652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31360" y="1616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39320" y="1596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080" y="1560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44120" y="1596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35640" y="227484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 very 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20040" y="227484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tight dead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6200" y="147168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6160" y="2484360"/>
            <a:ext cx="2379600" cy="173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5640" y="2538360"/>
            <a:ext cx="74880" cy="6372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1720" y="2506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67080" y="2538360"/>
            <a:ext cx="73080" cy="63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7480" y="2513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81240" y="2538360"/>
            <a:ext cx="74880" cy="6372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2520" y="2513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907920"/>
            <a:ext cx="4329360" cy="2165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00600" y="2666880"/>
            <a:ext cx="4267080" cy="2286000"/>
            <a:chOff x="4800600" y="2666880"/>
            <a:chExt cx="4267080" cy="2286000"/>
          </a:xfrm>
        </p:grpSpPr>
        <p:grpSp>
          <p:nvGrpSpPr>
            <p:cNvPr id="268" name=""/>
            <p:cNvGrpSpPr/>
            <p:nvPr/>
          </p:nvGrpSpPr>
          <p:grpSpPr>
            <a:xfrm>
              <a:off x="4803480" y="2670840"/>
              <a:ext cx="4260600" cy="2277360"/>
              <a:chOff x="4803480" y="2670840"/>
              <a:chExt cx="4260600" cy="22773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03480" y="2670840"/>
                <a:ext cx="1090080" cy="706680"/>
                <a:chOff x="4803480" y="2670840"/>
                <a:chExt cx="1090080" cy="70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48120" y="2670840"/>
                  <a:ext cx="10000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6320" bIns="76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03480" y="2670840"/>
                  <a:ext cx="109008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93560" y="2670840"/>
                <a:ext cx="708840" cy="706680"/>
                <a:chOff x="5893560" y="2670840"/>
                <a:chExt cx="708840" cy="706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38200" y="267084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6320" bIns="76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Backa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93560" y="267084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602760" y="2670840"/>
                <a:ext cx="708840" cy="706680"/>
                <a:chOff x="6602760" y="2670840"/>
                <a:chExt cx="708840" cy="7066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647400" y="267084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r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02760" y="267084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11960" y="2670840"/>
                <a:ext cx="1042200" cy="706680"/>
                <a:chOff x="7311960" y="2670840"/>
                <a:chExt cx="1042200" cy="7066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56600" y="2670840"/>
                  <a:ext cx="952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uscular pains in neck and shoulder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11960" y="2670840"/>
                  <a:ext cx="104220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354160" y="2670840"/>
                <a:ext cx="709920" cy="706680"/>
                <a:chOff x="8354160" y="2670840"/>
                <a:chExt cx="709920" cy="7066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398800" y="2670840"/>
                  <a:ext cx="61992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juri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354160" y="2670840"/>
                  <a:ext cx="70992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803480" y="3377520"/>
                <a:ext cx="1090080" cy="864000"/>
                <a:chOff x="4803480" y="3377520"/>
                <a:chExt cx="1090080" cy="864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48120" y="3377520"/>
                  <a:ext cx="10000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orking continuously at high spe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3480" y="3377520"/>
                  <a:ext cx="109008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93560" y="3377520"/>
                <a:ext cx="708840" cy="864000"/>
                <a:chOff x="5893560" y="3377520"/>
                <a:chExt cx="708840" cy="864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938200" y="3377520"/>
                  <a:ext cx="619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93560" y="3377520"/>
                  <a:ext cx="70884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602760" y="3377520"/>
                <a:ext cx="708840" cy="864000"/>
                <a:chOff x="6602760" y="3377520"/>
                <a:chExt cx="708840" cy="864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647400" y="3377520"/>
                  <a:ext cx="619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02760" y="3377520"/>
                  <a:ext cx="70884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311960" y="3377520"/>
                <a:ext cx="1042200" cy="864000"/>
                <a:chOff x="7311960" y="3377520"/>
                <a:chExt cx="1042200" cy="86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356600" y="3377520"/>
                  <a:ext cx="952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311960" y="3377520"/>
                  <a:ext cx="104220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354160" y="3377520"/>
                <a:ext cx="709920" cy="864000"/>
                <a:chOff x="8354160" y="3377520"/>
                <a:chExt cx="709920" cy="864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398800" y="3377520"/>
                  <a:ext cx="6199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354160" y="3377520"/>
                  <a:ext cx="70992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803480" y="4241520"/>
                <a:ext cx="1090080" cy="706680"/>
                <a:chOff x="4803480" y="4241520"/>
                <a:chExt cx="1090080" cy="7066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848120" y="4241520"/>
                  <a:ext cx="10000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ever working at high spe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803480" y="4241520"/>
                  <a:ext cx="109008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893560" y="4241520"/>
                <a:ext cx="708840" cy="706680"/>
                <a:chOff x="5893560" y="4241520"/>
                <a:chExt cx="708840" cy="706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38200" y="424152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93560" y="424152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602760" y="4241520"/>
                <a:ext cx="708840" cy="706680"/>
                <a:chOff x="6602760" y="4241520"/>
                <a:chExt cx="708840" cy="706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647400" y="424152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602760" y="424152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311960" y="4241520"/>
                <a:ext cx="1042200" cy="706680"/>
                <a:chOff x="7311960" y="4241520"/>
                <a:chExt cx="1042200" cy="706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356600" y="4241520"/>
                  <a:ext cx="952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11960" y="4241520"/>
                  <a:ext cx="104220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8354160" y="4241520"/>
                <a:ext cx="709920" cy="706680"/>
                <a:chOff x="8354160" y="4241520"/>
                <a:chExt cx="709920" cy="706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8398800" y="4241520"/>
                  <a:ext cx="61992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354160" y="4241520"/>
                  <a:ext cx="70992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4800600" y="2666880"/>
              <a:ext cx="4267080" cy="228600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4343400" cy="23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424C-CEFB-4803-BA4F-FC15DCF20D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3440" y="11430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Pace of work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688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66680" y="1676520"/>
          <a:ext cx="79250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92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B624-3214-4BD4-9200-D9B3856EA1C0}" type="slidenum">
              <a:t>1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utonomy at work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720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1828800"/>
          <a:ext cx="7620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620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06BE-7832-4D41-AFE0-196451CADC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Training in EU1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2057400"/>
          <a:ext cx="8229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8360" y="2060640"/>
          <a:ext cx="822960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06064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2648-1719-4EEE-9CC3-F9F96F8CAC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8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ining in NMS / A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95280" y="1981080"/>
          <a:ext cx="716292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71629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33D7-A177-4F31-88F2-E04E887EE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OPEAN FOUND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 decentralised agency of the EU (197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ripartite governing board 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mployers, trade unions, governments, European Commi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Go-between research and policy mak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dded value: analysis in the EU policy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78D2-2A89-435D-98FC-F438C3CC5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PARITIES IN WORKING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erages hide differences : 17% (-30h.) vs. 20% (45h.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countries : longer hours in SP, PT, IR, FIN, N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occupations: managers and blue collars vs. clerks and technici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sectors: long hours in agriculture, construction, hotels/restaurants, transpo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age groups: no reduction with 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der: part time mostly women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5564-9C56-49F5-9425-A2DEF18F8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indings on working time in N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d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&gt;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ou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ss part time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commuting ti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re “unsocial” working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igh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if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ekend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8BCC-0DE0-4801-AA5D-C3030E6676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3080" y="114264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-time work / gend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2000)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1905120"/>
          <a:ext cx="79250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925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9C26-CEE8-4AAA-87EC-4275B94A4C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33080" y="1143000"/>
            <a:ext cx="765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-time work (by country) (200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43000" y="1752480"/>
          <a:ext cx="80010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8001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A13A-20C2-4F91-99E7-1CFA0A427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527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ily commuting times (by countr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43000" y="1828800"/>
          <a:ext cx="80010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8001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C70C-9269-480D-9949-95DA0227DB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dicators for quality of work and em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ry and cover a wide range of iss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hould be multidimens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apture the ‘world of work’ for all employ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aking into consideration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different sectors / public/private / different jobs / gender / different job status  /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Should be refined – ‘perfected’ (but time seri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More ànd better jobs !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6241-FAE9-4EB1-9BB5-B8C33F014E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deb82b"/>
                </a:solidFill>
                <a:latin typeface="Arial"/>
              </a:rPr>
              <a:t>THANK YOU</a:t>
            </a:r>
            <a:br>
              <a:rPr sz="4800"/>
            </a:br>
            <a:endParaRPr b="1" lang="en-US" sz="48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WW.EUROFOUND.EU.INT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F0D7-5DEB-4461-8922-3CC6A7B3FB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D4F05134-D705-4F70-8647-A9266EFAC0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ALITY OF JOBS vs. QUANT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DICATORS OF QUALITY OF WORK AND EMPLOY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U 25 and candidate cou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BA3C-0483-4F51-B7B2-BF1722EE0B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nitor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Working Conditions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990, 1995, 2000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029200"/>
            <a:ext cx="198108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survey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029200"/>
            <a:ext cx="220968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Monitoring Centre o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04828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Industrial Relations Observ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00400"/>
            <a:ext cx="2514600" cy="1523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8f0"/>
                </a:solidFill>
                <a:latin typeface="Times New Roman"/>
              </a:rPr>
              <a:t>Quality of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8f0"/>
                </a:solidFill>
                <a:latin typeface="Times New Roman"/>
              </a:rPr>
              <a:t>and employ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905120"/>
            <a:ext cx="228600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uropean Working Conditions Observa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-hoc surveys, e.g. Employment options of the future (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429000"/>
            <a:ext cx="205740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y survey on working time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48320" y="2514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4197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66880" y="4343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C50C-55D9-4C7B-9672-0B306E36EC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he Foundation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First European Survey on Working Conditions (199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Second European Survey on Working Conditions (199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Third European Survey on Working Conditions (200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+ in Candidate countries (2001/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Fourth European Survey on Working Conditions (Autumn 200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0FD7-9728-4CD5-B175-9A079A737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eb82b"/>
                </a:solidFill>
                <a:latin typeface="Arial"/>
              </a:rPr>
              <a:t>The European Working Conditions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Workers’ survey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employed and self-employ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Face-to-face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interviews in people’s homes, outside ‘normal’ working hours in the official language of the cou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51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Number of interview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: 1000/ 500 per country in NMS and CCs (11000)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– 1500  in EU 15 (21.7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51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Weighting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on the basis of the LFS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(gender, age, Nace and Nuts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Gap in response rate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87% in BG when 23% in PL and 38% in 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differences in industrial structures, labour market and population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EF04-FD01-41D1-B3E0-C23B33332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opean Working Conditions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4 previous editions, next data collection in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im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provide an overview of the state of working conditions in Europe / quantify iss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understand relationshi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identify trends / build time se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indicate the nature and contents of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B3F8-616D-4A06-A073-FB164260E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3440" y="1189080"/>
            <a:ext cx="5842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UALITY OF WORK AND EMPLOYMENT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640" y="1557000"/>
            <a:ext cx="56167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QWE perspectiv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ocie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Types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truc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Outcom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Aims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Benchmarking (contex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Nature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Administrative repor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elf-reporting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F1D3-FFD2-4797-8D80-5DDCDDDBEBEC}" type="slidenum">
              <a:t>8</a:t>
            </a:fld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NALYTICAL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TRUCTURING INDICATO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YNAMIC READING OF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MBINING INDICATORS / TREND ANALYSIS / CONTEX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EP BY STEP CONSTRUCTION OF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EARNING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5AEF-1588-4DC7-BDE3-254E992321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ve</cp:lastModifiedBy>
  <dcterms:modified xsi:type="dcterms:W3CDTF">2005-05-11T06:01:06Z</dcterms:modified>
  <cp:revision>370</cp:revision>
  <dc:subject/>
  <dc:title>PowerPoint Presentation</dc:title>
</cp:coreProperties>
</file>