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b82b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7F6C-5A03-46D8-A715-21B937A2A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7AD9-3E6A-4FBB-8C57-67416DC63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utside working hours - Working conditions not seasonal  - For int weighting, ‘persons in employment’ as provided by the l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Low response rates dans 2 pays, diminue la qualite des donnes et aurait pour impact d’enjoliver la realite car les travailleurs ayant les conditions de travail les plus difficiles seraient ceux qui ne repondraient p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Methode d’enquè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irage au sort de point de depart pa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uis toutes les 3 maisons, je rentre et cherche a identifier si quelqu un est dans ma cible (en emploi), je l’interroge si disponible, sinon prend RV. Un nombre maximal d’adresses est tire par point de de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ED9B-0BE5-40C9-B7FE-3702E0A1A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7516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AEF61-DE7D-44C1-AFC7-2FC0FCE0C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5C34-7A43-4D35-A0B8-7711C863E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1144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1144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7516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7516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7516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768D-CF0D-4EF0-AD0F-29B4E9B66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2EA4C-99DC-41CE-B95D-6026EE33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085CD-A063-4887-B20F-B294AC9C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CBB24-99DB-4A3F-B7F9-761FF3C6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E4340-06C5-410B-AD83-FA59BABF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DF50C-332F-4274-9A31-6AF1973A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7240" y="2590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C7444-6F64-45E5-9FC3-87E9D41A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1584A-A216-468C-B6FB-3DA3A685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A655-67F3-4938-958D-BAD1DFE7F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84A6D-A4CE-4018-B200-13C4BCA3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7516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9A364-7641-496D-B9FE-F9082961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7516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9E2F1-790D-482B-927D-BA0A4C82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CBCB4-2986-4ACA-AE91-FC4C9ADC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41144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41144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7516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7516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75164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9AA95-4E2C-4308-8189-AB9B455E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5A7A-BEEF-40B6-8A30-B098FAA28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72BD-26BA-4339-9818-7BAA176FE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6D61-7CC7-4781-90B8-311504B2A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7240" y="2590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2A4E-8B16-46B4-8520-5C5EE8BB3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0625A-882C-4045-8C5F-A09F3FC67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7516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721BD-BF95-465F-94A7-71D2BAA94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11444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7516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0D73-2781-436A-B27B-4DD7207FD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90720"/>
            <a:ext cx="990720" cy="5333760"/>
          </a:xfrm>
          <a:prstGeom prst="rect">
            <a:avLst/>
          </a:prstGeom>
          <a:gradFill rotWithShape="0">
            <a:gsLst>
              <a:gs pos="0">
                <a:srgbClr val="0038a1"/>
              </a:gs>
              <a:gs pos="100000">
                <a:srgbClr val="4f6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0038a1"/>
              </a:gs>
              <a:gs pos="100000">
                <a:srgbClr val="4f6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spcBef>
                <a:spcPts val="64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1280" indent="-195120">
              <a:spcBef>
                <a:spcPts val="649"/>
              </a:spcBef>
              <a:buClr>
                <a:srgbClr val="e8b81c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89200" indent="-228600">
              <a:spcBef>
                <a:spcPts val="649"/>
              </a:spcBef>
              <a:buClr>
                <a:srgbClr val="deb82b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8240" indent="-228600">
              <a:spcBef>
                <a:spcPts val="649"/>
              </a:spcBef>
              <a:buClr>
                <a:srgbClr val="deb82b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208240" indent="-228600">
              <a:spcBef>
                <a:spcPts val="649"/>
              </a:spcBef>
              <a:buClr>
                <a:srgbClr val="000000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208240" indent="-228600">
              <a:spcBef>
                <a:spcPts val="649"/>
              </a:spcBef>
              <a:buClr>
                <a:srgbClr val="000000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23.01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58FB-EF32-4472-9D2E-6E2162C0C23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dfb8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990720" y="990720"/>
            <a:ext cx="0" cy="5333760"/>
          </a:xfrm>
          <a:prstGeom prst="line">
            <a:avLst/>
          </a:prstGeom>
          <a:ln w="19080">
            <a:solidFill>
              <a:srgbClr val="dfb8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14893" b="0"/>
          <a:stretch/>
        </p:blipFill>
        <p:spPr>
          <a:xfrm>
            <a:off x="76320" y="63360"/>
            <a:ext cx="8305560" cy="8794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19080">
            <a:solidFill>
              <a:srgbClr val="dfb8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34320" y="2590920"/>
            <a:ext cx="18097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629400" y="590400"/>
            <a:ext cx="226692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323040"/>
            <a:ext cx="9144000" cy="533520"/>
          </a:xfrm>
          <a:prstGeom prst="rect">
            <a:avLst/>
          </a:prstGeom>
          <a:gradFill rotWithShape="0">
            <a:gsLst>
              <a:gs pos="0">
                <a:srgbClr val="0038a1"/>
              </a:gs>
              <a:gs pos="100000">
                <a:srgbClr val="4f6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dfb8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b82b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F270-D81A-47AD-A1E8-14C3655BB4F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5"/>
          </p:nvPr>
        </p:nvSpPr>
        <p:spPr>
          <a:xfrm>
            <a:off x="5331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DCF6-DC73-4821-ADFD-785E0EFADC5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19080">
            <a:solidFill>
              <a:srgbClr val="dfb8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0" r="14893" b="0"/>
          <a:stretch/>
        </p:blipFill>
        <p:spPr>
          <a:xfrm>
            <a:off x="76320" y="63360"/>
            <a:ext cx="8305560" cy="879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131760" algn="ctr">
              <a:spcBef>
                <a:spcPts val="550"/>
              </a:spcBef>
              <a:buClr>
                <a:srgbClr val="e8b81c"/>
              </a:buClr>
              <a:buSzPct val="3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189000" algn="ctr">
              <a:spcBef>
                <a:spcPts val="499"/>
              </a:spcBef>
              <a:buClr>
                <a:srgbClr val="deb82b"/>
              </a:buClr>
              <a:buSzPct val="2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150840" algn="ctr">
              <a:spcBef>
                <a:spcPts val="499"/>
              </a:spcBef>
              <a:buClr>
                <a:srgbClr val="deb82b"/>
              </a:buClr>
              <a:buSzPct val="2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15084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15084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eb82b"/>
                </a:solidFill>
                <a:latin typeface="Arial"/>
              </a:rPr>
              <a:t>Quality of work and employment </a:t>
            </a:r>
            <a:br>
              <a:rPr sz="3200"/>
            </a:br>
            <a:r>
              <a:rPr b="1" lang="en-GB" sz="3200" spc="-1" strike="noStrike">
                <a:solidFill>
                  <a:srgbClr val="deb82b"/>
                </a:solidFill>
                <a:latin typeface="Arial"/>
              </a:rPr>
              <a:t>in the European Working Conditions Survey</a:t>
            </a:r>
            <a:endParaRPr b="1" lang="en-US" sz="32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W" sz="2000" spc="-1" strike="noStrike">
                <a:solidFill>
                  <a:srgbClr val="ffffff"/>
                </a:solidFill>
                <a:latin typeface="Arial"/>
              </a:rPr>
              <a:t>Greet Vermeylen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W" sz="2000" spc="-1" strike="noStrike">
                <a:solidFill>
                  <a:srgbClr val="ffffff"/>
                </a:solidFill>
                <a:latin typeface="Arial"/>
              </a:rPr>
              <a:t>European Foundation for the Improvement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W" sz="2000" spc="-1" strike="noStrike">
                <a:solidFill>
                  <a:srgbClr val="ffffff"/>
                </a:solidFill>
                <a:latin typeface="Arial"/>
              </a:rPr>
              <a:t>of Living and Working Conditions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3227A-5E18-4482-AF9A-D4C49F49528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5A1F6B92-E621-4A0A-9439-4726FE8894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80880" y="1143000"/>
            <a:ext cx="8534520" cy="4710960"/>
            <a:chOff x="380880" y="1143000"/>
            <a:chExt cx="8534520" cy="4710960"/>
          </a:xfrm>
        </p:grpSpPr>
        <p:sp>
          <p:nvSpPr>
            <p:cNvPr id="133" name=""/>
            <p:cNvSpPr/>
            <p:nvPr/>
          </p:nvSpPr>
          <p:spPr>
            <a:xfrm>
              <a:off x="2666880" y="4724640"/>
              <a:ext cx="3962520" cy="1129320"/>
            </a:xfrm>
            <a:prstGeom prst="rect">
              <a:avLst/>
            </a:prstGeom>
            <a:noFill/>
            <a:ln cap="sq"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BINING WORKING AND NON-WORKING LI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ganisation of 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ial infrastructures and provi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1143000"/>
              <a:ext cx="3505320" cy="1465560"/>
            </a:xfrm>
            <a:prstGeom prst="rect">
              <a:avLst/>
            </a:prstGeom>
            <a:noFill/>
            <a:ln cap="sq"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REER AND JOB SECURITY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at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c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ial prot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orkers righ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880" y="2590920"/>
              <a:ext cx="2438640" cy="2226600"/>
            </a:xfrm>
            <a:prstGeom prst="rect">
              <a:avLst/>
            </a:prstGeom>
            <a:noFill/>
            <a:ln cap="sq"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EALTH AND WELL-BE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ealth and safety out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posure to ri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ccupational Health and Safety prevention framewor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6720" y="2895840"/>
              <a:ext cx="2514600" cy="1526400"/>
            </a:xfrm>
            <a:prstGeom prst="rect">
              <a:avLst/>
            </a:prstGeom>
            <a:noFill/>
            <a:ln cap="sq"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00800" y="2667240"/>
              <a:ext cx="2514600" cy="1952280"/>
            </a:xfrm>
            <a:prstGeom prst="rect">
              <a:avLst/>
            </a:prstGeom>
            <a:noFill/>
            <a:ln cap="sq"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PETENCE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kil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ining and edu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reer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arning organis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A9D87-AB29-47B8-97FB-F917795DD719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LOYMENT STATUS AND QW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US: Increase in non permanent employmen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xed-term and temporary agency wor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: Correlation between non permanent employment and working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INING: lesser skills and less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CY OUTCOME: who takes responsibility for training (and  skills) of this increasing part of working 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48006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2143-7BFB-498C-9583-99D3131B46C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mployees having been less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han one year in the company (%) (E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20720"/>
                <a:tab algn="l" pos="107964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19320" y="1905120"/>
          <a:ext cx="7619760" cy="43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7619760" cy="43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4984-A61D-4BCF-83B4-E3EEAD9C4A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57200" y="1125360"/>
            <a:ext cx="4038480" cy="2227320"/>
            <a:chOff x="457200" y="1125360"/>
            <a:chExt cx="4038480" cy="2227320"/>
          </a:xfrm>
        </p:grpSpPr>
        <p:sp>
          <p:nvSpPr>
            <p:cNvPr id="146" name=""/>
            <p:cNvSpPr/>
            <p:nvPr/>
          </p:nvSpPr>
          <p:spPr>
            <a:xfrm>
              <a:off x="457200" y="1142280"/>
              <a:ext cx="4029120" cy="21848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57200" y="1360800"/>
              <a:ext cx="4038480" cy="1966680"/>
              <a:chOff x="457200" y="1360800"/>
              <a:chExt cx="4038480" cy="1966680"/>
            </a:xfrm>
          </p:grpSpPr>
          <p:sp>
            <p:nvSpPr>
              <p:cNvPr id="148" name=""/>
              <p:cNvSpPr/>
              <p:nvPr/>
            </p:nvSpPr>
            <p:spPr>
              <a:xfrm>
                <a:off x="457200" y="136080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200" y="136080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7200" y="147636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7200" y="147636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7200" y="159084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" y="159084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7200" y="170640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7200" y="170640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7200" y="182124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7200" y="182124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" y="193680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7200" y="193680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7200" y="205272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7200" y="205272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7200" y="216756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57200" y="216756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7200" y="228312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7200" y="228312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7200" y="239868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7200" y="239868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7200" y="251316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7200" y="251316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57200" y="262872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7200" y="262872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7200" y="274356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200" y="274356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7200" y="285948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7200" y="285948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7200" y="297504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7200" y="297504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7200" y="308988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57200" y="3089880"/>
                <a:ext cx="403200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7200" y="320544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7200" y="320544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57200" y="3321000"/>
                <a:ext cx="4032000" cy="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200" y="3321000"/>
                <a:ext cx="4032000" cy="6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720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1360800"/>
                <a:ext cx="648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0468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04680" y="1360800"/>
                <a:ext cx="756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288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52880" y="1360800"/>
                <a:ext cx="720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80144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801440" y="1360800"/>
                <a:ext cx="648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4892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48920" y="1360800"/>
                <a:ext cx="648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9712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97120" y="1360800"/>
                <a:ext cx="648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4460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44600" y="1360800"/>
                <a:ext cx="648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9244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92440" y="1360800"/>
                <a:ext cx="720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4028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040280" y="1360800"/>
                <a:ext cx="756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89200" y="1360800"/>
                <a:ext cx="720" cy="19666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489200" y="1360800"/>
                <a:ext cx="6480" cy="196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23600" y="2976840"/>
                <a:ext cx="37720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9000" y="1984320"/>
                <a:ext cx="136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480" y="1367280"/>
              <a:ext cx="3859200" cy="18367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1440" y="2211120"/>
              <a:ext cx="453960" cy="9961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02040" y="1518840"/>
              <a:ext cx="447480" cy="16884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75720" y="266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8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04280" y="2315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51240" y="3215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3000" y="3215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58040" y="1125360"/>
              <a:ext cx="29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Non-Permanent</a:t>
              </a:r>
              <a:r>
                <a:rPr b="1" lang="en-US" sz="1200" spc="-1" strike="noStrike">
                  <a:solidFill>
                    <a:srgbClr val="6b85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Employment (EU 11 LF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716360" y="2421000"/>
            <a:ext cx="3962520" cy="2388600"/>
            <a:chOff x="4716360" y="2421000"/>
            <a:chExt cx="3962520" cy="2388600"/>
          </a:xfrm>
        </p:grpSpPr>
        <p:sp>
          <p:nvSpPr>
            <p:cNvPr id="215" name=""/>
            <p:cNvSpPr/>
            <p:nvPr/>
          </p:nvSpPr>
          <p:spPr>
            <a:xfrm>
              <a:off x="4716360" y="2421000"/>
              <a:ext cx="3962520" cy="238140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6" name=""/>
            <p:cNvGraphicFramePr/>
            <p:nvPr/>
          </p:nvGraphicFramePr>
          <p:xfrm>
            <a:off x="4851000" y="2691720"/>
            <a:ext cx="3692880" cy="2117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51000" y="2691720"/>
                      <a:ext cx="3692880" cy="211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"/>
            <p:cNvSpPr/>
            <p:nvPr/>
          </p:nvSpPr>
          <p:spPr>
            <a:xfrm>
              <a:off x="5163480" y="2449440"/>
              <a:ext cx="31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Status</a:t>
              </a:r>
              <a:r>
                <a:rPr b="1" lang="en-US" sz="1200" spc="-1" strike="noStrike">
                  <a:solidFill>
                    <a:srgbClr val="6b85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nd Working Conditions (EWSC 20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57200" y="4038480"/>
            <a:ext cx="4065480" cy="2013120"/>
            <a:chOff x="457200" y="4038480"/>
            <a:chExt cx="4065480" cy="2013120"/>
          </a:xfrm>
        </p:grpSpPr>
        <p:sp>
          <p:nvSpPr>
            <p:cNvPr id="220" name=""/>
            <p:cNvSpPr/>
            <p:nvPr/>
          </p:nvSpPr>
          <p:spPr>
            <a:xfrm>
              <a:off x="457200" y="4038480"/>
              <a:ext cx="4065480" cy="201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6600" y="4332240"/>
              <a:ext cx="3845520" cy="1273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1720" y="4491000"/>
              <a:ext cx="856800" cy="111456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08520" y="4619520"/>
              <a:ext cx="850680" cy="986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59560" y="4873680"/>
              <a:ext cx="856800" cy="73188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1880" y="4994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39720" y="5184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82920" y="5057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8920" y="4917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1720" y="5816520"/>
              <a:ext cx="49680" cy="5076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1800" y="577836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Indefinite contrac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70480" y="5816520"/>
              <a:ext cx="49680" cy="507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4240" y="5778360"/>
              <a:ext cx="1136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Fixed-term contrac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74760" y="5816520"/>
              <a:ext cx="49680" cy="507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3480" y="5778360"/>
              <a:ext cx="1315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Temp. agency contrac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7920" y="4076640"/>
              <a:ext cx="327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b8500"/>
                  </a:solidFill>
                  <a:latin typeface="Times New Roman"/>
                </a:rPr>
                <a:t>Training provided by Companies (ESWC 20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F22C8-302D-4F95-8B87-DBCC1E06353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CONSTRAINTS AND QW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CONSTRAINTS: work intensity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: strong effects of work intensity on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 ORGANISATION: correlation between work intensity and work organisation (lean production model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CY OUTCOME: compatibility between “sustainable work” and “modernising” work organ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C936-2AC0-4A63-B722-1DCC73D05F1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511200"/>
            <a:ext cx="4419720" cy="223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0000" y="544680"/>
            <a:ext cx="4329000" cy="25239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8600" y="898560"/>
            <a:ext cx="4025880" cy="1270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8600" y="898560"/>
            <a:ext cx="4025880" cy="127008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2400" y="1298520"/>
            <a:ext cx="498600" cy="870120"/>
          </a:xfrm>
          <a:prstGeom prst="rect">
            <a:avLst/>
          </a:prstGeom>
          <a:solidFill>
            <a:srgbClr val="ff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65520" y="1265400"/>
            <a:ext cx="500040" cy="903240"/>
          </a:xfrm>
          <a:prstGeom prst="rect">
            <a:avLst/>
          </a:prstGeom>
          <a:solidFill>
            <a:srgbClr val="ff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1000" y="1189080"/>
            <a:ext cx="507960" cy="9795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65560" y="1152360"/>
            <a:ext cx="507960" cy="10162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8960" y="1152360"/>
            <a:ext cx="500040" cy="1016280"/>
          </a:xfrm>
          <a:prstGeom prst="rect">
            <a:avLst/>
          </a:prstGeom>
          <a:solidFill>
            <a:srgbClr val="ff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73520" y="1077840"/>
            <a:ext cx="498600" cy="1090800"/>
          </a:xfrm>
          <a:prstGeom prst="rect">
            <a:avLst/>
          </a:prstGeom>
          <a:solidFill>
            <a:srgbClr val="ff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8600" y="2168640"/>
            <a:ext cx="4025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5680" y="636480"/>
            <a:ext cx="339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orking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 very high speed or to tight deadlines (ESW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31320" y="16714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4080" y="1652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31360" y="16160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39320" y="1596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080" y="15606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44120" y="1596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35640" y="227484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 very high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20040" y="227484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 tight dead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6200" y="147168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16160" y="2484360"/>
            <a:ext cx="2379600" cy="173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55640" y="2538360"/>
            <a:ext cx="74880" cy="63720"/>
          </a:xfrm>
          <a:prstGeom prst="rect">
            <a:avLst/>
          </a:prstGeom>
          <a:solidFill>
            <a:srgbClr val="ff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91720" y="25066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67080" y="2538360"/>
            <a:ext cx="73080" cy="637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07480" y="2513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81240" y="2538360"/>
            <a:ext cx="74880" cy="63720"/>
          </a:xfrm>
          <a:prstGeom prst="rect">
            <a:avLst/>
          </a:prstGeom>
          <a:solidFill>
            <a:srgbClr val="ff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2520" y="2513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907920"/>
            <a:ext cx="4329360" cy="2165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800600" y="2666880"/>
            <a:ext cx="4267080" cy="2286000"/>
            <a:chOff x="4800600" y="2666880"/>
            <a:chExt cx="4267080" cy="2286000"/>
          </a:xfrm>
        </p:grpSpPr>
        <p:grpSp>
          <p:nvGrpSpPr>
            <p:cNvPr id="268" name=""/>
            <p:cNvGrpSpPr/>
            <p:nvPr/>
          </p:nvGrpSpPr>
          <p:grpSpPr>
            <a:xfrm>
              <a:off x="4803480" y="2670840"/>
              <a:ext cx="4260600" cy="2277360"/>
              <a:chOff x="4803480" y="2670840"/>
              <a:chExt cx="4260600" cy="22773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803480" y="2670840"/>
                <a:ext cx="1090080" cy="706680"/>
                <a:chOff x="4803480" y="2670840"/>
                <a:chExt cx="1090080" cy="7066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848120" y="2670840"/>
                  <a:ext cx="100008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76320" bIns="76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803480" y="2670840"/>
                  <a:ext cx="109008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893560" y="2670840"/>
                <a:ext cx="708840" cy="706680"/>
                <a:chOff x="5893560" y="2670840"/>
                <a:chExt cx="708840" cy="7066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938200" y="2670840"/>
                  <a:ext cx="6192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76320" bIns="76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Backach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893560" y="2670840"/>
                  <a:ext cx="70884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602760" y="2670840"/>
                <a:ext cx="708840" cy="706680"/>
                <a:chOff x="6602760" y="2670840"/>
                <a:chExt cx="708840" cy="7066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647400" y="2670840"/>
                  <a:ext cx="6192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res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602760" y="2670840"/>
                  <a:ext cx="70884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311960" y="2670840"/>
                <a:ext cx="1042200" cy="706680"/>
                <a:chOff x="7311960" y="2670840"/>
                <a:chExt cx="1042200" cy="7066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356600" y="2670840"/>
                  <a:ext cx="9522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uscular pains in neck and shoulder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311960" y="2670840"/>
                  <a:ext cx="104220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8354160" y="2670840"/>
                <a:ext cx="709920" cy="706680"/>
                <a:chOff x="8354160" y="2670840"/>
                <a:chExt cx="709920" cy="7066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8398800" y="2670840"/>
                  <a:ext cx="61992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juri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354160" y="2670840"/>
                  <a:ext cx="70992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803480" y="3377520"/>
                <a:ext cx="1090080" cy="864000"/>
                <a:chOff x="4803480" y="3377520"/>
                <a:chExt cx="1090080" cy="864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848120" y="3377520"/>
                  <a:ext cx="10000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Working continuously at high spee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03480" y="3377520"/>
                  <a:ext cx="1090080" cy="86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5893560" y="3377520"/>
                <a:ext cx="708840" cy="864000"/>
                <a:chOff x="5893560" y="3377520"/>
                <a:chExt cx="708840" cy="864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938200" y="3377520"/>
                  <a:ext cx="61920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893560" y="3377520"/>
                  <a:ext cx="708840" cy="86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602760" y="3377520"/>
                <a:ext cx="708840" cy="864000"/>
                <a:chOff x="6602760" y="3377520"/>
                <a:chExt cx="708840" cy="864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647400" y="3377520"/>
                  <a:ext cx="61920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602760" y="3377520"/>
                  <a:ext cx="708840" cy="86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7311960" y="3377520"/>
                <a:ext cx="1042200" cy="864000"/>
                <a:chOff x="7311960" y="3377520"/>
                <a:chExt cx="1042200" cy="86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356600" y="3377520"/>
                  <a:ext cx="95220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311960" y="3377520"/>
                  <a:ext cx="1042200" cy="86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8354160" y="3377520"/>
                <a:ext cx="709920" cy="864000"/>
                <a:chOff x="8354160" y="3377520"/>
                <a:chExt cx="709920" cy="864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8398800" y="3377520"/>
                  <a:ext cx="6199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354160" y="3377520"/>
                  <a:ext cx="709920" cy="86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803480" y="4241520"/>
                <a:ext cx="1090080" cy="706680"/>
                <a:chOff x="4803480" y="4241520"/>
                <a:chExt cx="1090080" cy="7066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848120" y="4241520"/>
                  <a:ext cx="100008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ever working at high spee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803480" y="4241520"/>
                  <a:ext cx="109008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893560" y="4241520"/>
                <a:ext cx="708840" cy="706680"/>
                <a:chOff x="5893560" y="4241520"/>
                <a:chExt cx="708840" cy="7066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938200" y="4241520"/>
                  <a:ext cx="6192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893560" y="4241520"/>
                  <a:ext cx="70884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602760" y="4241520"/>
                <a:ext cx="708840" cy="706680"/>
                <a:chOff x="6602760" y="4241520"/>
                <a:chExt cx="708840" cy="7066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647400" y="4241520"/>
                  <a:ext cx="6192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602760" y="4241520"/>
                  <a:ext cx="70884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7311960" y="4241520"/>
                <a:ext cx="1042200" cy="706680"/>
                <a:chOff x="7311960" y="4241520"/>
                <a:chExt cx="1042200" cy="7066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356600" y="4241520"/>
                  <a:ext cx="9522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311960" y="4241520"/>
                  <a:ext cx="104220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8354160" y="4241520"/>
                <a:ext cx="709920" cy="706680"/>
                <a:chOff x="8354160" y="4241520"/>
                <a:chExt cx="709920" cy="7066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8398800" y="4241520"/>
                  <a:ext cx="61992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60360"/>
                      <a:tab algn="l" pos="720720"/>
                      <a:tab algn="l" pos="1079640"/>
                      <a:tab algn="r" pos="57434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354160" y="4241520"/>
                  <a:ext cx="709920" cy="706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4800600" y="2666880"/>
              <a:ext cx="4267080" cy="228600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4343400" cy="234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631F-EF7E-43D5-9F24-23AB656AD6D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33440" y="114300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Pace of work (EU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6688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66680" y="1676520"/>
          <a:ext cx="792504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9250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0A76-FE7D-4D56-898E-3234F4C7B721}" type="slidenum">
              <a:t>16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utonomy at work (EU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9720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066680" y="1828800"/>
          <a:ext cx="762012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6201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7EAB-00FB-466C-BC86-4615A4C1F2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Training in EU1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57200" y="2057400"/>
          <a:ext cx="82296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68360" y="2060640"/>
          <a:ext cx="822960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06064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5E96-BA24-4C8B-8693-8D4164B990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682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ining in NMS / A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295280" y="1981080"/>
          <a:ext cx="716292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71629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8209-71B0-480D-9E57-B495588470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UROPEAN FOUND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24382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A decentralised agency of the EU (197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ripartite governing board 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30000"/>
              </a:lnSpc>
              <a:spcBef>
                <a:spcPts val="550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Employers, trade unions, governments, European Commis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Go-between research and policy mak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Added value: analysis in the EU policy contex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57E9-5A55-490C-81BA-24AAF5AB5C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SPARITIES IN WORKING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erages hide differences : 17% (-30h.) vs. 20% (45h.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ween countries : longer hours in SP, PT, IR, FIN, N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ween occupations: managers and blue collars vs. clerks and technici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ween sectors: long hours in agriculture, construction, hotels/restaurants, transpo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ween age groups: no reduction with 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550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der: part time mostly women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D4EE-B2F2-4C87-A7CC-9D862B2C65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indings on working time in N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er working ho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20000"/>
              </a:lnSpc>
              <a:spcBef>
                <a:spcPts val="451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er working d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&gt;1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ou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20000"/>
              </a:lnSpc>
              <a:spcBef>
                <a:spcPts val="451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er working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20000"/>
              </a:lnSpc>
              <a:spcBef>
                <a:spcPts val="451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ss part time 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er commuting ti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451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re “unsocial” working ho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20000"/>
              </a:lnSpc>
              <a:spcBef>
                <a:spcPts val="451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ight 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20000"/>
              </a:lnSpc>
              <a:spcBef>
                <a:spcPts val="451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ift 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20000"/>
              </a:lnSpc>
              <a:spcBef>
                <a:spcPts val="451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ekend 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7F19-62AB-46B0-9D6C-087500BEDA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3080" y="1142640"/>
            <a:ext cx="7658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-time work / gender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(2000) (EU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066680" y="1905120"/>
          <a:ext cx="792504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9250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E92C-FECB-4D71-8691-EE1920CC63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33080" y="1143000"/>
            <a:ext cx="765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-time work (by country) (200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43000" y="1752480"/>
          <a:ext cx="800100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80010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622D-88F0-44BA-BEB6-75AC88C839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527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ily commuting times (by countr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43000" y="1828800"/>
          <a:ext cx="800100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80010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7C1A-DADD-47ED-BF90-CF18BE11C8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dicators for quality of work and employ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18960" y="24382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ry and cover a wide range of iss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Should be multidimens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Capture the ‘world of work’ for all employe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30000"/>
              </a:lnSpc>
              <a:spcBef>
                <a:spcPts val="550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aking into consideration 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different sectors / public/private / different jobs / gender / different job status  /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Times New Roman"/>
              </a:rPr>
              <a:t>Should be refined – ‘perfected’ (but time seri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Times New Roman"/>
              </a:rPr>
              <a:t>More ànd better jobs !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5CE7-447F-4410-ABBF-5055DCB8EF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7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deb82b"/>
                </a:solidFill>
                <a:latin typeface="Arial"/>
              </a:rPr>
              <a:t>THANK YOU</a:t>
            </a:r>
            <a:br>
              <a:rPr sz="4800"/>
            </a:br>
            <a:endParaRPr b="1" lang="en-US" sz="4800" spc="-1" strike="noStrike">
              <a:solidFill>
                <a:srgbClr val="deb82b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WWW.EUROFOUND.EU.INT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BFAB3-1450-4732-91B5-FDD140E8219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E586D646-1FA4-4C52-AC98-CF15598FCA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UALITY OF JOBS vs. QUANT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DICATORS OF QUALITY OF WORK AND EMPLOY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U 25 and candidate count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53D5-EFA5-4BBD-921A-63FD87911C8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nitoring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905120"/>
            <a:ext cx="2057400" cy="8240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 Working Conditions 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990, 1995, 2000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029200"/>
            <a:ext cx="1981080" cy="5806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life survey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029200"/>
            <a:ext cx="2209680" cy="5806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ean Monitoring Centre o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5048280"/>
            <a:ext cx="2057400" cy="8240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ean Industrial Relations Observ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3200400"/>
            <a:ext cx="2514600" cy="1523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8f0"/>
                </a:solidFill>
                <a:latin typeface="Times New Roman"/>
              </a:rPr>
              <a:t>Quality of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8f0"/>
                </a:solidFill>
                <a:latin typeface="Times New Roman"/>
              </a:rPr>
              <a:t>and employ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1905120"/>
            <a:ext cx="2286000" cy="5806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European Working Conditions Observa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1905120"/>
            <a:ext cx="2057400" cy="8240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-hoc surveys, e.g. Employment options of the future (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429000"/>
            <a:ext cx="2057400" cy="5806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ny survey on working time (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7432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648320" y="2514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71500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4197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666880" y="43430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5845-9C0D-42C3-BF99-8B8C890869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he Foundation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550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Times New Roman"/>
              </a:rPr>
              <a:t>First European Survey on Working Conditions (1990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550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Times New Roman"/>
              </a:rPr>
              <a:t>Second European Survey on Working Conditions (1995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550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Times New Roman"/>
              </a:rPr>
              <a:t>Third European Survey on Working Conditions (2000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550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Times New Roman"/>
              </a:rPr>
              <a:t>+ in Candidate countries (2001/200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550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Times New Roman"/>
              </a:rPr>
              <a:t>Fourth European Survey on Working Conditions (Autumn 2005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FA2D-E1B7-45C7-B688-CBA66BCBAA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deb82b"/>
                </a:solidFill>
                <a:latin typeface="Arial"/>
              </a:rPr>
              <a:t>The European Working Conditions Surv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Bef>
                <a:spcPts val="499"/>
              </a:spcBef>
              <a:buClr>
                <a:srgbClr val="deb82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imes New Roman"/>
              </a:rPr>
              <a:t>Workers’ survey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: employed and self-employ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80000"/>
              </a:lnSpc>
              <a:spcBef>
                <a:spcPts val="499"/>
              </a:spcBef>
              <a:buClr>
                <a:srgbClr val="deb82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imes New Roman"/>
              </a:rPr>
              <a:t>Face-to-face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 interviews in people’s homes, outside ‘normal’ working hours in the official language of the coun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80000"/>
              </a:lnSpc>
              <a:spcBef>
                <a:spcPts val="451"/>
              </a:spcBef>
              <a:buClr>
                <a:srgbClr val="deb82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imes New Roman"/>
              </a:rPr>
              <a:t>Number of interviews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 : 1000/ 500 per country in NMS and CCs (11000)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– 1500  in EU 15 (21.7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80000"/>
              </a:lnSpc>
              <a:spcBef>
                <a:spcPts val="451"/>
              </a:spcBef>
              <a:buClr>
                <a:srgbClr val="deb82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imes New Roman"/>
              </a:rPr>
              <a:t>Weighting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 on the basis of the LFS 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(gender, age, Nace and Nuts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80000"/>
              </a:lnSpc>
              <a:spcBef>
                <a:spcPts val="499"/>
              </a:spcBef>
              <a:buClr>
                <a:srgbClr val="deb82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imes New Roman"/>
              </a:rPr>
              <a:t>Gap in response rates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: 87% in BG when 23% in PL and 38% in 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80000"/>
              </a:lnSpc>
              <a:spcBef>
                <a:spcPts val="499"/>
              </a:spcBef>
              <a:buClr>
                <a:srgbClr val="deb82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: differences in industrial structures, labour market and population pro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1642-58F7-4095-948D-B893035B38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uropean Working Conditions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4 previous editions, next data collection in 200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Aim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o provide an overview of the state of working conditions in Europe / quantify issu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o understand relationship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o identify trends / build time se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826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o indicate the nature and contents of chan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9848-4AF7-4A41-9618-66D133647D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3440" y="1189080"/>
            <a:ext cx="5842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QUALITY OF WORK AND EMPLOYMENT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63640" y="1557000"/>
            <a:ext cx="56167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QWE perspectiv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Corpo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Socie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Types of indicator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Struc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Situ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Outcom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Aims of indicator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Benchmarking (contex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Deb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Nature of indicator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Administrative repor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-374760">
              <a:lnSpc>
                <a:spcPct val="90000"/>
              </a:lnSpc>
              <a:spcBef>
                <a:spcPts val="499"/>
              </a:spcBef>
              <a:buClr>
                <a:srgbClr val="e8b81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imes New Roman"/>
              </a:rPr>
              <a:t>Self-reporting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DDC0-F2A8-4FAE-890C-8D76A75AB78A}" type="slidenum">
              <a:t>8</a:t>
            </a:fld>
          </a:p>
        </p:txBody>
      </p:sp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8d1"/>
            </a:gs>
            <a:gs pos="100000">
              <a:srgbClr val="0038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3440" y="11426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F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ANALYTICAL FRAME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TRUCTURING INDICATO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YNAMIC READING OF INDIC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OMBINING INDICATORS / TREND ANALYSIS / CONTEX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8b81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TEP BY STEP CONSTRUCTION OF INDIC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LEARNING PROCES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EC98-32C5-4180-BC1C-653FF6455CC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ve</cp:lastModifiedBy>
  <dcterms:modified xsi:type="dcterms:W3CDTF">2005-05-11T06:01:06Z</dcterms:modified>
  <cp:revision>370</cp:revision>
  <dc:subject/>
  <dc:title>PowerPoint Presentation</dc:title>
</cp:coreProperties>
</file>