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902F-CAF2-4F59-BC49-7A6106E79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47D5-0269-43A8-9F26-E4E6B097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6900-4857-47D4-B3DC-6DE67BDCC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0F9F-F989-4784-B88F-6AC82C04E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D1B7-86D8-4527-B4FE-3D4396CE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F02D-9272-4216-A3AC-671D53F5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66C2-57DE-4F7B-8502-6C126334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4F70-4681-4794-8311-9DE5BED9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2CC6-C9A7-48B7-9083-049AB753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A290-4579-4B1E-B9B6-92030DDF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9FDF-47E2-4619-B854-CBF34612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8C7D-8295-4C12-99CB-6DBCAC6A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2A6C-CA69-4AAD-8335-E5E0C51040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050240" y="6207120"/>
            <a:ext cx="1823760" cy="3366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85800" y="609480"/>
            <a:ext cx="1425600" cy="2881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886880" y="621036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71E4-55BE-4C72-A57E-DC1E2E1F2B9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11430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ECE/Eurostat/ILO Seminar on the Quality of Wor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v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-13 May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99640" y="2276640"/>
            <a:ext cx="720108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pic 1: Conceptual frameworks and dimensions of quality of 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ceptual Relationship Between Quality of Work and Working Time Statistics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orking time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Core elements/dim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51"/>
              </a:spcBef>
              <a:buClr>
                <a:srgbClr val="658bc5"/>
              </a:buClr>
              <a:buSzPct val="6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Number of hours – length of time spent on work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51"/>
              </a:spcBef>
              <a:buClr>
                <a:srgbClr val="658bc5"/>
              </a:buClr>
              <a:buSzPct val="6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Variability (stability) of those hours on weekly, monthly, annual time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51"/>
              </a:spcBef>
              <a:buClr>
                <a:srgbClr val="658bc5"/>
              </a:buClr>
              <a:buSzPct val="6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When those hours are worked (scheduling) – whether worked outside “standard”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Supplementary variab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51"/>
              </a:spcBef>
              <a:buClr>
                <a:srgbClr val="658bc5"/>
              </a:buClr>
              <a:buSzPct val="6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Duration of arran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51"/>
              </a:spcBef>
              <a:buClr>
                <a:srgbClr val="658bc5"/>
              </a:buClr>
              <a:buSzPct val="6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Contractual situation – existence of formal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51"/>
              </a:spcBef>
              <a:buClr>
                <a:srgbClr val="658bc5"/>
              </a:buClr>
              <a:buSzPct val="6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Worker control in setting time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51"/>
              </a:spcBef>
              <a:buClr>
                <a:srgbClr val="658bc5"/>
              </a:buClr>
              <a:buSzPct val="6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Predictability of arrangement over week, month,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51"/>
              </a:spcBef>
              <a:buClr>
                <a:srgbClr val="658bc5"/>
              </a:buClr>
              <a:buSzPct val="6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Location of employment e.g. at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Linkage of Conceptual Frameworks – Futur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5640" y="1186920"/>
            <a:ext cx="777240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601"/>
              </a:spcBef>
              <a:buClr>
                <a:srgbClr val="658bc5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Reinforce lin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601"/>
              </a:spcBef>
              <a:buClr>
                <a:srgbClr val="658bc5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Use of common terminology and definitions where overlap ex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3068640"/>
            <a:ext cx="2089080" cy="208764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5e46">
                  <a:alpha val="5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o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56000" y="4508640"/>
            <a:ext cx="2089080" cy="2087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cent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56000" y="4437000"/>
            <a:ext cx="2089080" cy="2087640"/>
          </a:xfrm>
          <a:prstGeom prst="ellipse">
            <a:avLst/>
          </a:prstGeom>
          <a:gradFill rotWithShape="0">
            <a:gsLst>
              <a:gs pos="0">
                <a:srgbClr val="75752f"/>
              </a:gs>
              <a:gs pos="50000">
                <a:srgbClr val="ffff66">
                  <a:alpha val="62352"/>
                </a:srgbClr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Quality of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ceptual Frame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6400" indent="-356400">
              <a:lnSpc>
                <a:spcPct val="100000"/>
              </a:lnSpc>
              <a:spcBef>
                <a:spcPts val="499"/>
              </a:spcBef>
              <a:buClr>
                <a:srgbClr val="658bc5"/>
              </a:buClr>
              <a:buSzPct val="6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There is no one single measure of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quality of work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 /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decent work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 concepts – current view is generally against a composite indic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6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6400" indent="-356400">
              <a:lnSpc>
                <a:spcPct val="100000"/>
              </a:lnSpc>
              <a:spcBef>
                <a:spcPts val="499"/>
              </a:spcBef>
              <a:buClr>
                <a:srgbClr val="658bc5"/>
              </a:buClr>
              <a:buSzPct val="6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Both concepts have been defined in terms of a number of dimensions by EC and I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6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6400" indent="-356400">
              <a:lnSpc>
                <a:spcPct val="100000"/>
              </a:lnSpc>
              <a:spcBef>
                <a:spcPts val="499"/>
              </a:spcBef>
              <a:buClr>
                <a:srgbClr val="658bc5"/>
              </a:buClr>
              <a:buSzPct val="6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Range of dimensions differ but there is some overlap and simi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6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6400" indent="-356400">
              <a:lnSpc>
                <a:spcPct val="100000"/>
              </a:lnSpc>
              <a:spcBef>
                <a:spcPts val="499"/>
              </a:spcBef>
              <a:buClr>
                <a:srgbClr val="658bc5"/>
              </a:buClr>
              <a:buSzPct val="6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Also overlap with dimensions related to current work of Paris Group on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working time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 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"/>
              </a:rPr>
              <a:t>Conceptual Frame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5640" y="118728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>
              <a:spcBef>
                <a:spcPts val="601"/>
              </a:spcBef>
              <a:buClr>
                <a:srgbClr val="658bc5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Three concepts have a different emphasis /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601"/>
              </a:spcBef>
              <a:buClr>
                <a:srgbClr val="658bc5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No real need for them to be ident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601"/>
              </a:spcBef>
              <a:buClr>
                <a:srgbClr val="658bc5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Overlaps should be 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00720" y="4149720"/>
            <a:ext cx="2089080" cy="208764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5e46">
                  <a:alpha val="5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o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8360" y="4149720"/>
            <a:ext cx="2089080" cy="2087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cent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4149720"/>
            <a:ext cx="2089080" cy="2087640"/>
          </a:xfrm>
          <a:prstGeom prst="ellipse">
            <a:avLst/>
          </a:prstGeom>
          <a:gradFill rotWithShape="0">
            <a:gsLst>
              <a:gs pos="0">
                <a:srgbClr val="75752f"/>
              </a:gs>
              <a:gs pos="50000">
                <a:srgbClr val="ffff66">
                  <a:alpha val="62352"/>
                </a:srgbClr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Quality of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rief Digression – History of Pari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>
              <a:lnSpc>
                <a:spcPct val="100000"/>
              </a:lnSpc>
              <a:spcBef>
                <a:spcPts val="601"/>
              </a:spcBef>
              <a:buClr>
                <a:srgbClr val="658bc5"/>
              </a:buClr>
              <a:buSzPct val="6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Is one of a number of city groups set up under the auspices of the UN – created in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01"/>
              </a:spcBef>
              <a:buClr>
                <a:srgbClr val="658bc5"/>
              </a:buClr>
              <a:buSzPct val="6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Comprises national agencies and international organisations working informally to exchange views,  practices, develop guidelines and recommendations on specific issues of statistical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01"/>
              </a:spcBef>
              <a:buClr>
                <a:srgbClr val="658bc5"/>
              </a:buClr>
              <a:buSzPct val="6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Emphasises involvement of all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ork on working time measurement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ommendations from Group cov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658bc5"/>
              </a:buClr>
              <a:buSzPct val="60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Hours actually wo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658bc5"/>
              </a:buClr>
              <a:buSzPct val="60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Definition of annual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658bc5"/>
              </a:buClr>
              <a:buSzPct val="60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Working time arrang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658bc5"/>
              </a:buClr>
              <a:buSzPct val="6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 be used as input to a document about issues and proposals for revision of 1962 Resolution on statistics of hours of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658bc5"/>
              </a:buClr>
              <a:buSzPct val="6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ocument to be discussed at tripartite meeting of experts organised by I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658bc5"/>
              </a:buClr>
              <a:buSzPct val="6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put to 18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CLS tentatively scheduled for 200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91856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mperatives for more internationally comparable statistics on working time measurement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658bc5"/>
              </a:buClr>
              <a:buSzPct val="60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Labour input measures in the compilation of national accounts and for the compilation of comparable measures of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658bc5"/>
              </a:buClr>
              <a:buSzPct val="60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Growing policy interest in working arrangements and promotion of a work-life balance – significant change in work  patterns in most (western)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Opportun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27640" y="2852640"/>
            <a:ext cx="1800360" cy="1656000"/>
          </a:xfrm>
          <a:prstGeom prst="ellipse">
            <a:avLst/>
          </a:prstGeom>
          <a:gradFill rotWithShape="0">
            <a:gsLst>
              <a:gs pos="0">
                <a:srgbClr val="2f7575"/>
              </a:gs>
              <a:gs pos="50000">
                <a:srgbClr val="66ffff"/>
              </a:gs>
              <a:gs pos="100000">
                <a:srgbClr val="2f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2708280"/>
            <a:ext cx="1800000" cy="1655640"/>
          </a:xfrm>
          <a:prstGeom prst="ellipse">
            <a:avLst/>
          </a:prstGeom>
          <a:gradFill rotWithShape="0">
            <a:gsLst>
              <a:gs pos="0">
                <a:srgbClr val="2f7575"/>
              </a:gs>
              <a:gs pos="50000">
                <a:srgbClr val="66ffff"/>
              </a:gs>
              <a:gs pos="100000">
                <a:srgbClr val="2f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72360" y="3357720"/>
            <a:ext cx="172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vision of 1993 S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3213000"/>
            <a:ext cx="171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vision of 1962 ICLS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48000" y="2708280"/>
            <a:ext cx="1800360" cy="172728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b1b14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068640"/>
            <a:ext cx="1873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nternational guidelines on working time measu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19640" y="3573360"/>
            <a:ext cx="1009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410920" y="3573360"/>
            <a:ext cx="792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Opportun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227640" y="2852640"/>
            <a:ext cx="1800360" cy="1656000"/>
          </a:xfrm>
          <a:prstGeom prst="ellipse">
            <a:avLst/>
          </a:prstGeom>
          <a:gradFill rotWithShape="0">
            <a:gsLst>
              <a:gs pos="0">
                <a:srgbClr val="2f7575"/>
              </a:gs>
              <a:gs pos="50000">
                <a:srgbClr val="66ffff"/>
              </a:gs>
              <a:gs pos="100000">
                <a:srgbClr val="2f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2708280"/>
            <a:ext cx="1800000" cy="1655640"/>
          </a:xfrm>
          <a:prstGeom prst="ellipse">
            <a:avLst/>
          </a:prstGeom>
          <a:gradFill rotWithShape="0">
            <a:gsLst>
              <a:gs pos="0">
                <a:srgbClr val="2f7575"/>
              </a:gs>
              <a:gs pos="50000">
                <a:srgbClr val="66ffff"/>
              </a:gs>
              <a:gs pos="100000">
                <a:srgbClr val="2f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72360" y="3357720"/>
            <a:ext cx="172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vision of 1993 S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3213000"/>
            <a:ext cx="171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vision of 1962 ICLS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48000" y="2708280"/>
            <a:ext cx="1800360" cy="172728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b1b14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48000" y="3068640"/>
            <a:ext cx="1873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nternational guidelines on working time measu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19640" y="3573360"/>
            <a:ext cx="1009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410920" y="3573360"/>
            <a:ext cx="792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4724280"/>
            <a:ext cx="7848720" cy="1584360"/>
          </a:xfrm>
          <a:custGeom>
            <a:avLst/>
            <a:gdLst>
              <a:gd name="textAreaLeft" fmla="*/ 1373400 w 7848720"/>
              <a:gd name="textAreaRight" fmla="*/ 5690520 w 7848720"/>
              <a:gd name="textAreaTop" fmla="*/ 212040 h 1584360"/>
              <a:gd name="textAreaBottom" fmla="*/ 1372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aris Group 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00720" y="1628640"/>
            <a:ext cx="1800360" cy="1656000"/>
          </a:xfrm>
          <a:prstGeom prst="ellipse">
            <a:avLst/>
          </a:prstGeom>
          <a:gradFill rotWithShape="0">
            <a:gsLst>
              <a:gs pos="0">
                <a:srgbClr val="2f7575"/>
              </a:gs>
              <a:gs pos="50000">
                <a:srgbClr val="66ffff"/>
              </a:gs>
              <a:gs pos="100000">
                <a:srgbClr val="2f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72360" y="2060640"/>
            <a:ext cx="171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ational Accoun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1628640"/>
            <a:ext cx="1656000" cy="1584360"/>
          </a:xfrm>
          <a:prstGeom prst="ellipse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80000" y="4869000"/>
            <a:ext cx="136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2349360"/>
            <a:ext cx="151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2133720"/>
            <a:ext cx="171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Labour force statistici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4221000"/>
            <a:ext cx="7345440" cy="15130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009a73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ceptual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suring hours actually wor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ual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ing time arrang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87280" y="3573360"/>
            <a:ext cx="64944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3573360"/>
            <a:ext cx="64944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07:20:32Z</dcterms:created>
  <dc:creator>OECD</dc:creator>
  <dc:description/>
  <dc:language>en-US</dc:language>
  <cp:lastModifiedBy>Ward</cp:lastModifiedBy>
  <cp:lastPrinted>2002-06-09T08:53:54Z</cp:lastPrinted>
  <dcterms:modified xsi:type="dcterms:W3CDTF">2005-05-04T09:15:44Z</dcterms:modified>
  <cp:revision>69</cp:revision>
  <dc:subject/>
  <dc:title>DEVELOPMENT OF  MEI (OECD) GLOSSARY (DATA DICTIONARY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17308342</vt:r8>
  </property>
  <property fmtid="{D5CDD505-2E9C-101B-9397-08002B2CF9AE}" pid="3" name="_AuthorEmail">
    <vt:lpwstr>Denis.WARD@oecd.org</vt:lpwstr>
  </property>
  <property fmtid="{D5CDD505-2E9C-101B-9397-08002B2CF9AE}" pid="4" name="_AuthorEmailDisplayName">
    <vt:lpwstr>WARD Denis, STD/STES</vt:lpwstr>
  </property>
  <property fmtid="{D5CDD505-2E9C-101B-9397-08002B2CF9AE}" pid="5" name="_EmailSubject">
    <vt:lpwstr>Joint ECE/Eurostat/ILO Seminar on the Quality of Work </vt:lpwstr>
  </property>
</Properties>
</file>