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2696-0026-47AD-A2A8-506D7191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278-F31A-4855-A215-207CF073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C21-9431-4E3D-AEDF-1FA0040E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5A51-0FE8-4518-AB4D-0F548F4D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417-2F9D-4A46-9482-10C7FA52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D477-BE83-4B54-A505-5E96A8D5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6228-AC07-479D-B764-A74C689B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406-ABAC-4FA2-A06D-ADBDE3C1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35C-5985-4FA9-9F0E-8235BB63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1EF-DA92-4A8C-BB26-4377405C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DF6-8E45-4329-9B47-04BC7FAE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5B92-EC04-4DDC-BA21-D33A44AA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79E4-1991-4280-8761-C6D0C3B132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50240" y="6207120"/>
            <a:ext cx="1823760" cy="336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85800" y="609480"/>
            <a:ext cx="1425600" cy="2881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886880" y="621036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D023-C536-423B-A29D-CAF5E3FAD3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ECE/Eurostat/ILO Seminar on the Quality of Wor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v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-13 May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7201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pic 1: Conceptual frameworks and dimensions of quality of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ceptual Relationship Between Quality of Work and Working Time Statistic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rking tim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Core elements/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5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Number of hours – length of time spent on work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5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Variability (stability) of those hours on weekly, monthly, annual time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5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When those hours are worked (scheduling) – whether worked outside “standard”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Supplementary vari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5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Duration of arran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5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Contractual situation – existence of formal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5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Worker control in setting time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5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Predictability of arrangement over week, month,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5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Location of employment e.g. at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Linkage of Conceptual Frameworks – Futu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186920"/>
            <a:ext cx="777240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658bc5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Reinforce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658bc5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Use of common terminology and definitions where overlap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3068640"/>
            <a:ext cx="2089080" cy="20876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>
                  <a:alpha val="5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4508640"/>
            <a:ext cx="2089080" cy="2087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ent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4437000"/>
            <a:ext cx="2089080" cy="2087640"/>
          </a:xfrm>
          <a:prstGeom prst="ellipse">
            <a:avLst/>
          </a:prstGeom>
          <a:gradFill rotWithShape="0">
            <a:gsLst>
              <a:gs pos="0">
                <a:srgbClr val="75752f"/>
              </a:gs>
              <a:gs pos="50000">
                <a:srgbClr val="ffff66">
                  <a:alpha val="62352"/>
                </a:srgbClr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ality of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eptual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6400" indent="-35640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here is no one single measure of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quality of work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 /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decent work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 concepts – current view is generally against a composite indic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Both concepts have been defined in terms of a number of dimensions by EC and 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Range of dimensions differ but there is some overlap and simi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10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Also overlap with dimensions related to current work of Paris Group on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working time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Conceptual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187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spcBef>
                <a:spcPts val="601"/>
              </a:spcBef>
              <a:buClr>
                <a:srgbClr val="658bc5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Three concepts have a different emphasis /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658bc5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No real need for them to be iden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658bc5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Overlaps should b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00720" y="4149720"/>
            <a:ext cx="2089080" cy="20876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>
                  <a:alpha val="5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4149720"/>
            <a:ext cx="2089080" cy="2087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ent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149720"/>
            <a:ext cx="2089080" cy="2087640"/>
          </a:xfrm>
          <a:prstGeom prst="ellipse">
            <a:avLst/>
          </a:prstGeom>
          <a:gradFill rotWithShape="0">
            <a:gsLst>
              <a:gs pos="0">
                <a:srgbClr val="75752f"/>
              </a:gs>
              <a:gs pos="50000">
                <a:srgbClr val="ffff66">
                  <a:alpha val="62352"/>
                </a:srgbClr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ality of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ief Digression – History of Pari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10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s one of a number of city groups set up under the auspices of the UN – created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Comprises national agencies and international organisations working informally to exchange views,  practices, develop guidelines and recommendations on specific issues of statistical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Emphasises involvement of all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rk on working time measuremen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ations from Group cov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Hours actually wo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Definition of annual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Working time arran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be used as input to a document about issues and proposals for revision of 1962 Resolution on statistics of hours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ocument to be discussed at tripartite meeting of experts organised by 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658bc5"/>
              </a:buClr>
              <a:buSzPct val="6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put to 18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CLS tentatively scheduled for 20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9185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eratives for more internationally comparable statistics on working time measuremen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Labour input measures in the compilation of national accounts and for the compilation of comparable measures of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658bc5"/>
              </a:buClr>
              <a:buSzPct val="60000"/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Growing policy interest in working arrangements and promotion of a work-life balance – significant change in work  patterns in most (western)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pport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852640"/>
            <a:ext cx="1800360" cy="1656000"/>
          </a:xfrm>
          <a:prstGeom prst="ellipse">
            <a:avLst/>
          </a:prstGeom>
          <a:gradFill rotWithShape="0">
            <a:gsLst>
              <a:gs pos="0">
                <a:srgbClr val="2f7575"/>
              </a:gs>
              <a:gs pos="50000">
                <a:srgbClr val="66ffff"/>
              </a:gs>
              <a:gs pos="100000">
                <a:srgbClr val="2f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708280"/>
            <a:ext cx="1800000" cy="1655640"/>
          </a:xfrm>
          <a:prstGeom prst="ellipse">
            <a:avLst/>
          </a:prstGeom>
          <a:gradFill rotWithShape="0">
            <a:gsLst>
              <a:gs pos="0">
                <a:srgbClr val="2f7575"/>
              </a:gs>
              <a:gs pos="50000">
                <a:srgbClr val="66ffff"/>
              </a:gs>
              <a:gs pos="100000">
                <a:srgbClr val="2f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335772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vision of 1993 S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213000"/>
            <a:ext cx="171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vision of 1962 ICLS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2708280"/>
            <a:ext cx="1800360" cy="172728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b1b14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068640"/>
            <a:ext cx="187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ternational guidelines on working time 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19640" y="3573360"/>
            <a:ext cx="1009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410920" y="3573360"/>
            <a:ext cx="79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pport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27640" y="2852640"/>
            <a:ext cx="1800360" cy="1656000"/>
          </a:xfrm>
          <a:prstGeom prst="ellipse">
            <a:avLst/>
          </a:prstGeom>
          <a:gradFill rotWithShape="0">
            <a:gsLst>
              <a:gs pos="0">
                <a:srgbClr val="2f7575"/>
              </a:gs>
              <a:gs pos="50000">
                <a:srgbClr val="66ffff"/>
              </a:gs>
              <a:gs pos="100000">
                <a:srgbClr val="2f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708280"/>
            <a:ext cx="1800000" cy="1655640"/>
          </a:xfrm>
          <a:prstGeom prst="ellipse">
            <a:avLst/>
          </a:prstGeom>
          <a:gradFill rotWithShape="0">
            <a:gsLst>
              <a:gs pos="0">
                <a:srgbClr val="2f7575"/>
              </a:gs>
              <a:gs pos="50000">
                <a:srgbClr val="66ffff"/>
              </a:gs>
              <a:gs pos="100000">
                <a:srgbClr val="2f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72360" y="335772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vision of 1993 S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3213000"/>
            <a:ext cx="171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vision of 1962 ICLS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48000" y="2708280"/>
            <a:ext cx="1800360" cy="172728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b1b14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48000" y="3068640"/>
            <a:ext cx="187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ternational guidelines on working time 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19640" y="3573360"/>
            <a:ext cx="1009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410920" y="3573360"/>
            <a:ext cx="79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4724280"/>
            <a:ext cx="7848720" cy="1584360"/>
          </a:xfrm>
          <a:custGeom>
            <a:avLst/>
            <a:gdLst>
              <a:gd name="textAreaLeft" fmla="*/ 1373400 w 7848720"/>
              <a:gd name="textAreaRight" fmla="*/ 5690520 w 7848720"/>
              <a:gd name="textAreaTop" fmla="*/ 212040 h 1584360"/>
              <a:gd name="textAreaBottom" fmla="*/ 1372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aris Group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1628640"/>
            <a:ext cx="1800360" cy="1656000"/>
          </a:xfrm>
          <a:prstGeom prst="ellipse">
            <a:avLst/>
          </a:prstGeom>
          <a:gradFill rotWithShape="0">
            <a:gsLst>
              <a:gs pos="0">
                <a:srgbClr val="2f7575"/>
              </a:gs>
              <a:gs pos="50000">
                <a:srgbClr val="66ffff"/>
              </a:gs>
              <a:gs pos="100000">
                <a:srgbClr val="2f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72360" y="2060640"/>
            <a:ext cx="171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ational Accoun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1628640"/>
            <a:ext cx="1656000" cy="1584360"/>
          </a:xfrm>
          <a:prstGeom prst="ellipse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80000" y="486900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2349360"/>
            <a:ext cx="15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2133720"/>
            <a:ext cx="171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abour force statistici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4221000"/>
            <a:ext cx="7345440" cy="15130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9a73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ceptual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ing hours actually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time 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3573360"/>
            <a:ext cx="6494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3573360"/>
            <a:ext cx="6494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07:20:32Z</dcterms:created>
  <dc:creator>OECD</dc:creator>
  <dc:description/>
  <dc:language>en-US</dc:language>
  <cp:lastModifiedBy>Ward</cp:lastModifiedBy>
  <cp:lastPrinted>2002-06-09T08:53:54Z</cp:lastPrinted>
  <dcterms:modified xsi:type="dcterms:W3CDTF">2005-05-04T09:15:44Z</dcterms:modified>
  <cp:revision>69</cp:revision>
  <dc:subject/>
  <dc:title>DEVELOPMENT OF  MEI (OECD) GLOSSARY (DATA DICTIONARY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17308342</vt:r8>
  </property>
  <property fmtid="{D5CDD505-2E9C-101B-9397-08002B2CF9AE}" pid="3" name="_AuthorEmail">
    <vt:lpwstr>Denis.WARD@oecd.org</vt:lpwstr>
  </property>
  <property fmtid="{D5CDD505-2E9C-101B-9397-08002B2CF9AE}" pid="4" name="_AuthorEmailDisplayName">
    <vt:lpwstr>WARD Denis, STD/STES</vt:lpwstr>
  </property>
  <property fmtid="{D5CDD505-2E9C-101B-9397-08002B2CF9AE}" pid="5" name="_EmailSubject">
    <vt:lpwstr>Joint ECE/Eurostat/ILO Seminar on the Quality of Work </vt:lpwstr>
  </property>
</Properties>
</file>