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430-C87F-40E0-A583-F437E7A0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9DF-E84C-496A-A2C5-D79653AD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076-0CAA-4EB9-A612-A859977E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6DF-E27B-44BC-A05C-E60FC718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0E67-21E2-44A4-8058-821485DB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95C-EDAD-4328-A926-A37B49A6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86B-AC44-41B6-97A1-84AB3F33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897C-748E-4C77-AD5C-4FA9951C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BE88-F58E-4969-9F03-C5F8BD92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2063-9AF4-4CE4-9394-659A0118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038-5C09-40A6-8BA6-50498E87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86F-9C26-4653-BD52-8F8301FC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5A24-2735-4A0C-BB08-260DCA00EC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cial-economic population security of Ukraine</a:t>
            </a:r>
            <a:br>
              <a:rPr sz="4400"/>
            </a:b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sample su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14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S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57360" y="298440"/>
          <a:ext cx="7831080" cy="588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298440"/>
                    <a:ext cx="7831080" cy="58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209680" y="228600"/>
          <a:ext cx="548640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28600"/>
                    <a:ext cx="54864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80880" y="1295280"/>
          <a:ext cx="8471160" cy="481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471160" cy="48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62120" y="838080"/>
          <a:ext cx="7873920" cy="711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838080"/>
                    <a:ext cx="78739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11280" y="966960"/>
          <a:ext cx="8059680" cy="58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66960"/>
                    <a:ext cx="805968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762120" y="457200"/>
          <a:ext cx="7632720" cy="800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"/>
                    <a:ext cx="76327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Confidence level of respondents in work safe in the nearest 12 months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0040" y="5268960"/>
            <a:ext cx="430200" cy="263520"/>
          </a:xfrm>
          <a:prstGeom prst="rect">
            <a:avLst/>
          </a:prstGeom>
          <a:solidFill>
            <a:srgbClr val="ff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78200" y="3892680"/>
            <a:ext cx="430200" cy="1639800"/>
          </a:xfrm>
          <a:prstGeom prst="rect">
            <a:avLst/>
          </a:prstGeom>
          <a:solidFill>
            <a:srgbClr val="ff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73640" y="1836720"/>
            <a:ext cx="428400" cy="3695760"/>
          </a:xfrm>
          <a:prstGeom prst="rect">
            <a:avLst/>
          </a:prstGeom>
          <a:solidFill>
            <a:srgbClr val="ff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51440" y="5191200"/>
            <a:ext cx="428760" cy="341280"/>
          </a:xfrm>
          <a:prstGeom prst="rect">
            <a:avLst/>
          </a:prstGeom>
          <a:solidFill>
            <a:srgbClr val="ff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46880" y="2671920"/>
            <a:ext cx="428760" cy="2860560"/>
          </a:xfrm>
          <a:prstGeom prst="rect">
            <a:avLst/>
          </a:prstGeom>
          <a:solidFill>
            <a:srgbClr val="ff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30240" y="5160960"/>
            <a:ext cx="411480" cy="371520"/>
          </a:xfrm>
          <a:prstGeom prst="rect">
            <a:avLst/>
          </a:prstGeom>
          <a:solidFill>
            <a:srgbClr val="00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08400" y="3598920"/>
            <a:ext cx="428400" cy="1933560"/>
          </a:xfrm>
          <a:prstGeom prst="rect">
            <a:avLst/>
          </a:prstGeom>
          <a:solidFill>
            <a:srgbClr val="00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2040" y="2022480"/>
            <a:ext cx="412920" cy="3510000"/>
          </a:xfrm>
          <a:prstGeom prst="rect">
            <a:avLst/>
          </a:prstGeom>
          <a:solidFill>
            <a:srgbClr val="00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80200" y="5191200"/>
            <a:ext cx="430200" cy="341280"/>
          </a:xfrm>
          <a:prstGeom prst="rect">
            <a:avLst/>
          </a:prstGeom>
          <a:solidFill>
            <a:srgbClr val="00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5640" y="2825640"/>
            <a:ext cx="412560" cy="2706840"/>
          </a:xfrm>
          <a:prstGeom prst="rect">
            <a:avLst/>
          </a:prstGeom>
          <a:solidFill>
            <a:srgbClr val="00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0440" y="1542960"/>
            <a:ext cx="1800" cy="398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39680" y="553248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39680" y="50832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39680" y="464976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39680" y="420228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39680" y="375444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39680" y="332100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39680" y="28717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39680" y="242424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39680" y="1990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9680" y="154296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90440" y="5532480"/>
            <a:ext cx="7425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090440" y="553248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568600" y="553248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064040" y="553248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541840" y="553248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037280" y="553248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515440" y="553248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37920" y="4943520"/>
            <a:ext cx="240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2,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61840" y="151128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41,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89320" y="4867200"/>
            <a:ext cx="240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,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35440" y="234648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2,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0840" y="4835520"/>
            <a:ext cx="240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96600" y="327492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21,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19520" y="4867200"/>
            <a:ext cx="240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,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80720" y="356868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18,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51320" y="250200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0,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95360" y="169704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9,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3600" y="5423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3600" y="49752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1080" y="454176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1080" y="409428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1080" y="364500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1080" y="321300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1080" y="276372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1080" y="231624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1080" y="188280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1080" y="143496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4240" y="571500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Very s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440" y="5715000"/>
            <a:ext cx="30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S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89560" y="5670720"/>
            <a:ext cx="563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Not s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5670720"/>
            <a:ext cx="49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May b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33800" y="590220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I’ll lose wor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62000" y="5670720"/>
            <a:ext cx="86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Do not kno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4040" y="6195960"/>
            <a:ext cx="1495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49720" y="6303960"/>
            <a:ext cx="138240" cy="123840"/>
          </a:xfrm>
          <a:prstGeom prst="rect">
            <a:avLst/>
          </a:prstGeom>
          <a:solidFill>
            <a:srgbClr val="ff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95240" y="624348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54600" y="6303960"/>
            <a:ext cx="138240" cy="123840"/>
          </a:xfrm>
          <a:prstGeom prst="rect">
            <a:avLst/>
          </a:prstGeom>
          <a:solidFill>
            <a:srgbClr val="00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0120" y="624348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Satisfaction level of respondents by their work,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05920" cy="45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38080" y="5638680"/>
          <a:ext cx="8077320" cy="1067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5638680"/>
                    <a:ext cx="80773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311120" y="843120"/>
          <a:ext cx="7426440" cy="73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1120" y="843120"/>
                    <a:ext cx="7426440" cy="73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990720" y="1371600"/>
          <a:ext cx="7619760" cy="4597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371600"/>
                    <a:ext cx="761976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07:02:30Z</dcterms:created>
  <dc:creator>PC120004</dc:creator>
  <dc:description/>
  <dc:language>en-US</dc:language>
  <cp:lastModifiedBy>Oyunjargal</cp:lastModifiedBy>
  <cp:lastPrinted>2005-05-04T10:45:11Z</cp:lastPrinted>
  <dcterms:modified xsi:type="dcterms:W3CDTF">2005-05-11T10:22:00Z</dcterms:modified>
  <cp:revision>62</cp:revision>
  <dc:subject/>
  <dc:title>Заголовок слайда отсутствует</dc:title>
</cp:coreProperties>
</file>