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7.wmf" ContentType="image/x-wmf"/>
  <Override PartName="/ppt/media/image12.wmf" ContentType="image/x-wmf"/>
  <Override PartName="/ppt/media/image9.wmf" ContentType="image/x-wmf"/>
  <Override PartName="/ppt/media/image13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8"/>
          </p:nvPr>
        </p:nvSpPr>
        <p:spPr>
          <a:xfrm>
            <a:off x="0" y="8832600"/>
            <a:ext cx="303840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9"/>
          </p:nvPr>
        </p:nvSpPr>
        <p:spPr>
          <a:xfrm>
            <a:off x="3971880" y="8832600"/>
            <a:ext cx="303840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5A3A0CE-A035-4CA5-9D5F-11340F75DAE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Img"/>
          </p:nvPr>
        </p:nvSpPr>
        <p:spPr>
          <a:xfrm>
            <a:off x="1190160" y="70488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B556-DC8D-4A8C-BD1A-36993CEAB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E164-66CF-42CE-BCBE-D2522D41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EE7F-7C8C-41FE-8E43-1100527CC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1040-5DAD-43D8-B1A2-B0D67016E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BB56-A914-4411-AFEB-AECCCBFE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12D8-B1E3-4760-A6CE-7B4B3A19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A0F4-B8A6-4934-8196-CDC6E51F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F13D-BE22-4E26-8122-D87781E5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E23D-CA4A-4390-B237-248B7A73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B36C-EBDC-4A78-86DF-7784F521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07F4-76FB-47C0-92F2-B9A9EB5F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125D-C98F-4F7D-BAB7-7C2B40BA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70AD-C8D9-4C32-B396-ABB79697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6BBC-32A6-4EAC-9F2D-381BDC0A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F601-9B87-4EE9-A24A-CE5AAE74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F384-1B3D-4E8A-A77B-1EC217B2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3A4D-C0F0-4E41-BE88-E7A19DCB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5352-5629-4E35-B87A-79370CCC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614D-3785-4674-8FFC-CD028878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09CB-3E8D-4EFC-8E89-F04ED917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A5FB-8943-4A0D-830B-13C6D4A4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51BA-B5C7-4B4B-9AE6-E99113D5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1B48-4703-4A1C-951B-DB2392A3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B632-7AE5-4A73-9342-2F5EEA7E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68BB-2BF0-4262-912C-16BE085A31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006E-709F-4C43-8B8A-AC757A7462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hyperlink" Target="http://www.statcan.ca/english/research/11F0019MIE/11F0019MIE2005249.pdf" TargetMode="External"/><Relationship Id="rId4" Type="http://schemas.openxmlformats.org/officeDocument/2006/relationships/hyperlink" Target="http://www.statcan.ca/english/research/11F0019MIE/11F0019MIE2005249.pdf" TargetMode="External"/><Relationship Id="rId5" Type="http://schemas.openxmlformats.org/officeDocument/2006/relationships/hyperlink" Target="http://www.statcan.ca/english/research/11F0019MIE/11F0019MIE2005249.pdf" TargetMode="External"/><Relationship Id="rId6" Type="http://schemas.openxmlformats.org/officeDocument/2006/relationships/package" Target="../embeddings/oleObject1.xlsx"/><Relationship Id="rId7" Type="http://schemas.openxmlformats.org/officeDocument/2006/relationships/image" Target="../media/image13.wmf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4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5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6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7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8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9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2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20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atcan.ca/english/research/11F0019MIE/11F0019MIE2004218.pdf" TargetMode="External"/><Relationship Id="rId3" Type="http://schemas.openxmlformats.org/officeDocument/2006/relationships/hyperlink" Target="http://www.statcan.ca/english/research/11F0019MIE/11F0019MIE2004218.pdf" TargetMode="External"/><Relationship Id="rId4" Type="http://schemas.openxmlformats.org/officeDocument/2006/relationships/package" Target="../embeddings/oleObject1.xlsx"/><Relationship Id="rId5" Type="http://schemas.openxmlformats.org/officeDocument/2006/relationships/image" Target="../media/image21.wmf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hyperlink" Target="http://www.statcan.ca:8096/bsolc/english/bsolc?catno=75-001-X19950042459" TargetMode="External"/><Relationship Id="rId4" Type="http://schemas.openxmlformats.org/officeDocument/2006/relationships/hyperlink" Target="http://www.statcan.ca:8096/bsolc/english/bsolc?catno=75-001-X19950042459" TargetMode="External"/><Relationship Id="rId5" Type="http://schemas.openxmlformats.org/officeDocument/2006/relationships/package" Target="../embeddings/oleObject1.xlsx"/><Relationship Id="rId6" Type="http://schemas.openxmlformats.org/officeDocument/2006/relationships/image" Target="../media/image22.wmf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23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2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24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atcan.ca/cgi-bin/imdb/p2SV.pl?Function=getSurvey&amp;SDDS=4508&amp;lang=en&amp;db=IMDB&amp;dbg=f&amp;adm=8&amp;dis=2" TargetMode="External"/><Relationship Id="rId3" Type="http://schemas.openxmlformats.org/officeDocument/2006/relationships/package" Target="../embeddings/oleObject1.xlsx"/><Relationship Id="rId4" Type="http://schemas.openxmlformats.org/officeDocument/2006/relationships/image" Target="../media/image25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2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26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atcan.ca/cgi-bin/imdb/p2SV.pl?Function=getSurvey&amp;SDDS=2609&amp;lang=en&amp;db=IMDB&amp;dbg=f&amp;adm=8&amp;dis=2" TargetMode="External"/><Relationship Id="rId3" Type="http://schemas.openxmlformats.org/officeDocument/2006/relationships/package" Target="../embeddings/oleObject1.xlsx"/><Relationship Id="rId4" Type="http://schemas.openxmlformats.org/officeDocument/2006/relationships/image" Target="../media/image29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0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1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2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3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atcan.ca/cgi-bin/imdb/p2SV.pl?Function=getSurvey&amp;SDDS=3701&amp;lang=en&amp;db=IMDB&amp;dbg=f&amp;adm=8&amp;dis=2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" Target="slide31.xml"/><Relationship Id="rId5" Type="http://schemas.openxmlformats.org/officeDocument/2006/relationships/slide" Target="slide31.xml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5.xml"/><Relationship Id="rId3" Type="http://schemas.openxmlformats.org/officeDocument/2006/relationships/slide" Target="slide31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11.wmf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47080" y="404640"/>
            <a:ext cx="60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ahoma"/>
              </a:rPr>
              <a:t>Measuring the Quality of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ahoma"/>
              </a:rPr>
              <a:t>Work in Canada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635280" y="1916280"/>
            <a:ext cx="5205600" cy="4318920"/>
            <a:chOff x="3635280" y="1916280"/>
            <a:chExt cx="5205600" cy="431892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4734720" y="2168640"/>
              <a:ext cx="3089520" cy="320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4" name=""/>
            <p:cNvGrpSpPr/>
            <p:nvPr/>
          </p:nvGrpSpPr>
          <p:grpSpPr>
            <a:xfrm>
              <a:off x="3635280" y="1916280"/>
              <a:ext cx="5205600" cy="4318920"/>
              <a:chOff x="3635280" y="1916280"/>
              <a:chExt cx="5205600" cy="4318920"/>
            </a:xfrm>
          </p:grpSpPr>
          <p:pic>
            <p:nvPicPr>
              <p:cNvPr id="9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732440" y="2601360"/>
                <a:ext cx="1108440" cy="116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033160" y="4932720"/>
                <a:ext cx="1252800" cy="130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635280" y="3218400"/>
                <a:ext cx="915840" cy="1302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98" name=""/>
              <p:cNvGraphicFramePr/>
              <p:nvPr/>
            </p:nvGraphicFramePr>
            <p:xfrm>
              <a:off x="4599360" y="1916280"/>
              <a:ext cx="2940120" cy="310464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99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4599360" y="1916280"/>
                        <a:ext cx="2940120" cy="3104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153920" y="4726800"/>
                <a:ext cx="1108440" cy="1439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1" name=""/>
          <p:cNvSpPr/>
          <p:nvPr/>
        </p:nvSpPr>
        <p:spPr>
          <a:xfrm>
            <a:off x="75600" y="2637000"/>
            <a:ext cx="4384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G Times (W1)"/>
              </a:rPr>
              <a:t>Geoff Bowlb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G Times (W1)"/>
              </a:rPr>
              <a:t>Economist,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G Times (W1)"/>
              </a:rPr>
              <a:t>Labour Force Surve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G Times (W1)"/>
              </a:rPr>
              <a:t>Statistics Canad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G Times (W1)"/>
              </a:rPr>
              <a:t>ECE/Eurostat/IL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G Times (W1)"/>
              </a:rPr>
              <a:t>Seminar on Quality of Wor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G Times (W1)"/>
              </a:rPr>
              <a:t>May 12,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33200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Adequate earnings and productive work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308640"/>
            <a:ext cx="8964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400" spc="-1" strike="noStrike">
                <a:solidFill>
                  <a:srgbClr val="dcfffc"/>
                </a:solidFill>
                <a:latin typeface="CG Times (W1)"/>
              </a:rPr>
              <a:t>Sources: </a:t>
            </a:r>
            <a:r>
              <a:rPr b="0" lang="en-US" sz="1400" spc="-1" strike="noStrike" u="sng">
                <a:solidFill>
                  <a:srgbClr val="99ccff"/>
                </a:solidFill>
                <a:uFillTx/>
                <a:latin typeface="CG Times (W1)"/>
                <a:hlinkClick r:id="rId2" action="ppaction://hlinksldjump"/>
              </a:rPr>
              <a:t>Labour Force Survey (2004), </a:t>
            </a:r>
            <a:r>
              <a:rPr b="1" i="1" lang="en-US" sz="1400" spc="-1" strike="noStrike">
                <a:solidFill>
                  <a:srgbClr val="dcfffc"/>
                </a:solidFill>
                <a:latin typeface="CG Times (W1)"/>
              </a:rPr>
              <a:t>Survey of Work History (1981) – from </a:t>
            </a:r>
            <a:r>
              <a:rPr b="0" lang="en-US" sz="1400" spc="-1" strike="noStrike" u="sng">
                <a:solidFill>
                  <a:srgbClr val="99ccff"/>
                </a:solidFill>
                <a:uFillTx/>
                <a:latin typeface="CG Times (W1)"/>
                <a:hlinkClick r:id="rId3"/>
              </a:rPr>
              <a:t>Morissette</a:t>
            </a:r>
            <a:r>
              <a:rPr b="0" lang="en-US" sz="1400" spc="-1" strike="noStrike" u="sng">
                <a:solidFill>
                  <a:srgbClr val="99ccff"/>
                </a:solidFill>
                <a:uFillTx/>
                <a:latin typeface="CG Times (W1)"/>
                <a:hlinkClick r:id="rId4"/>
              </a:rPr>
              <a:t> and Picot (2005)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CG Times (W1)"/>
                <a:hlinkClick r:id="rId5"/>
              </a:rPr>
              <a:t>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44520" y="1916280"/>
          <a:ext cx="8799480" cy="432900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4520" y="1916280"/>
                    <a:ext cx="8799480" cy="43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0" y="0"/>
            <a:ext cx="133200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7960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Adequate earnings and productive work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308640"/>
            <a:ext cx="867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CG Times (W1)"/>
                <a:hlinkClick r:id="rId2" action="ppaction://hlinksldjump"/>
              </a:rPr>
              <a:t>Labour Force Survey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0" y="2052720"/>
          <a:ext cx="8799480" cy="4329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052720"/>
                    <a:ext cx="8799480" cy="43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33200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079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Adequate earnings and productive work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308640"/>
            <a:ext cx="867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CG Times (W1)"/>
                <a:hlinkClick r:id="rId2" action="ppaction://hlinksldjump"/>
              </a:rPr>
              <a:t>2003 Labour Force Survey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44520" y="2060640"/>
          <a:ext cx="8799480" cy="4329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520" y="2060640"/>
                    <a:ext cx="8799480" cy="43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126000" y="2852640"/>
            <a:ext cx="4453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fffc"/>
                </a:solidFill>
                <a:latin typeface="CG Times (W1)"/>
              </a:rPr>
              <a:t>Most minimum wage worker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fffc"/>
                </a:solidFill>
                <a:latin typeface="CG Times (W1)"/>
              </a:rPr>
              <a:t>in Canada are youths living a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fffc"/>
                </a:solidFill>
                <a:latin typeface="CG Times (W1)"/>
              </a:rPr>
              <a:t>home with their parents –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fffc"/>
                </a:solidFill>
                <a:latin typeface="CG Times (W1)"/>
              </a:rPr>
              <a:t>Should the share of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fffc"/>
                </a:solidFill>
                <a:latin typeface="CG Times (W1)"/>
              </a:rPr>
              <a:t>employment at les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fffc"/>
                </a:solidFill>
                <a:latin typeface="CG Times (W1)"/>
              </a:rPr>
              <a:t>than half median wage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fffc"/>
                </a:solidFill>
                <a:latin typeface="CG Times (W1)"/>
              </a:rPr>
              <a:t>be a “decent job” indicator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33200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79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Decent hour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308640"/>
            <a:ext cx="867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CG Times (W1)"/>
                <a:hlinkClick r:id="rId2" action="ppaction://hlinksldjump"/>
              </a:rPr>
              <a:t>Labour Force Survey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1916280"/>
          <a:ext cx="8799480" cy="4329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916280"/>
                    <a:ext cx="8799480" cy="43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40328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79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Decent hour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6308640"/>
            <a:ext cx="867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CG Times (W1)"/>
                <a:hlinkClick r:id="rId2" action="ppaction://hlinksldjump"/>
              </a:rPr>
              <a:t>Labour Force Survey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44520" y="1989000"/>
          <a:ext cx="8799480" cy="432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520" y="1989000"/>
                    <a:ext cx="87994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40328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7960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Decent hour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6308640"/>
            <a:ext cx="867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CG Times (W1)"/>
                <a:hlinkClick r:id="rId2" action="ppaction://hlinksldjump"/>
              </a:rPr>
              <a:t>Labour Force Survey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44520" y="1844640"/>
          <a:ext cx="8799480" cy="4329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520" y="1844640"/>
                    <a:ext cx="8799480" cy="43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40328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79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Decent hour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6308640"/>
            <a:ext cx="867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CG Times (W1)"/>
                <a:hlinkClick r:id="rId2" action="ppaction://hlinksldjump"/>
              </a:rPr>
              <a:t>Labour Force Survey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44520" y="1989000"/>
          <a:ext cx="8799480" cy="432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520" y="1989000"/>
                    <a:ext cx="87994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40328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79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Decent hour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308640"/>
            <a:ext cx="867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CG Times (W1)"/>
                <a:hlinkClick r:id="rId2" action="ppaction://hlinksldjump"/>
              </a:rPr>
              <a:t>2002 Workplace and Employees Survey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44520" y="1989000"/>
          <a:ext cx="8799480" cy="432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520" y="1989000"/>
                    <a:ext cx="87994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40328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79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Job Stability and Security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6308640"/>
            <a:ext cx="867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Longitudinal Worker File – from 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CG Times (W1)"/>
                <a:hlinkClick r:id="rId2"/>
              </a:rPr>
              <a:t>Morissette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CG Times (W1)"/>
                <a:hlinkClick r:id="rId3"/>
              </a:rPr>
              <a:t> (2004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44520" y="1989000"/>
          <a:ext cx="8799480" cy="4329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4520" y="1989000"/>
                    <a:ext cx="87994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40328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79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Job Stability and Security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6308640"/>
            <a:ext cx="867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600" spc="-1" strike="noStrike">
                <a:solidFill>
                  <a:srgbClr val="dcfffc"/>
                </a:solidFill>
                <a:latin typeface="CG Times (W1)"/>
              </a:rPr>
              <a:t>Source: </a:t>
            </a:r>
            <a:r>
              <a:rPr b="0" lang="en-US" sz="1600" spc="-1" strike="noStrike" u="sng">
                <a:solidFill>
                  <a:srgbClr val="99ccff"/>
                </a:solidFill>
                <a:uFillTx/>
                <a:latin typeface="CG Times (W1)"/>
                <a:hlinkClick r:id="rId2" action="ppaction://hlinksldjump"/>
              </a:rPr>
              <a:t>Labour Force Survey </a:t>
            </a:r>
            <a:r>
              <a:rPr b="1" i="1" lang="en-US" sz="1600" spc="-1" strike="noStrike">
                <a:solidFill>
                  <a:srgbClr val="dcfffc"/>
                </a:solidFill>
                <a:latin typeface="CG Times (W1)"/>
              </a:rPr>
              <a:t>– using “non-standard” definition from </a:t>
            </a:r>
            <a:r>
              <a:rPr b="0" lang="en-US" sz="1600" spc="-1" strike="noStrike" u="sng">
                <a:solidFill>
                  <a:srgbClr val="99ccff"/>
                </a:solidFill>
                <a:uFillTx/>
                <a:latin typeface="CG Times (W1)"/>
                <a:hlinkClick r:id="rId3"/>
              </a:rPr>
              <a:t>Krahn</a:t>
            </a:r>
            <a:r>
              <a:rPr b="0" lang="en-US" sz="1600" spc="-1" strike="noStrike" u="sng">
                <a:solidFill>
                  <a:srgbClr val="99ccff"/>
                </a:solidFill>
                <a:uFillTx/>
                <a:latin typeface="CG Times (W1)"/>
                <a:hlinkClick r:id="rId4"/>
              </a:rPr>
              <a:t> (1995)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44520" y="1916280"/>
          <a:ext cx="8799480" cy="4329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520" y="1916280"/>
                    <a:ext cx="8799480" cy="43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2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0328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5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ahoma"/>
              </a:rPr>
              <a:t>The Quality of Work in Canada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3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o cover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Key sources of data on quality of work in Canada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 review of the data using “decent work” frame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Brief overview of survey metho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526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Job Stability and Security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6308640"/>
            <a:ext cx="867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CG Times (W1)"/>
                <a:hlinkClick r:id="rId2" action="ppaction://hlinksldjump"/>
              </a:rPr>
              <a:t>Labour Force Survey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44520" y="1989000"/>
          <a:ext cx="8799480" cy="432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520" y="1989000"/>
                    <a:ext cx="87994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40328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47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Job Stability and Security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6308640"/>
            <a:ext cx="867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CG Times (W1)"/>
                <a:hlinkClick r:id="rId2" action="ppaction://hlinksldjump"/>
              </a:rPr>
              <a:t>2002 Workplace and Employee Survey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0" y="1773360"/>
          <a:ext cx="8799480" cy="4545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73360"/>
                    <a:ext cx="8799480" cy="45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40328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Fair treatment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6308640"/>
            <a:ext cx="867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CG Times (W1)"/>
                <a:hlinkClick r:id="rId2"/>
              </a:rPr>
              <a:t>2002 Ethnic Diversity Survey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0" y="1916280"/>
          <a:ext cx="8799480" cy="4329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916280"/>
                    <a:ext cx="8799480" cy="43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33200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Fair treatment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6308640"/>
            <a:ext cx="867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CG Times (W1)"/>
                <a:hlinkClick r:id="rId2" action="ppaction://hlinksldjump"/>
              </a:rPr>
              <a:t>2002 Workplace and Employee Survey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44520" y="1989000"/>
          <a:ext cx="8799480" cy="432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520" y="1989000"/>
                    <a:ext cx="87994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33200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Safe work environment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630864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Association of Worker’s Compensation Boards of Canada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  <p:graphicFrame>
        <p:nvGraphicFramePr>
          <p:cNvPr id="231" name=""/>
          <p:cNvGraphicFramePr/>
          <p:nvPr/>
        </p:nvGraphicFramePr>
        <p:xfrm>
          <a:off x="179280" y="1989000"/>
          <a:ext cx="8799480" cy="432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989000"/>
                    <a:ext cx="87994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239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Safe work environment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630864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Association of Worker’s Compensation Boards of Canada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  <p:graphicFrame>
        <p:nvGraphicFramePr>
          <p:cNvPr id="237" name=""/>
          <p:cNvGraphicFramePr/>
          <p:nvPr/>
        </p:nvGraphicFramePr>
        <p:xfrm>
          <a:off x="108000" y="1989000"/>
          <a:ext cx="8799480" cy="4400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1989000"/>
                    <a:ext cx="879948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3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Social Protection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6308640"/>
            <a:ext cx="867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CG Times (W1)"/>
                <a:hlinkClick r:id="rId2"/>
              </a:rPr>
              <a:t>Pension Plans in Canada Survey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and Labour Force Survey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1916280"/>
          <a:ext cx="8799480" cy="4465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916280"/>
                    <a:ext cx="8799480" cy="44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33200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1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Social Protection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630864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Employment Insurance Coverage Survey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0" y="2052720"/>
          <a:ext cx="8799480" cy="4329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052720"/>
                    <a:ext cx="8799480" cy="43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33200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Combining work and family lif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630864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1998 General Social Survey (Time Use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44520" y="2060640"/>
          <a:ext cx="8799480" cy="4329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4520" y="2060640"/>
                    <a:ext cx="8799480" cy="43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33200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Combining work and family lif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630864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1992 and 1998 General Social Survey (Time Use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44520" y="1844640"/>
          <a:ext cx="8799480" cy="4545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4520" y="1844640"/>
                    <a:ext cx="8799480" cy="45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33200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796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ahoma"/>
              </a:rPr>
              <a:t>The Quality of Work in Canada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34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trong labour statistics infrastructure in Canad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Focus on quantifying work but significan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ount of data to qualify “work”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084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ccecff"/>
              </a:solidFill>
              <a:latin typeface="Tahoma"/>
            </a:endParaRPr>
          </a:p>
          <a:p>
            <a:pPr lvl="2" marL="1108440" indent="-221400">
              <a:lnSpc>
                <a:spcPct val="100000"/>
              </a:lnSpc>
              <a:spcBef>
                <a:spcPts val="45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o surveys or survey framework designed with sole purpose of measuring job quality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2" marL="110844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ccecff"/>
              </a:solidFill>
              <a:latin typeface="Tahoma"/>
            </a:endParaRPr>
          </a:p>
          <a:p>
            <a:pPr lvl="2" marL="1108440" indent="-221400">
              <a:lnSpc>
                <a:spcPct val="100000"/>
              </a:lnSpc>
              <a:spcBef>
                <a:spcPts val="45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o standard that defines quality of work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2" marL="110844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ccecff"/>
              </a:solidFill>
              <a:latin typeface="Tahoma"/>
            </a:endParaRPr>
          </a:p>
          <a:p>
            <a:pPr lvl="2" marL="1108440" indent="-221400">
              <a:lnSpc>
                <a:spcPct val="100000"/>
              </a:lnSpc>
              <a:spcBef>
                <a:spcPts val="45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owever, many data sources that effectively comprise a system that covers major aspects of job quality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526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Social dialogue and participation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630864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Labour Force Survey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0" y="1844640"/>
          <a:ext cx="8799480" cy="4537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44640"/>
                    <a:ext cx="879948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40328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239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ahoma"/>
              </a:rPr>
              <a:t>Survey Method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Labour Force Survey: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arge monthly household survey (52,000 households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ulti-stage, stratified sample: dwellings drawn from listing of neighborhoods (clusters) selected for sample from homogeneous geographic strata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sample for six months, 1/6 rotate in/out each month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verage in south of Canada (10 provinces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argets all people 15 and older, except full-time members of regular armed forces, institutional population, people living on Indian Reserve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ahoma"/>
            </a:endParaRPr>
          </a:p>
          <a:p>
            <a:pPr lvl="1" marL="623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For more information see: 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statcan.ca</a:t>
            </a: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0328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ahoma"/>
              </a:rPr>
              <a:t>Survey Method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23640" y="2060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Workplace and Employee Survey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nual survey of 20,000+ employees linked to a survey of their employers (6,000+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mple of employers drawn from business registry, list of employees provided to StatsCan for employee survey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ongitudinal: Employees in for 2 years, employers for 8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verage in south of Canada (10 provinces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argets all employees and their employers, except in: agriculture, fishing, hunting, trapping, religious organizations, public administration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For more information see: www.statcan.ca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ahoma"/>
              </a:rPr>
              <a:t>Survey Method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General Social Survey (Time use)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ime use topic of GSS in 1986, 1992, 1998, 2005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,749 respondents in 1998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ndom digit dialing (telephone frame) to gather information collected in diaries given to respondent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verage in south of Canada (10 provinces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argets all people 15 and older, except institutional population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For more information see: www.statcan.ca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796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ahoma"/>
              </a:rPr>
              <a:t>Survey Method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urvey of Labour and Income Dynamic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nual survey of people in 30,000+ household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lected from Labour Force Survey sample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ongitudinal – 2 panels of 15,000+ households in sample for six consecutive year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verage in south of Canada (10 provinces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argets all people 16 and older, except full-time members of regular armed forces, institutional population, people living on Indian Reserve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For more information see: www.statcan.ca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ahoma"/>
              </a:rPr>
              <a:t>Survey Method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ensus of Population: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ousehold census conducted every five year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5% of households selected for “long-form”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ll coverage in Canada (10 provinces + 3 northern territories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dified de jure population censu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For more information see: www.statcan.c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ahoma"/>
              </a:rPr>
              <a:t>Survey Method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0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National Work Injuries Statistics Program:</a:t>
            </a:r>
            <a:endParaRPr b="0" lang="en-US" sz="3400" spc="-1" strike="noStrike">
              <a:solidFill>
                <a:srgbClr val="ccec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un by Association of Worker’s Compensation Boards of Canada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ata derived from administrative records for time-loss injuries and fatalities accepted by provincially-run Worker’s Compensation boards or commission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ot included: minor injuries not reported to a WC board; injuries to the self-employed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636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526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ahoma"/>
              </a:rPr>
              <a:t>The Quality of Work in Canada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762200"/>
            <a:ext cx="648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Main sources of data on quality of work: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abour Force Survey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kplace and Employee Survey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eneral Social Survey (Time use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urvey of Labour and Income Dynamic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mployment Insurance Coverage Survey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ensu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ational Work Injuries 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stics Program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500280"/>
            <a:ext cx="4362840" cy="870840"/>
          </a:xfrm>
          <a:custGeom>
            <a:avLst/>
            <a:gdLst>
              <a:gd name="textAreaLeft" fmla="*/ 0 w 4362840"/>
              <a:gd name="textAreaRight" fmla="*/ 1575360 w 4362840"/>
              <a:gd name="textAreaTop" fmla="*/ 22680 h 870840"/>
              <a:gd name="textAreaBottom" fmla="*/ 848160 h 87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fffc"/>
                </a:solidFill>
                <a:latin typeface="CG Times (W1)"/>
              </a:rPr>
              <a:t>Statistic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fffc"/>
                </a:solidFill>
                <a:latin typeface="CG Times (W1)"/>
              </a:rPr>
              <a:t>Canad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56360" y="2781360"/>
            <a:ext cx="288720" cy="2232000"/>
          </a:xfrm>
          <a:custGeom>
            <a:avLst/>
            <a:gdLst>
              <a:gd name="textAreaLeft" fmla="*/ 0 w 288720"/>
              <a:gd name="textAreaRight" fmla="*/ 104040 w 28872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6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03640" y="5159520"/>
            <a:ext cx="37436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CG Times (W1)"/>
              </a:rPr>
              <a:t>Association of Worker’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CG Times (W1)"/>
              </a:rPr>
              <a:t>Compensation Board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CG Times (W1)"/>
              </a:rPr>
              <a:t>of Canad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284720" y="5734080"/>
            <a:ext cx="504720" cy="0"/>
          </a:xfrm>
          <a:prstGeom prst="line">
            <a:avLst/>
          </a:prstGeom>
          <a:ln w="50760">
            <a:solidFill>
              <a:srgbClr val="cce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9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ahoma"/>
              </a:rPr>
              <a:t>The Quality of Work in Canada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50920" y="1981080"/>
          <a:ext cx="8497800" cy="4621320"/>
        </p:xfrm>
        <a:graphic>
          <a:graphicData uri="http://schemas.openxmlformats.org/drawingml/2006/table">
            <a:tbl>
              <a:tblPr/>
              <a:tblGrid>
                <a:gridCol w="5641920"/>
                <a:gridCol w="2855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cfeb9"/>
                          </a:solidFill>
                          <a:latin typeface="Tahoma"/>
                        </a:rPr>
                        <a:t>10 aspects of decent work (ILO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afd00"/>
                          </a:solidFill>
                          <a:latin typeface="Tahoma"/>
                        </a:rPr>
                        <a:t>Data source(s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cfeb9"/>
                          </a:solidFill>
                          <a:latin typeface="Tahoma"/>
                        </a:rPr>
                        <a:t>1) Employment opportunitie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Tahoma"/>
                        </a:rPr>
                        <a:t>LFS, Censu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cfeb9"/>
                          </a:solidFill>
                          <a:latin typeface="Tahoma"/>
                        </a:rPr>
                        <a:t>2) Unacceptable work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Tahoma"/>
                        </a:rPr>
                        <a:t>N/A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cfeb9"/>
                          </a:solidFill>
                          <a:latin typeface="Tahoma"/>
                        </a:rPr>
                        <a:t>3) Adequate earnings and productive work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Tahoma"/>
                        </a:rPr>
                        <a:t>LFS, SLID, Censu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cfeb9"/>
                          </a:solidFill>
                          <a:latin typeface="Tahoma"/>
                        </a:rPr>
                        <a:t>4) Decent hour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Tahoma"/>
                        </a:rPr>
                        <a:t>LFS, WE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cfeb9"/>
                          </a:solidFill>
                          <a:latin typeface="Tahoma"/>
                        </a:rPr>
                        <a:t>5) Stability and security of work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Tahoma"/>
                        </a:rPr>
                        <a:t>LFS, WE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cfeb9"/>
                          </a:solidFill>
                          <a:latin typeface="Tahoma"/>
                        </a:rPr>
                        <a:t>6) Fair treatment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Tahoma"/>
                        </a:rPr>
                        <a:t>WE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cfeb9"/>
                          </a:solidFill>
                          <a:latin typeface="Tahoma"/>
                        </a:rPr>
                        <a:t>7) Safe work environment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Tahoma"/>
                        </a:rPr>
                        <a:t>NWISP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cfeb9"/>
                          </a:solidFill>
                          <a:latin typeface="Tahoma"/>
                        </a:rPr>
                        <a:t>8) Social protection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Tahoma"/>
                        </a:rPr>
                        <a:t>WES, EI Coverage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cfeb9"/>
                          </a:solidFill>
                          <a:latin typeface="Tahoma"/>
                        </a:rPr>
                        <a:t>9) Combining work and family life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Tahoma"/>
                        </a:rPr>
                        <a:t>GSS Time Use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cfeb9"/>
                          </a:solidFill>
                          <a:latin typeface="Tahoma"/>
                        </a:rPr>
                        <a:t>10) Social dialogue and participation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Tahoma"/>
                        </a:rPr>
                        <a:t>LF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79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Employment Opportunities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0" y="1916280"/>
          <a:ext cx="8799480" cy="4752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16280"/>
                    <a:ext cx="8799480" cy="47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>
            <a:hlinkClick r:id="rId4" action="ppaction://hlinksldjump"/>
          </p:cNvPr>
          <p:cNvSpPr/>
          <p:nvPr/>
        </p:nvSpPr>
        <p:spPr>
          <a:xfrm>
            <a:off x="235080" y="6400800"/>
            <a:ext cx="323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CG Times (W1)"/>
                <a:hlinkClick r:id="rId5" action="ppaction://hlinksldjump"/>
              </a:rPr>
              <a:t>Labour Force Survey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33200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52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Employment Opportunities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325800" y="6473880"/>
            <a:ext cx="62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2003 Labour Force Surveys, OECD Factbook 2005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44520" y="1916280"/>
          <a:ext cx="8799480" cy="4329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4520" y="1916280"/>
                    <a:ext cx="8799480" cy="43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33200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239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Employment Opportunities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5920" y="6491160"/>
            <a:ext cx="639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s: 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CG Times (W1)"/>
                <a:hlinkClick r:id="rId2" action="ppaction://hlinksldjump"/>
              </a:rPr>
              <a:t>2001 Census of Population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, 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CG Times (W1)"/>
                <a:hlinkClick r:id="rId3" action="ppaction://hlinksldjump"/>
              </a:rPr>
              <a:t>Labour Force Survey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916280"/>
          <a:ext cx="8785080" cy="45370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1916280"/>
                    <a:ext cx="878508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33200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796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Tahoma"/>
              </a:rPr>
              <a:t>The Quality of Work in Canada:</a:t>
            </a:r>
            <a:br>
              <a:rPr sz="3500"/>
            </a:b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Adequate earnings and productive work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8480" y="6491160"/>
            <a:ext cx="3291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 </a:t>
            </a:r>
            <a:r>
              <a:rPr b="1" i="1" lang="en-US" sz="1800" spc="-1" strike="noStrike">
                <a:solidFill>
                  <a:srgbClr val="dcfffc"/>
                </a:solidFill>
                <a:latin typeface="CG Times (W1)"/>
              </a:rPr>
              <a:t>Source: 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CG Times (W1)"/>
                <a:hlinkClick r:id="rId2" action="ppaction://hlinksldjump"/>
              </a:rPr>
              <a:t>Labour Force Survey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0" y="2565360"/>
          <a:ext cx="8799480" cy="3968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65360"/>
                    <a:ext cx="879948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15480" y="1844640"/>
            <a:ext cx="90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fffc"/>
                </a:solidFill>
                <a:latin typeface="CG Times (W1)"/>
              </a:rPr>
              <a:t>Hourly wages stable, little change in proportion of workers in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fffc"/>
                </a:solidFill>
                <a:latin typeface="CG Times (W1)"/>
              </a:rPr>
              <a:t>low-paid or well-paid jobs in Canad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332000" cy="1628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66ff"/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10T13:44:58Z</dcterms:created>
  <dc:creator>Geoff Bowlby</dc:creator>
  <dc:description/>
  <dc:language>en-US</dc:language>
  <cp:lastModifiedBy>Geoff "Data Goober" Bowlby</cp:lastModifiedBy>
  <cp:lastPrinted>2000-04-15T20:44:12Z</cp:lastPrinted>
  <dcterms:modified xsi:type="dcterms:W3CDTF">2005-05-06T21:13:03Z</dcterms:modified>
  <cp:revision>211</cp:revision>
  <dc:subject/>
  <dc:title>Labour Force Survey Module of Employment and Unemployment Cour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83078201</vt:r8>
  </property>
  <property fmtid="{D5CDD505-2E9C-101B-9397-08002B2CF9AE}" pid="3" name="_AuthorEmail">
    <vt:lpwstr>Geoff.Bowlby@a.statcan.ca</vt:lpwstr>
  </property>
  <property fmtid="{D5CDD505-2E9C-101B-9397-08002B2CF9AE}" pid="4" name="_AuthorEmailDisplayName">
    <vt:lpwstr>Bowlby, Geoff - LSD/DST</vt:lpwstr>
  </property>
  <property fmtid="{D5CDD505-2E9C-101B-9397-08002B2CF9AE}" pid="5" name="_EmailSubject">
    <vt:lpwstr>Conference on Quality of Work</vt:lpwstr>
  </property>
</Properties>
</file>