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DFAD2D-FE49-4726-BAC4-19CE3AC6ED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Img"/>
          </p:nvPr>
        </p:nvSpPr>
        <p:spPr>
          <a:xfrm>
            <a:off x="119016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650-5989-4F31-AED5-4D70A147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5A1-8E2D-471B-8A5D-D7C31AB7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7C2-1030-4713-BF18-3D813ACB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61F-B2AB-4E89-8B9B-00DD63B2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A3B5-AB35-47FB-93F6-45510807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2746-66B9-43A6-8AD5-3A050070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F3AB-572C-4D8A-8F9D-68F59212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F1F1-C8A7-4A3E-97A5-ED3AC5BA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4A12-67EF-4B01-A41E-53B08D60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4A8B-8106-4C7B-8E5B-FAAFE1CF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A17A-F2A8-4080-8B71-78F98BA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A78-5092-46FE-9711-901EAEB8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288-8B46-4EC7-87A6-9BA0967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D7E1-629B-44C3-B55E-2996A53F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C863-1405-4E1C-AEC2-2513CEF0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DD05-49E5-4654-83D3-6F050409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F1E0-AF6A-4D1D-AF85-8F9CC3F7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EB7-824F-4E46-ABD9-C3D94625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05F-7E6C-4DF9-B6B4-D45415E4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3C5-63B1-44E9-ABF1-BB36B1F1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B10-AFD2-4B39-ABC6-919DB7B6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0FA-7AA6-4B87-A9CE-7930C23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F59-F19B-4663-9ED5-17014314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FD5-9708-4864-B3AF-BC32D9E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01C7-1398-4861-8E2F-FCE92014C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550B-08E1-468B-9669-A31127FC1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hyperlink" Target="http://www.statcan.ca/english/research/11F0019MIE/11F0019MIE2005249.pdf" TargetMode="External"/><Relationship Id="rId4" Type="http://schemas.openxmlformats.org/officeDocument/2006/relationships/hyperlink" Target="http://www.statcan.ca/english/research/11F0019MIE/11F0019MIE2005249.pdf" TargetMode="External"/><Relationship Id="rId5" Type="http://schemas.openxmlformats.org/officeDocument/2006/relationships/hyperlink" Target="http://www.statcan.ca/english/research/11F0019MIE/11F0019MIE2005249.pdf" TargetMode="External"/><Relationship Id="rId6" Type="http://schemas.openxmlformats.org/officeDocument/2006/relationships/package" Target="../embeddings/oleObject1.xlsx"/><Relationship Id="rId7" Type="http://schemas.openxmlformats.org/officeDocument/2006/relationships/image" Target="../media/image13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9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20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tcan.ca/english/research/11F0019MIE/11F0019MIE2004218.pdf" TargetMode="External"/><Relationship Id="rId3" Type="http://schemas.openxmlformats.org/officeDocument/2006/relationships/hyperlink" Target="http://www.statcan.ca/english/research/11F0019MIE/11F0019MIE2004218.pdf" TargetMode="External"/><Relationship Id="rId4" Type="http://schemas.openxmlformats.org/officeDocument/2006/relationships/package" Target="../embeddings/oleObject1.xlsx"/><Relationship Id="rId5" Type="http://schemas.openxmlformats.org/officeDocument/2006/relationships/image" Target="../media/image21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hyperlink" Target="http://www.statcan.ca:8096/bsolc/english/bsolc?catno=75-001-X19950042459" TargetMode="External"/><Relationship Id="rId4" Type="http://schemas.openxmlformats.org/officeDocument/2006/relationships/hyperlink" Target="http://www.statcan.ca:8096/bsolc/english/bsolc?catno=75-001-X19950042459" TargetMode="External"/><Relationship Id="rId5" Type="http://schemas.openxmlformats.org/officeDocument/2006/relationships/package" Target="../embeddings/oleObject1.xlsx"/><Relationship Id="rId6" Type="http://schemas.openxmlformats.org/officeDocument/2006/relationships/image" Target="../media/image22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tcan.ca/cgi-bin/imdb/p2SV.pl?Function=getSurvey&amp;SDDS=4508&amp;lang=en&amp;db=IMDB&amp;dbg=f&amp;adm=8&amp;dis=2" TargetMode="External"/><Relationship Id="rId3" Type="http://schemas.openxmlformats.org/officeDocument/2006/relationships/package" Target="../embeddings/oleObject1.xlsx"/><Relationship Id="rId4" Type="http://schemas.openxmlformats.org/officeDocument/2006/relationships/image" Target="../media/image25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26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tcan.ca/cgi-bin/imdb/p2SV.pl?Function=getSurvey&amp;SDDS=2609&amp;lang=en&amp;db=IMDB&amp;dbg=f&amp;adm=8&amp;dis=2" TargetMode="External"/><Relationship Id="rId3" Type="http://schemas.openxmlformats.org/officeDocument/2006/relationships/package" Target="../embeddings/oleObject1.xlsx"/><Relationship Id="rId4" Type="http://schemas.openxmlformats.org/officeDocument/2006/relationships/image" Target="../media/image29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tcan.ca/cgi-bin/imdb/p2SV.pl?Function=getSurvey&amp;SDDS=3701&amp;lang=en&amp;db=IMDB&amp;dbg=f&amp;adm=8&amp;dis=2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1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47080" y="404640"/>
            <a:ext cx="60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Measuring the Quality of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Work in Canad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1916280"/>
            <a:ext cx="5205600" cy="4318920"/>
            <a:chOff x="3635280" y="1916280"/>
            <a:chExt cx="5205600" cy="43189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4734720" y="2168640"/>
              <a:ext cx="3089520" cy="320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3635280" y="1916280"/>
              <a:ext cx="5205600" cy="4318920"/>
              <a:chOff x="3635280" y="1916280"/>
              <a:chExt cx="5205600" cy="431892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2440" y="2601360"/>
                <a:ext cx="1108440" cy="11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33160" y="4932720"/>
                <a:ext cx="1252800" cy="13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3218400"/>
                <a:ext cx="915840" cy="1302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98" name=""/>
              <p:cNvGraphicFramePr/>
              <p:nvPr/>
            </p:nvGraphicFramePr>
            <p:xfrm>
              <a:off x="4599360" y="1916280"/>
              <a:ext cx="2940120" cy="31046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599360" y="1916280"/>
                        <a:ext cx="2940120" cy="3104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53920" y="4726800"/>
                <a:ext cx="1108440" cy="143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" name=""/>
          <p:cNvSpPr/>
          <p:nvPr/>
        </p:nvSpPr>
        <p:spPr>
          <a:xfrm>
            <a:off x="75600" y="2637000"/>
            <a:ext cx="438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Geoff Bowlb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Economist,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Labour Force Surve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Statistics Can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ECE/Eurostat/IL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Seminar on Quality of 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May 12,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Adequate earnings and productive wor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308640"/>
            <a:ext cx="896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400" spc="-1" strike="noStrike">
                <a:solidFill>
                  <a:srgbClr val="dcfffc"/>
                </a:solidFill>
                <a:latin typeface="CG Times (W1)"/>
              </a:rPr>
              <a:t>Sources: 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 (2004), </a:t>
            </a:r>
            <a:r>
              <a:rPr b="1" i="1" lang="en-US" sz="1400" spc="-1" strike="noStrike">
                <a:solidFill>
                  <a:srgbClr val="dcfffc"/>
                </a:solidFill>
                <a:latin typeface="CG Times (W1)"/>
              </a:rPr>
              <a:t>Survey of Work History (1981) – from 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G Times (W1)"/>
                <a:hlinkClick r:id="rId3"/>
              </a:rPr>
              <a:t>Morissette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G Times (W1)"/>
                <a:hlinkClick r:id="rId4"/>
              </a:rPr>
              <a:t> and Picot (2005)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5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44520" y="1916280"/>
          <a:ext cx="8799480" cy="4329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452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96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Adequate earnings and productive wor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205272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272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79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Adequate earnings and productive wor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3 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4520" y="206064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206064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26000" y="2852640"/>
            <a:ext cx="445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Most minimum wage work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in Canada are youths living a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home with their parents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Should the share of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employment at les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than half median wag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be a “decent job” indicator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9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91628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9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96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44520" y="184464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84464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9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9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2 Workplace and Employees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9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Job Stability and Securit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Longitudinal Worker File – from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/>
              </a:rPr>
              <a:t>Morissette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3"/>
              </a:rPr>
              <a:t> (2004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9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Job Stability and Securit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308640"/>
            <a:ext cx="867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6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 </a:t>
            </a:r>
            <a:r>
              <a:rPr b="1" i="1" lang="en-US" sz="1600" spc="-1" strike="noStrike">
                <a:solidFill>
                  <a:srgbClr val="dcfffc"/>
                </a:solidFill>
                <a:latin typeface="CG Times (W1)"/>
              </a:rPr>
              <a:t>– using “non-standard” definition from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G Times (W1)"/>
                <a:hlinkClick r:id="rId3"/>
              </a:rPr>
              <a:t>Krahn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G Times (W1)"/>
                <a:hlinkClick r:id="rId4"/>
              </a:rPr>
              <a:t> (1995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44520" y="1916280"/>
          <a:ext cx="8799480" cy="4329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52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5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o cover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Key sources of data on quality of work in Canada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 review of the data using “decent work” frame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rief overview of survey meth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52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Job Stability and Securit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Job Stability and Securit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2 Workplace and Employe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73360"/>
          <a:ext cx="8799480" cy="454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73360"/>
                    <a:ext cx="879948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Fair treatmen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/>
              </a:rPr>
              <a:t>2002 Ethnic Diversity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1628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Fair treatmen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2 Workplace and Employe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afe work environmen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Association of Worker’s Compensation Boards of Canad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  <p:graphicFrame>
        <p:nvGraphicFramePr>
          <p:cNvPr id="231" name=""/>
          <p:cNvGraphicFramePr/>
          <p:nvPr/>
        </p:nvGraphicFramePr>
        <p:xfrm>
          <a:off x="17928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239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afe work environmen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Association of Worker’s Compensation Boards of Canad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  <p:graphicFrame>
        <p:nvGraphicFramePr>
          <p:cNvPr id="237" name=""/>
          <p:cNvGraphicFramePr/>
          <p:nvPr/>
        </p:nvGraphicFramePr>
        <p:xfrm>
          <a:off x="108000" y="1989000"/>
          <a:ext cx="8799480" cy="44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989000"/>
                    <a:ext cx="8799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ocial Protec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/>
              </a:rPr>
              <a:t>Pension Plans in Canada Survey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and 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916280"/>
          <a:ext cx="8799480" cy="446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6280"/>
                    <a:ext cx="879948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ocial Protec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Employment Insurance Coverag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2052720"/>
          <a:ext cx="8799480" cy="43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272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Combining work and family lif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1998 General Social Survey (Time Us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44520" y="2060640"/>
          <a:ext cx="8799480" cy="43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520" y="206064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Combining work and family lif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1992 and 1998 General Social Survey (Time Us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44520" y="1844640"/>
          <a:ext cx="8799480" cy="454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520" y="1844640"/>
                    <a:ext cx="879948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9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trong labour statistics infrastructure in Canad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cus on quantifying work but significa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ount of data to qualify “work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 surveys or survey framework designed with sole purpose of measuring job quality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 standard that defines quality of work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owever, many data sources that effectively comprise a system that covers major aspects of job quality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526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ocial dialogue and participa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1844640"/>
          <a:ext cx="879948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8799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239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abour Force Survey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 monthly household survey (52,000 household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ulti-stage, stratified sample: dwellings drawn from listing of neighborhoods (clusters) selected for sample from homogeneous geographic strat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sample for six months, 1/6 rotate in/out each mont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verage in south of Canada (10 provinc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s all people 15 and older, except full-time members of regular armed forces, institutional population, people living on Indian Reserv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r more information see: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statcan.ca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orkplace and Employee Survey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nual survey of 20,000+ employees linked to a survey of their employers (6,000+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mple of employers drawn from business registry, list of employees provided to StatsCan for employee surve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ngitudinal: Employees in for 2 years, employers for 8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verage in south of Canada (10 provinc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s all employees and their employers, except in: agriculture, fishing, hunting, trapping, religious organizations, public administra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r more information see: www.statcan.ca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eneral Social Survey (Time use)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 use topic of GSS in 1986, 1992, 1998, 200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,749 respondents in 1998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ndom digit dialing (telephone frame) to gather information collected in diaries given to responden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verage in south of Canada (10 provinc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s all people 15 and older, except institutional populatio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r more information see: www.statcan.c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79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urvey of Labour and Income Dynamic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nual survey of people in 30,000+ household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lected from Labour Force Survey sampl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ngitudinal – 2 panels of 15,000+ households in sample for six consecutive year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verage in south of Canada (10 provinc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s all people 16 and older, except full-time members of regular armed forces, institutional population, people living on Indian Reserv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r more information see: www.statcan.c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ensus of Population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usehold census conducted every five yea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5% of households selected for “long-form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verage in Canada (10 provinces + 3 northern territori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dified de jure population censu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or more information see: www.statcan.c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National Work Injuries Statistics Program:</a:t>
            </a:r>
            <a:endParaRPr b="0" lang="en-US" sz="34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un by Association of Worker’s Compensation Boards of Canad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ata derived from administrative records for time-loss injuries and fatalities accepted by provincially-run Worker’s Compensation boards or commission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t included: minor injuries not reported to a WC board; injuries to the self-employ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52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62200"/>
            <a:ext cx="648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ain sources of data on quality of work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 Force Surve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place and Employee Surve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eneral Social Survey (Time use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rvey of Labour and Income Dynamic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ment Insurance Coverage Surve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ensu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ational Work Injuries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stics Program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500280"/>
            <a:ext cx="4362840" cy="870840"/>
          </a:xfrm>
          <a:custGeom>
            <a:avLst/>
            <a:gdLst>
              <a:gd name="textAreaLeft" fmla="*/ 0 w 4362840"/>
              <a:gd name="textAreaRight" fmla="*/ 1575360 w 4362840"/>
              <a:gd name="textAreaTop" fmla="*/ 22680 h 870840"/>
              <a:gd name="textAreaBottom" fmla="*/ 848160 h 87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fffc"/>
                </a:solidFill>
                <a:latin typeface="CG Times (W1)"/>
              </a:rPr>
              <a:t>Statist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fffc"/>
                </a:solidFill>
                <a:latin typeface="CG Times (W1)"/>
              </a:rPr>
              <a:t>Can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6360" y="278136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6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5159520"/>
            <a:ext cx="3743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CG Times (W1)"/>
              </a:rPr>
              <a:t>Association of Worker’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CG Times (W1)"/>
              </a:rPr>
              <a:t>Compensation Boar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CG Times (W1)"/>
              </a:rPr>
              <a:t>of Can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284720" y="5734080"/>
            <a:ext cx="504720" cy="0"/>
          </a:xfrm>
          <a:prstGeom prst="line">
            <a:avLst/>
          </a:prstGeom>
          <a:ln w="5076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9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1981080"/>
          <a:ext cx="8497800" cy="4621320"/>
        </p:xfrm>
        <a:graphic>
          <a:graphicData uri="http://schemas.openxmlformats.org/drawingml/2006/table">
            <a:tbl>
              <a:tblPr/>
              <a:tblGrid>
                <a:gridCol w="5641920"/>
                <a:gridCol w="285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10 aspects of decent work (ILO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Data source(s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1) Employment opportuni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, Censu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2) Unacceptable work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N/A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3) Adequate earnings and productive work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, SLID, Censu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4) Decent hour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, W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5) Stability and security of work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, W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6) Fair treatmen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W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7) Safe work environmen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NWISP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8) Social protectio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WES, EI Coverag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9) Combining work and family lif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GSS Time Us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10) Social dialogue and participatio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9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Employment Opportunitie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916280"/>
          <a:ext cx="8799480" cy="47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879948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235080" y="6400800"/>
            <a:ext cx="323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5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52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Employment Opportunitie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5800" y="6473880"/>
            <a:ext cx="62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2003 Labour Force Surveys, OECD Factbook 2005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4520" y="1916280"/>
          <a:ext cx="8799480" cy="43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52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239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Employment Opportunitie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920" y="6491160"/>
            <a:ext cx="639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s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1 Census of Population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,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3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8785080" cy="4537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916280"/>
                    <a:ext cx="878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9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Adequate earnings and productive wor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480" y="6491160"/>
            <a:ext cx="3291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2565360"/>
          <a:ext cx="8799480" cy="396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65360"/>
                    <a:ext cx="879948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5480" y="1844640"/>
            <a:ext cx="90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Hourly wages stable, little change in proportion of workers i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low-paid or well-paid jobs in Can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0T13:44:58Z</dcterms:created>
  <dc:creator>Geoff Bowlby</dc:creator>
  <dc:description/>
  <dc:language>en-US</dc:language>
  <cp:lastModifiedBy>Geoff "Data Goober" Bowlby</cp:lastModifiedBy>
  <cp:lastPrinted>2000-04-15T20:44:12Z</cp:lastPrinted>
  <dcterms:modified xsi:type="dcterms:W3CDTF">2005-05-06T21:13:03Z</dcterms:modified>
  <cp:revision>211</cp:revision>
  <dc:subject/>
  <dc:title>Labour Force Survey Module of Employment and Unemployment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3078201</vt:r8>
  </property>
  <property fmtid="{D5CDD505-2E9C-101B-9397-08002B2CF9AE}" pid="3" name="_AuthorEmail">
    <vt:lpwstr>Geoff.Bowlby@a.statcan.ca</vt:lpwstr>
  </property>
  <property fmtid="{D5CDD505-2E9C-101B-9397-08002B2CF9AE}" pid="4" name="_AuthorEmailDisplayName">
    <vt:lpwstr>Bowlby, Geoff - LSD/DST</vt:lpwstr>
  </property>
  <property fmtid="{D5CDD505-2E9C-101B-9397-08002B2CF9AE}" pid="5" name="_EmailSubject">
    <vt:lpwstr>Conference on Quality of Work</vt:lpwstr>
  </property>
</Properties>
</file>