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F4B-43A9-41E7-B8E9-CD28FF28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1EA-30A4-40AF-9E43-C8AE7DC1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A36-3CE3-4CBB-93A5-49F9B1A6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1C8-A1B9-4D42-B858-02041D77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9103-C290-42E9-B942-DD86B46A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E35B-AC41-4A5D-9903-905D3B59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2973-55BA-47BB-A456-56D2FD8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EDCC-5325-4914-AA62-26796716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576-4E01-413C-A8C5-9C643EFA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5F0D-37B7-47F8-8589-78539A5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50E5-6806-4ADA-AEB5-2145E4C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561-268E-4A1E-8F8D-06FDBC2B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315B-44A6-4ECE-AC4A-D9B9A3E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3748-5985-4726-AEE3-4BCABA8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042-210F-4C1B-B3CE-7C0B0822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A606-1E4F-4AC8-BD21-555DFCEF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FE3E-9D59-46ED-8B52-06271403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D94-2DF6-4B5C-B9C2-699547B8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B2C-66C9-47F3-9395-AD9B67BC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756-7319-47C6-8C65-60EA1138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C7D-65E9-43E1-920D-5C43C8A1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355-09E8-43CB-95D1-A623303F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B33-85CA-4D15-B4D9-4E77649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C28-0E82-42CC-BA0B-2A68CE5A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0F30-6C16-47C3-8A3F-B64B12F30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CD2-51BB-4A03-841B-A5DDB187B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ffff00"/>
                </a:solidFill>
                <a:latin typeface="Arial"/>
              </a:rPr>
              <a:t>Quality in 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00"/>
                </a:solidFill>
                <a:latin typeface="Arial"/>
              </a:rPr>
              <a:t>Dimensions and indicators in the 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3960" y="468360"/>
            <a:ext cx="8193240" cy="60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jor differences between Member Sta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perform well under most quality indic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, the Netherlands, Sweden and A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4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thers display consistently less favorable performance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aly, Greece, Spain and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t are mix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gium, France, Germany, Finland, Luxemburg, UK and Ir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4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3960" y="468360"/>
            <a:ext cx="819324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 quality performers (DK, NL, SE, AT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employment ra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share of permanent contra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collective agreement covera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 average GDP per hour work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4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549360"/>
            <a:ext cx="819288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s favourable performers (IT, EL, ES, PT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self registered job satisfactio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share of fixed term contra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participation of adults in education/train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t good gender unemployment ga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t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rage (EL and ES) above average (PT) older work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ment ra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performance unemployed to employed (PT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sonable accident statistics (E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3960" y="468360"/>
            <a:ext cx="819324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all assess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, if uneven, is evident 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ducation and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mployment gender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ransitions from unemployment to 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lexibility and share of part-time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Overall ass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There is scope for considerable improvement in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employment rate for older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gender pay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reducing segmentation in the labour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better work-lif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integration of immigrants and disable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health and safety a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Overall ass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determined policy action is nee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-  in reinforcing prevention and activation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in reducing unemployment an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partners must have strong involvement and comm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5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9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Ba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isbon and Nice Councils: key priority for 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tockholm Summit (March 2001): list of criteria for quality in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OM(2001)313: "Employment and social policies: a framework for investing in quality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EMCO indicators list: Laeken (Nov 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OM(2003)728:" Improving quality in work: a review of recent progress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00"/>
                </a:solidFill>
                <a:latin typeface="Arial"/>
              </a:rPr>
              <a:t>Central issue in employment and social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Quality in work: guiding principle of Social policy 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ne of the three overarching objectives in the Employment Guidelines 2003-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00"/>
                </a:solidFill>
                <a:latin typeface="Arial"/>
              </a:rPr>
              <a:t>The 10 dimensions and main indicators agreed in 200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rinsic job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.: Transitions between non-employment and within em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kills, lifelong learning and career develop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.: % of working age population participating in education and 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Gender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: Ratio of women's hourly earnings index to men's for paid employees at work 15+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The 10 dimensions :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4. Health and safety at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: Evolution of the incident rate (number of accidents at work per 100.000 persons in em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5. Flexibilit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: % of employes working part-time and those with fixed-term 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6. Inclusion and access to the labou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.: Transitions between employment, unemployment and in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The 10 dimensions :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7.Work organisation and work-life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.: Absolute difference in employment rates without the presence of any children and with the presence of a child aged 0-6, by s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00"/>
                </a:solidFill>
                <a:latin typeface="Arial"/>
              </a:rPr>
              <a:t>8. </a:t>
            </a: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Social dialogue and worker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(no agreed indicator so f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The 10 dimensions: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00"/>
                </a:solidFill>
                <a:latin typeface="Arial"/>
              </a:rPr>
              <a:t>9. Diversity and non-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Only context indicators: employment and/or unemployments gaps of 55-64 old, immigrants, disabled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00"/>
                </a:solidFill>
                <a:latin typeface="Arial"/>
              </a:rPr>
              <a:t>10. Overal work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.: Growth in labour productivity, measured as chage in the levels of GDP per capita of the employed population and per hour worked (in %)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6960" y="468360"/>
            <a:ext cx="7803000" cy="4579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mployment grow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↔ quality in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ainable employment growth needs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balance between flexibility and secur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opportunities for upwards mobility for low quality job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upwards quality dynamics for more employ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ity and employ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00200" y="468360"/>
            <a:ext cx="7381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tivit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↔ quality in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er productivity comes from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work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working condi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quality investment in human capit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and effective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9:46:03Z</dcterms:created>
  <dc:creator>Lozanes</dc:creator>
  <dc:description/>
  <dc:language>en-US</dc:language>
  <cp:lastModifiedBy>Lozanes</cp:lastModifiedBy>
  <dcterms:modified xsi:type="dcterms:W3CDTF">2005-04-22T15:48:09Z</dcterms:modified>
  <cp:revision>4</cp:revision>
  <dc:subject/>
  <dc:title>Slide 1</dc:title>
</cp:coreProperties>
</file>