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D3D-DE96-4EB0-A42C-E7CDDCF6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388-14F7-4BD5-B6B8-876377E7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A03-A4DA-40ED-9373-F9921B5D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C56-1FA4-4F3E-BFDA-E5E823BB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2C0A-92D1-4565-9498-A535559A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C13C-B955-4427-81D6-17C9C1E9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E005-A87B-460B-A519-39643D71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CCC9-507C-41EE-BC3F-9E0AC3F8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39C0-AA5E-44A0-8D91-C3C3046E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B56F-0235-48FF-A4C3-86ADD906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6054-349F-4A2C-BFD2-822D451C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9B5-5DEE-4A5C-B2CB-59AF29DD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28A5-6706-41A5-BC66-66964371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D3BA-CF3D-499C-B69E-F594B11C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C320-9B65-4D84-AF17-3669618F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5BA1-F518-46B8-B850-12955B3A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B659-11A9-4EEB-9D58-045EC719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7D5-2EBD-475B-82E1-96AC4301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834-5945-4874-843A-39BB075F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8AC-CFFB-4BE9-9E81-4E32F98D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A53-E906-4805-AB6C-1F889268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D9E-E1ED-487F-8E1F-AD60FF1C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E5B-F679-4DD0-8157-521260E5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58F-9760-49D1-B9CF-15F10332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4A72-ACFF-4716-9CDD-279E7A2D9A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BA9B-EBCF-4A96-892D-12CC907E24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ffff00"/>
                </a:solidFill>
                <a:latin typeface="Arial"/>
              </a:rPr>
              <a:t>Quality in 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00"/>
                </a:solidFill>
                <a:latin typeface="Arial"/>
              </a:rPr>
              <a:t>Dimensions and indicators in the E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3960" y="468360"/>
            <a:ext cx="8193240" cy="60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jor differences between Member Sta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perform well under most quality indic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mark, the Netherlands, Sweden and Aust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4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others display consistently less favorable performance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aly, Greece, Spain and Portu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st are mix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gium, France, Germany, Finland, Luxemburg, UK and Ire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4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3960" y="468360"/>
            <a:ext cx="8193240" cy="54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st quality performers (DK, NL, SE, AT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employment rat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share of permanent contrac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collective agreement coverag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ve average GDP per hour work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4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4360" y="549360"/>
            <a:ext cx="819288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s favourable performers (IT, EL, ES, PT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self registered job satisfactio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share of fixed term contrac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participation of adults in education/train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t good gender unemployment gap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t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erage (EL and ES) above average (PT) older worke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ment rat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performance unemployed to employed (PT)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sonable accident statistics (E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3960" y="468360"/>
            <a:ext cx="819324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all assess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, if uneven, is evident 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8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ducation and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8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mployment gender g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8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ransitions from unemployment to em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8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lexibility and share of part-time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Arial"/>
              </a:rPr>
              <a:t>Overall asses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There is scope for considerable improvement in</a:t>
            </a: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employment rate for older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gender pay g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reducing segmentation in the labour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better work-lif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integration of immigrants and disable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health and safety a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Arial"/>
              </a:rPr>
              <a:t>Overall asses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determined policy action is nee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-  in reinforcing prevention and activation poli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-  in reducing unemployment and pov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partners must have strong involvement and comm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5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97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00"/>
                </a:solidFill>
                <a:latin typeface="Arial"/>
              </a:rPr>
              <a:t>Ba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Lisbon and Nice Councils: key priority for 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tockholm Summit (March 2001): list of criteria for quality in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COM(2001)313: "Employment and social policies: a framework for investing in quality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EMCO indicators list: Laeken (Nov 2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COM(2003)728:" Improving quality in work: a review of recent progress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00"/>
                </a:solidFill>
                <a:latin typeface="Arial"/>
              </a:rPr>
              <a:t>Central issue in employment and social poli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Quality in work: guiding principle of Social policy 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One of the three overarching objectives in the Employment Guidelines 2003-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00"/>
                </a:solidFill>
                <a:latin typeface="Arial"/>
              </a:rPr>
              <a:t>The 10 dimensions and main indicators agreed in 200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rinsic job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.: Transitions between non-employment and within emplo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kills, lifelong learning and career develop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.: % of working age population participating in education and 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Gender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Ind: Ratio of women's hourly earnings index to men's for paid employees at work 15+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00"/>
                </a:solidFill>
                <a:latin typeface="Arial"/>
              </a:rPr>
              <a:t>The 10 dimensions :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4. Health and safety at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Ind: Evolution of the incident rate (number of accidents at work per 100.000 persons in emplo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5. Flexibility an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Ind: % of employes working part-time and those with fixed-term contr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6. Inclusion and access to the labou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Ind.: Transitions between employment, unemployment and in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00"/>
                </a:solidFill>
                <a:latin typeface="Arial"/>
              </a:rPr>
              <a:t>The 10 dimensions :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7.Work organisation and work-life 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Ind.: Absolute difference in employment rates without the presence of any children and with the presence of a child aged 0-6, by s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00"/>
                </a:solidFill>
                <a:latin typeface="Arial"/>
              </a:rPr>
              <a:t>8. </a:t>
            </a:r>
            <a:r>
              <a:rPr b="0" lang="fr-BE" sz="2800" spc="-1" strike="noStrike">
                <a:solidFill>
                  <a:srgbClr val="ffff00"/>
                </a:solidFill>
                <a:latin typeface="Arial"/>
              </a:rPr>
              <a:t>Social dialogue and worker invol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(no agreed indicator so f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00"/>
                </a:solidFill>
                <a:latin typeface="Arial"/>
              </a:rPr>
              <a:t>The 10 dimensions: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00"/>
                </a:solidFill>
                <a:latin typeface="Arial"/>
              </a:rPr>
              <a:t>9. Diversity and non-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Only context indicators: employment and/or unemployments gaps of 55-64 old, immigrants, disabled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00"/>
                </a:solidFill>
                <a:latin typeface="Arial"/>
              </a:rPr>
              <a:t>10. Overal work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Ind.: Growth in labour productivity, measured as chage in the levels of GDP per capita of the employed population and per hour worked (in %)</a:t>
            </a: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96960" y="468360"/>
            <a:ext cx="7803000" cy="4579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mployment grow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↔ quality in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ainable employment growth needs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balance between flexibility and securi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opportunities for upwards mobility for low quality job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upwards quality dynamics for more employ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ity and employ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00200" y="468360"/>
            <a:ext cx="73818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ductivit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↔ quality in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gher productivity comes from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work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working condi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quality investment in human capit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and effective trai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9:46:03Z</dcterms:created>
  <dc:creator>Lozanes</dc:creator>
  <dc:description/>
  <dc:language>en-US</dc:language>
  <cp:lastModifiedBy>Lozanes</cp:lastModifiedBy>
  <dcterms:modified xsi:type="dcterms:W3CDTF">2005-04-22T15:48:09Z</dcterms:modified>
  <cp:revision>4</cp:revision>
  <dc:subject/>
  <dc:title>Slide 1</dc:title>
</cp:coreProperties>
</file>